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45E-E643-4296-B7C7-315352E7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043-4281-4EB4-AB59-EEE1238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1C0-9751-4174-BD21-53DF98E2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868-575B-4408-AC54-85DA20A1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777-C748-4B2B-8299-CC0B32F1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832-AF86-4FDA-91F4-87BE1AC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76B-0BD4-49E4-AB71-F453E719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77F-E7A5-4FB4-9FAB-4878E247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2B3-9067-4E23-AD34-F242343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667-D021-4DB1-BCDC-E0D2A7FE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CC3-FB22-4718-A718-6732ECE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B8B-3DF6-4348-84A9-2D3A949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CC8D-BED0-493A-A96C-613B915B1D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logo_CMS_color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1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CAPACITACIÓN 1  Aprender a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NEMIGOS D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ceguera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“No sabemos que no sabe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miedo a declarar igno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vergüenza de mostrar incompetencia (miedo al ridículo de las primeras accio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iderarse victima (factores exter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orgullo (no querer pedir ay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arrogancia (pretender que ya se al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ereza (floj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impaciencia y el aburrimiento (querer aprender al mínimo esfuer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sconfianza de mi capacidad para aprender o en el m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APRENDIZAJE DE H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Formas usuales de apr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urrencia ... aprendizaje por repetición de pr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-deriva ... aprendizaje por acompañar a un experto o entrenamiento en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sión  y ex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APRENDER 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539640" y="1557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a secu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446640" y="2205000"/>
            <a:ext cx="121896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eclarar espacios de aprendiz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534816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iseño de nuevas práctic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25328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Poner en marcha las prácticas diseñ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306072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167360" y="4508640"/>
            <a:ext cx="167616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Evaluar result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8777160" y="306072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21920" y="5373720"/>
            <a:ext cx="374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5805000" y="534672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2843280" y="306864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6567480" y="30607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143000" y="2205000"/>
            <a:ext cx="167652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servar insatisfacciones, anomalías y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670280" y="306864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8459640" y="306864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95280" y="306864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OMO MOV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39640" y="126828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Hacer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trenar a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In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involucrarse en dominios donde se requ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dir ayuda a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rmar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sarrollarlas ... Evaluando si es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332000" y="380880"/>
            <a:ext cx="7561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QUE SE ESPERA DE LOS 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1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39640" y="1486080"/>
            <a:ext cx="83534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pregunten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declaren igno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Tal vez no en forma explicita pero si a través de la 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sientan “Empresar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l termino microempresario establece bar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Son empresarios de micro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empre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inn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LA BASE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hombres nacen suaves y flexibles. </a:t>
            </a:r>
            <a:br>
              <a:rPr sz="2400"/>
            </a:b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n la muerte son rígidos y duros. Las plantas nacen tiernas y dóciles. En la muerte son secas y quebradizas. Entonces, cualquiera que sea rígido e inflexible es un discípulo de la muerte. Cualquiera que sea suave, abierto y flexible es un discípul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oTse, Tao T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sarrollar capacidad de acción efectiva en algún dominio (transformación de acciones inefectivas en acciones efec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 primero es identificar una situación insatisfa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odo proceso de aprendizaje es un proces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332000" y="299736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guera cognitiva: No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 es posibl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ctúan como si supieran en dominios donde no 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salir de ella es necesaria la intervención externa o experimentar un quie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8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Ignorancia: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se puede aprender o pedir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ay 3 formas en que puede actuar el igno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Saber: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Ceguera al Saber: No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actúa eficientemente pero no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hacer 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Saber que exist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gnorancia en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nterés en aprender y darme permiso para cometer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scar un profesor (o institución) que sea adecuado según estándares establecidos por una comunidad y pedirle que nos enseñe. Negociar l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arle autoridad al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acticar, practicar, practicar, con super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rre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ETAPAS DEL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gno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incipiante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aprendizajes independiente del con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prendiz adelantado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puede desarrollar mínima competencia, todavía no pude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mpetente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experiencia en situaciones reales, pero no puede reaccionar ante situaciones inespe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xpert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sabe que hacer, la acción es intuitiva, actúa sin pen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Maestr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establece nuevos estándares, mantienen espíritu de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80880"/>
            <a:ext cx="73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ATALIZADORES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cir “no s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Saber pedir ay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pertura a nuevas formas de actuar y v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erseverante en la realización de prác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Estado de ánimo de maravillamiento, ambición (sana) y deseos de s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ceptar los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7-08-13T15:46:50Z</dcterms:modified>
  <cp:revision>428</cp:revision>
  <dc:subject/>
  <dc:title>Presentación de PowerPoint</dc:title>
</cp:coreProperties>
</file>