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8924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89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98440" y="669960"/>
            <a:ext cx="4461120" cy="334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238280"/>
            <a:ext cx="5486400" cy="40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47692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47692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C4DAA-B50F-4F61-B89D-36F684F986EC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98440" y="669960"/>
            <a:ext cx="4461120" cy="33465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238280"/>
            <a:ext cx="5486400" cy="40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3 Marcador de número de diapositiva"/>
          <p:cNvSpPr/>
          <p:nvPr/>
        </p:nvSpPr>
        <p:spPr>
          <a:xfrm>
            <a:off x="3884760" y="8477280"/>
            <a:ext cx="2971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E0B3C-574A-472C-836E-DAFC39CD18B6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98440" y="669960"/>
            <a:ext cx="4461120" cy="33465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238280"/>
            <a:ext cx="5486400" cy="40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3 Marcador de número de diapositiva"/>
          <p:cNvSpPr/>
          <p:nvPr/>
        </p:nvSpPr>
        <p:spPr>
          <a:xfrm>
            <a:off x="3884760" y="8477280"/>
            <a:ext cx="2971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DE785-C2D7-47DE-9B30-87CA37C62CEF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98440" y="669960"/>
            <a:ext cx="4461120" cy="33465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238280"/>
            <a:ext cx="5486400" cy="40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3 Marcador de número de diapositiva"/>
          <p:cNvSpPr/>
          <p:nvPr/>
        </p:nvSpPr>
        <p:spPr>
          <a:xfrm>
            <a:off x="3884760" y="8477280"/>
            <a:ext cx="2971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0D19C-134F-46A2-A21F-198AF2854C0B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98440" y="669960"/>
            <a:ext cx="4461120" cy="33465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238280"/>
            <a:ext cx="5486400" cy="40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3 Marcador de número de diapositiva"/>
          <p:cNvSpPr/>
          <p:nvPr/>
        </p:nvSpPr>
        <p:spPr>
          <a:xfrm>
            <a:off x="3884760" y="8477280"/>
            <a:ext cx="2971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FD083-4565-4268-9955-AE51205F6502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CDE7-9720-4772-A375-7CCADF652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184E-CE0A-4097-81AF-34BA0AA52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49EE-2FB2-4103-A2FD-D817D2569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422B-9364-4EAA-866D-1951C9396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B6D99-B98C-467B-ADB2-A343879FF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0DF1B-6C21-4F02-8719-8D46AB0D4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4087E-0803-497E-81F2-5AC011BB3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AFA93-5331-414D-896E-D4D22B6F8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89526-2707-4A67-8F6C-F57E1E577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91DF9-5201-4717-A71A-4DB36CB38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22340-EAAD-4D8C-9B77-E710F721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9A7F-FEAE-4AE5-B673-E3D23D115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690C3-B49F-41B0-8492-E9C25036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DDE2A-13B8-46D3-A167-794EE568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9319C-DFB6-41E4-A94F-540F91435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5B378-D9AF-461F-B7D7-57C9FD69D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F3AE6-F056-4E8B-A124-E6403749C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FDCC-8D8C-4D8B-9193-F6DC7FCA1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8203-0C32-4D28-B6DC-BADC974EB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29A4-D038-40A9-B699-AA1013809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E1F3-4C28-4EDB-82EB-E8AF376BE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5518-DBC2-4FEA-812D-74911B6D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78F7-A526-4A2E-B7E5-9F3C5474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52D7-0A33-4065-AB57-8D14A336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57EF7-E1D1-42A0-808E-B0C4347E31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logo_CMS_color"/>
          <p:cNvPicPr/>
          <p:nvPr/>
        </p:nvPicPr>
        <p:blipFill>
          <a:blip r:embed="rId2"/>
          <a:stretch/>
        </p:blipFill>
        <p:spPr>
          <a:xfrm>
            <a:off x="71280" y="214200"/>
            <a:ext cx="1857600" cy="1094040"/>
          </a:xfrm>
          <a:prstGeom prst="rect">
            <a:avLst/>
          </a:prstGeom>
          <a:ln w="0">
            <a:noFill/>
          </a:ln>
        </p:spPr>
      </p:pic>
      <p:sp>
        <p:nvSpPr>
          <p:cNvPr id="42" name="7 Conector recto"/>
          <p:cNvSpPr/>
          <p:nvPr/>
        </p:nvSpPr>
        <p:spPr>
          <a:xfrm>
            <a:off x="2000160" y="1285920"/>
            <a:ext cx="6715080" cy="1440"/>
          </a:xfrm>
          <a:prstGeom prst="line">
            <a:avLst/>
          </a:prstGeom>
          <a:ln w="1908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B0634-3BA5-40E9-9A8B-92D52F205B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4" descr="logo_CMS_color"/>
          <p:cNvPicPr/>
          <p:nvPr/>
        </p:nvPicPr>
        <p:blipFill>
          <a:blip r:embed="rId1"/>
          <a:stretch/>
        </p:blipFill>
        <p:spPr>
          <a:xfrm>
            <a:off x="2928960" y="4143240"/>
            <a:ext cx="3024000" cy="1776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51"/>
          <p:cNvSpPr/>
          <p:nvPr/>
        </p:nvSpPr>
        <p:spPr>
          <a:xfrm>
            <a:off x="539640" y="1928880"/>
            <a:ext cx="8326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PRIMERA CAPACI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Datos de la Microempre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2071800" y="571680"/>
            <a:ext cx="667692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rebuchet MS"/>
              </a:rPr>
              <a:t>DATOS- Suel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539640" y="1557360"/>
            <a:ext cx="835344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Según la ultima encuesta Cas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El 25% de los microempresarios dice vivir con menos de 1 sueldo mín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El 56% de los microempresarios gana entre 1 y 2 sueldos mínim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Nivel de pobrez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El 3,2% son catalogados como indig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El 12,1% como pob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5516640"/>
            <a:ext cx="5400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3"/>
          <p:cNvSpPr/>
          <p:nvPr/>
        </p:nvSpPr>
        <p:spPr>
          <a:xfrm>
            <a:off x="324000" y="5300640"/>
            <a:ext cx="3671640" cy="12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Línea de indigencia (3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U: $23.5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R: $18.1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3"/>
          <p:cNvSpPr/>
          <p:nvPr/>
        </p:nvSpPr>
        <p:spPr>
          <a:xfrm>
            <a:off x="4213080" y="5300640"/>
            <a:ext cx="3743640" cy="12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Línea de la pobreza (13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U: $47.0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R: $37.7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2071800" y="571680"/>
            <a:ext cx="667692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rebuchet MS"/>
              </a:rPr>
              <a:t>DATOS- Sistema Financi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1000080" y="1785960"/>
            <a:ext cx="7000920" cy="4551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34" descr="logo_CMS_color"/>
          <p:cNvPicPr/>
          <p:nvPr/>
        </p:nvPicPr>
        <p:blipFill>
          <a:blip r:embed="rId1"/>
          <a:stretch/>
        </p:blipFill>
        <p:spPr>
          <a:xfrm>
            <a:off x="3119400" y="4643280"/>
            <a:ext cx="3024360" cy="17766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51"/>
          <p:cNvSpPr/>
          <p:nvPr/>
        </p:nvSpPr>
        <p:spPr>
          <a:xfrm>
            <a:off x="539640" y="1928880"/>
            <a:ext cx="8326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PRIMERA CAPACI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¿Cómo hacer la primera Capacitació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2071800" y="571680"/>
            <a:ext cx="657216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rebuchet MS"/>
              </a:rPr>
              <a:t>RESPUES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8"/>
          <p:cNvSpPr/>
          <p:nvPr/>
        </p:nvSpPr>
        <p:spPr>
          <a:xfrm>
            <a:off x="539640" y="1557360"/>
            <a:ext cx="835344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99"/>
                </a:solidFill>
                <a:latin typeface="Trebuchet MS"/>
              </a:rPr>
              <a:t>Depen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MX" sz="2400" spc="-1" strike="noStrike">
                <a:solidFill>
                  <a:srgbClr val="003399"/>
                </a:solidFill>
                <a:latin typeface="Trebuchet MS"/>
              </a:rPr>
              <a:t>Los integrantes de cada gru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Los facilit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El material disponible y conten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Los objetivos del gru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Los objetivos del equipo doc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etc.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9"/>
          <p:cNvSpPr/>
          <p:nvPr/>
        </p:nvSpPr>
        <p:spPr>
          <a:xfrm>
            <a:off x="1763640" y="4941720"/>
            <a:ext cx="2160720" cy="576360"/>
          </a:xfrm>
          <a:prstGeom prst="rightArrow">
            <a:avLst>
              <a:gd name="adj1" fmla="val 50000"/>
              <a:gd name="adj2" fmla="val 93723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0"/>
          <p:cNvSpPr/>
          <p:nvPr/>
        </p:nvSpPr>
        <p:spPr>
          <a:xfrm>
            <a:off x="4284720" y="4724280"/>
            <a:ext cx="259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O EXISTE UNA MANERA UNICA DE REALIZAR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1908000" y="571680"/>
            <a:ext cx="684072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rebuchet MS"/>
              </a:rPr>
              <a:t>HERRAMIENTA  METODOLOG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3"/>
          <p:cNvSpPr/>
          <p:nvPr/>
        </p:nvSpPr>
        <p:spPr>
          <a:xfrm>
            <a:off x="539640" y="1557360"/>
            <a:ext cx="835344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99"/>
                </a:solidFill>
                <a:latin typeface="Trebuchet MS"/>
              </a:rPr>
              <a:t>Se les entrega a todos los grupos una carpeta que contie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Contenidos y objetivos de la cl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Diseño en detalle de cada capaci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Pauta de apoyo al diseño de la cl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Reporte de cáted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Asist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2071800" y="536400"/>
            <a:ext cx="664344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ELEMENTOS INDISPENS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8"/>
          <p:cNvSpPr/>
          <p:nvPr/>
        </p:nvSpPr>
        <p:spPr>
          <a:xfrm>
            <a:off x="539640" y="1557360"/>
            <a:ext cx="8353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Pasar desde lo escrito en la carpeta a la Cancha impl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Estar muy bien presen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Usar Lenguaje simple, pero formal (reconocer lo antes posible el lenguaje de los empresari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Buen manejo de los tiemp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Definir el meollo de la exposi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Recibir feed-back (Facilitadores y compañeros de grup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2071800" y="571680"/>
            <a:ext cx="657216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ELEMENTOS INDISPENS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3"/>
          <p:cNvSpPr/>
          <p:nvPr/>
        </p:nvSpPr>
        <p:spPr>
          <a:xfrm>
            <a:off x="539640" y="1557360"/>
            <a:ext cx="8353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Ponerse en disposición para serv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Prepararse y Prepara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rebuchet MS"/>
              </a:rPr>
              <a:t>Estudi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rebuchet MS"/>
              </a:rPr>
              <a:t>Conocer las funciones de cada u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rebuchet MS"/>
              </a:rPr>
              <a:t>Conocer el Contex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rebuchet MS"/>
              </a:rPr>
              <a:t>Cuidado mutu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rebuchet MS"/>
              </a:rPr>
              <a:t>Estar atento ante cualquier requerimiento, en especial del expositor</a:t>
            </a: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 y de los empresari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Transpar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rebuchet MS"/>
              </a:rPr>
              <a:t>En los compromi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rebuchet MS"/>
              </a:rPr>
              <a:t>En la entrega de la capaci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2000160" y="536400"/>
            <a:ext cx="664380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ELEMENTOS INDISPENS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500040" y="1571760"/>
            <a:ext cx="842472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Lob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rebuchet MS"/>
              </a:rPr>
              <a:t>Conversar y generar confianza con los encargados del Cent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rebuchet MS"/>
              </a:rPr>
              <a:t>Preguntar el nombre de cualquier pers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Cercan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rebuchet MS"/>
              </a:rPr>
              <a:t>Mezclarse entre los empresarios, estar con ellos, hacerlos partícipes del cu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Coffee break compart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rebuchet MS"/>
              </a:rPr>
              <a:t>Desde servirlo hasta compartir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2000160" y="571680"/>
            <a:ext cx="671508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QUIEBRES RECURRE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3"/>
          <p:cNvSpPr/>
          <p:nvPr/>
        </p:nvSpPr>
        <p:spPr>
          <a:xfrm>
            <a:off x="428760" y="1606680"/>
            <a:ext cx="842472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Trebuchet MS"/>
              </a:rPr>
              <a:t>Los Microempresarios piensan que van a recibir otro tipo de capaci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Explicar en que consiste el programa CMS y sus objetiv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Trebuchet MS"/>
              </a:rPr>
              <a:t>Algunos Microempresarios no llegan a la h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Exigir hora para comenzar, conversar con ellos (hacerlos entender), comenzar más tar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Trebuchet MS"/>
              </a:rPr>
              <a:t>Las salas no son de la calidad espera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Tienen goteras, no siempre están todas las sillas, no siempre hay m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No siempre hay medios audiovisuales</a:t>
            </a:r>
            <a:r>
              <a:rPr b="1" lang="es-MX" sz="2000" spc="-1" strike="noStrike">
                <a:solidFill>
                  <a:srgbClr val="003399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2071800" y="536400"/>
            <a:ext cx="657216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QUIEBRES RECURRE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3"/>
          <p:cNvSpPr/>
          <p:nvPr/>
        </p:nvSpPr>
        <p:spPr>
          <a:xfrm>
            <a:off x="500040" y="1606680"/>
            <a:ext cx="842472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Trebuchet MS"/>
              </a:rPr>
              <a:t>Hay microempresarios “lideres” que se toman la palab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Tener control sobre al conversación, interrumpir sutilmente, dando la palabra a otro o continuando la cl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Trebuchet MS"/>
              </a:rPr>
              <a:t>Hay microempresarios que no saben leer ni escrib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Hacer clase interac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Ayudarlos a completar los ejerci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Trebuchet MS"/>
              </a:rPr>
              <a:t>Se desautorizan entre el equipo (Ej:“No te equivocaste eso no es así,…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Prepararse bien para no cometer err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Nunca hacerlo…buscar una manera alternativa de decir después que hubo un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2071800" y="571680"/>
            <a:ext cx="664344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QUÉ ES UNA MICROEMPRE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500040" y="1643040"/>
          <a:ext cx="8358120" cy="4640400"/>
        </p:xfrm>
        <a:graphic>
          <a:graphicData uri="http://schemas.openxmlformats.org/drawingml/2006/table">
            <a:tbl>
              <a:tblPr/>
              <a:tblGrid>
                <a:gridCol w="1566720"/>
                <a:gridCol w="3284640"/>
                <a:gridCol w="3506760"/>
              </a:tblGrid>
              <a:tr h="63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AMAÑ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NTAS ANUALES EN U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NTAS ANUALS EN 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00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Mic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os de 2.400 UF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os de $ 50.000.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00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Pequeñ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 2.400 y  25.000 UF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  $50.000.00 y $500.000.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100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Media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 25.000 y 100.000 UF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 $500.000.001 y $2000.000.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00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Gran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ás de 100.000 UF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ás de $2000.000.0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3203640" y="6381720"/>
            <a:ext cx="55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UF: $2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2071800" y="536400"/>
            <a:ext cx="664344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QUIEBRES RECURRE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428760" y="1606680"/>
            <a:ext cx="842472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Trebuchet MS"/>
              </a:rPr>
              <a:t>Hay microempresarios que tiene muchos problemas personales, comienzan a hablar de su vida y se emocion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Tener ojo con los temas que se tratan en el curso. Si bien se hace trabajo de conocimiento personal, Háganlo superficial, no se involucren demasi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Trebuchet MS"/>
              </a:rPr>
              <a:t>Los microempresarios hablan mucho y desvían la convers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No permitan que la conversación se les salga de rumbo, ustedes manejan la clase no los microempresarios. Recuerden que todo se hace sutil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2071800" y="571680"/>
            <a:ext cx="664344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TRAMOS DE LA MICROEMPRE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28760" y="1785960"/>
          <a:ext cx="8358120" cy="3639960"/>
        </p:xfrm>
        <a:graphic>
          <a:graphicData uri="http://schemas.openxmlformats.org/drawingml/2006/table">
            <a:tbl>
              <a:tblPr/>
              <a:tblGrid>
                <a:gridCol w="1566720"/>
                <a:gridCol w="3284640"/>
                <a:gridCol w="3506760"/>
              </a:tblGrid>
              <a:tr h="63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AMAÑ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NTAS ANUALES EN U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NTAS ANUALS EN 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00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amo 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os de 200 UF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os de $ 4.000.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00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amo 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 200 y 600 UF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  $4.000.000 y $12.000.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100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amo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 600 y 2.400 UF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 $12.000.000 y $50.000.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3203640" y="6381720"/>
            <a:ext cx="55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UF: $2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2071800" y="571680"/>
            <a:ext cx="667692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rebuchet MS"/>
              </a:rPr>
              <a:t>DA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3"/>
          <p:cNvSpPr/>
          <p:nvPr/>
        </p:nvSpPr>
        <p:spPr>
          <a:xfrm>
            <a:off x="539640" y="1557360"/>
            <a:ext cx="835344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Existían  más de 700.000 empresas formales en Chile, de las cua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81% son microempre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ES" sz="20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ES" sz="2000" spc="-1" strike="noStrike">
                <a:solidFill>
                  <a:srgbClr val="003399"/>
                </a:solidFill>
                <a:latin typeface="Trebuchet MS"/>
              </a:rPr>
              <a:t>Tramo 1: 4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ES" sz="20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ES" sz="2000" spc="-1" strike="noStrike">
                <a:solidFill>
                  <a:srgbClr val="003399"/>
                </a:solidFill>
                <a:latin typeface="Trebuchet MS"/>
              </a:rPr>
              <a:t>Tramo 2: 2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ES" sz="20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ES" sz="2000" spc="-1" strike="noStrike">
                <a:solidFill>
                  <a:srgbClr val="003399"/>
                </a:solidFill>
                <a:latin typeface="Trebuchet MS"/>
              </a:rPr>
              <a:t>Tramo 3: 28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16% son pequeñ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24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Además deben incluirse unas 750.000 de carácter inf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62626"/>
                </a:solidFill>
                <a:latin typeface="Trebuchet MS"/>
              </a:rPr>
              <a:t>Existen más de 1.400.000 microempresas en Chile (1 por cada 12 habitan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85840" y="5418000"/>
            <a:ext cx="835344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2071800" y="571680"/>
            <a:ext cx="667692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000"/>
              </a:spcBef>
              <a:spcAft>
                <a:spcPts val="4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rebuchet MS"/>
              </a:rPr>
              <a:t>DISTRIBUCIÓN SECTORIAL AL 20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"/>
          <p:cNvSpPr/>
          <p:nvPr/>
        </p:nvSpPr>
        <p:spPr>
          <a:xfrm>
            <a:off x="4481640" y="-534240"/>
            <a:ext cx="1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571680" y="1357200"/>
            <a:ext cx="7572240" cy="4508640"/>
          </a:xfrm>
          <a:prstGeom prst="rect">
            <a:avLst/>
          </a:prstGeom>
          <a:ln w="0">
            <a:noFill/>
          </a:ln>
        </p:spPr>
      </p:pic>
      <p:sp>
        <p:nvSpPr>
          <p:cNvPr id="105" name="4 CuadroTexto"/>
          <p:cNvSpPr/>
          <p:nvPr/>
        </p:nvSpPr>
        <p:spPr>
          <a:xfrm>
            <a:off x="214200" y="5832360"/>
            <a:ext cx="8929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Comercio: Almacenes de barrio, bazares, pequeñas tiendas de ropa, puestos de diario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Servicios: administración de propiedades (mantención gas, agua, electricidad, servicios entretenció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"/>
          <p:cNvSpPr/>
          <p:nvPr/>
        </p:nvSpPr>
        <p:spPr>
          <a:xfrm>
            <a:off x="4481640" y="-534240"/>
            <a:ext cx="1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68400" y="1500120"/>
            <a:ext cx="9004320" cy="53578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2"/>
          <p:cNvSpPr/>
          <p:nvPr/>
        </p:nvSpPr>
        <p:spPr>
          <a:xfrm>
            <a:off x="1908000" y="571680"/>
            <a:ext cx="695016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2999"/>
              </a:spcBef>
              <a:spcAft>
                <a:spcPts val="29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rebuchet MS"/>
              </a:rPr>
              <a:t>Ventas y Empleo </a:t>
            </a: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(incluida ME inform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1908000" y="571680"/>
            <a:ext cx="695016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2999"/>
              </a:spcBef>
              <a:spcAft>
                <a:spcPts val="29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rebuchet MS"/>
              </a:rPr>
              <a:t>Ventas y Empleo </a:t>
            </a: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(incluida ME inform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"/>
          <p:cNvSpPr/>
          <p:nvPr/>
        </p:nvSpPr>
        <p:spPr>
          <a:xfrm>
            <a:off x="4481640" y="-534240"/>
            <a:ext cx="1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8543880" cy="5172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2071800" y="571680"/>
            <a:ext cx="667692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rebuchet MS"/>
              </a:rPr>
              <a:t>DATOS – Niveles de ven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539640" y="1557360"/>
            <a:ext cx="83534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Las medianas y grande empresas suman el 3,4% de las unidades productivas formales, sin embargo son responsables del 87% de las ventas realizadas por las empresas form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la medianas y grandes empresas suman el 1,5% de las empresas y generan el 85,5% de las ventas (incluyendo las inform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Trebuchet MS"/>
              </a:rPr>
              <a:t>Se ha observado un incremento notorio en la cantidad de microempresas en los últimos años, mostrando un aumento del 30,9% entre el año 1995 y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2071800" y="571680"/>
            <a:ext cx="667692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rebuchet MS"/>
              </a:rPr>
              <a:t>DATOS- Exportaciones ($M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642960" y="1500120"/>
            <a:ext cx="7715160" cy="2805120"/>
          </a:xfrm>
          <a:prstGeom prst="rect">
            <a:avLst/>
          </a:prstGeom>
          <a:ln w="0">
            <a:noFill/>
          </a:ln>
        </p:spPr>
      </p:pic>
      <p:sp>
        <p:nvSpPr>
          <p:cNvPr id="116" name="4 CuadroTexto"/>
          <p:cNvSpPr/>
          <p:nvPr/>
        </p:nvSpPr>
        <p:spPr>
          <a:xfrm>
            <a:off x="785880" y="4572000"/>
            <a:ext cx="764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La MIPE tiene una baja participación en el porcentaje de ventas totales en exportaciones, a pesar que el 40% de las empresas que exportan son MI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5T22:56:56Z</dcterms:created>
  <dc:creator>Francisco J. Astudillo A.</dc:creator>
  <dc:description/>
  <dc:language>en-US</dc:language>
  <cp:lastModifiedBy>NeoAula</cp:lastModifiedBy>
  <cp:lastPrinted>2004-06-01T23:06:04Z</cp:lastPrinted>
  <dcterms:modified xsi:type="dcterms:W3CDTF">2009-08-17T16:59:05Z</dcterms:modified>
  <cp:revision>450</cp:revision>
  <dc:subject/>
  <dc:title>Presentación de PowerPoint</dc:title>
</cp:coreProperties>
</file>