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png" ContentType="image/png"/>
  <Override PartName="/ppt/media/image24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8899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2F69-7DF1-4956-ACC7-5FD4C0EC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D2E3-44CB-4C61-83DE-EE4DEFA7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7202-1565-4439-B043-9618352B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6659-FA75-426C-A255-1B8E4F57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1533-C055-4A6A-A1A6-07C49430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E87B-2987-453D-9010-A6A32BCE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CC7D-7E2C-48D2-86A7-B6421DEF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4BBB-A2C8-4DFE-9692-19F8E474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A10C-B16C-4AAB-9A42-60301C51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0443-7D5A-4B15-B357-3ABFDE71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A0F3-5AAF-4FE3-A341-97520A48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D83D-6C89-4B02-A5FB-53563800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7DF6-433E-43BB-AF07-A5AA9110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0905-10D5-40FD-8456-5026935A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0664-4C1E-4F43-9CEB-CE21AC1F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FB54-764A-4F41-978A-11DC3F4E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2C28-0921-410A-ADE7-228F3BAF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02AC-809B-4A40-AB13-2320F86F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C475-381E-48CC-9EE2-05870235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E4F1-D1CB-4769-9601-A2DC7AAC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B53F-B370-4C92-96E9-FCC99316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B053-946A-45BF-9EB3-258B20BE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4B89-F2B7-43D2-BC35-2E27DA6B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6674-6E18-4416-8861-05D1E159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1087-2C19-4CA0-ACC4-D7AF6BB7995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F638-A3C1-4796-89F8-C52D35B1E87F}" type="slidenum"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rot="21420000">
            <a:off x="1221840" y="2977920"/>
            <a:ext cx="6770880" cy="326700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914400"/>
            <a:ext cx="8305560" cy="41148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DISPOSICIONES LEG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ff"/>
                </a:solidFill>
                <a:latin typeface="Arial"/>
              </a:rPr>
              <a:t>LEY 16.74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0049"/>
                </a:solidFill>
                <a:latin typeface="Arial"/>
              </a:rPr>
              <a:t>(1 DE Febrero de 1968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SEGURO SOCIAL OBLIGATOR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SOBRE ACCIDENTES DEL TRABAJO 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ENFERMEDADES PROFES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3840" y="6629400"/>
            <a:ext cx="8127720" cy="0"/>
          </a:xfrm>
          <a:prstGeom prst="line">
            <a:avLst/>
          </a:prstGeom>
          <a:ln w="2556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520" y="4267080"/>
            <a:ext cx="7772400" cy="7621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5410080"/>
            <a:ext cx="7848360" cy="7621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5257800"/>
            <a:ext cx="7848720" cy="762120"/>
          </a:xfrm>
          <a:prstGeom prst="rect">
            <a:avLst/>
          </a:prstGeom>
          <a:gradFill rotWithShape="0">
            <a:gsLst>
              <a:gs pos="0">
                <a:srgbClr val="a2c1fe"/>
              </a:gs>
              <a:gs pos="50000">
                <a:srgbClr val="e2ebfd"/>
              </a:gs>
              <a:gs pos="100000">
                <a:srgbClr val="a2c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990720"/>
            <a:ext cx="4495680" cy="28954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4114800"/>
            <a:ext cx="7848720" cy="762120"/>
          </a:xfrm>
          <a:prstGeom prst="rect">
            <a:avLst/>
          </a:prstGeom>
          <a:gradFill rotWithShape="0">
            <a:gsLst>
              <a:gs pos="0">
                <a:srgbClr val="a2c1fe"/>
              </a:gs>
              <a:gs pos="50000">
                <a:srgbClr val="e2ebfd"/>
              </a:gs>
              <a:gs pos="100000">
                <a:srgbClr val="a2c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14800" y="2209680"/>
            <a:ext cx="4114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TINGENCIAS CUBIERTAS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R LA LEY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426708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382680" indent="0">
              <a:lnSpc>
                <a:spcPct val="90000"/>
              </a:lnSpc>
              <a:spcBef>
                <a:spcPts val="4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ACCIDENTES DEL TRABA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lnSpc>
                <a:spcPct val="90000"/>
              </a:lnSpc>
              <a:spcBef>
                <a:spcPts val="4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ENFERMEDADES PROFES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228600"/>
            <a:ext cx="4343400" cy="76212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SPOSICIONES LEGALES LEY 16.74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733920" y="1066680"/>
            <a:ext cx="495288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990720"/>
            <a:ext cx="5029200" cy="5331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9fbbfc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143000"/>
            <a:ext cx="213336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520" y="10666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IDENTE DEL</a:t>
            </a:r>
            <a:r>
              <a:rPr b="1" lang="en-US" sz="2800" spc="-1" strike="noStrike">
                <a:solidFill>
                  <a:srgbClr val="712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ABAJ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S TOD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ESIO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QUE SUFRA UNA PERSONA 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AUS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O C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OCASIO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L TRABAJO Y QUE LE PRODUZC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NCAPACIDA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O MUER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066680"/>
            <a:ext cx="2133720" cy="53352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8faffc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143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FINI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457200"/>
            <a:ext cx="480060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POSICIONES LEGALES LEY 16.74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581280" y="4572000"/>
            <a:ext cx="2251080" cy="175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057400" y="1066680"/>
            <a:ext cx="502920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990720"/>
            <a:ext cx="5029200" cy="5331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CCIDENTE DEL TRABAJ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SON TAMBIEN CONSIDERAD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spcBef>
                <a:spcPts val="2999"/>
              </a:spcBef>
              <a:buClr>
                <a:srgbClr val="99cc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CCIDENTES DE DIRIGENTES SINDICALES A CAUSA DE SU COMETIDO GREM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58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RABAJADOR ENVIADO POR LA EMPRESA A CURSOS DE CAPACITACIO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667560" y="5181480"/>
            <a:ext cx="1789200" cy="113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EP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3626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LOS CAUSADOS POR </a:t>
            </a:r>
            <a:r>
              <a:rPr b="1" lang="en-US" sz="2900" spc="-1" strike="noStrike">
                <a:solidFill>
                  <a:srgbClr val="ff9900"/>
                </a:solidFill>
                <a:latin typeface="Arial"/>
              </a:rPr>
              <a:t>FUERZA MAYOR</a:t>
            </a:r>
            <a:r>
              <a:rPr b="1" lang="en-US" sz="29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ff9900"/>
                </a:solidFill>
                <a:latin typeface="Arial"/>
              </a:rPr>
              <a:t>EXTRAÑA</a:t>
            </a:r>
            <a:r>
              <a:rPr b="1" lang="en-US" sz="2900" spc="-1" strike="noStrike">
                <a:solidFill>
                  <a:srgbClr val="ff9900"/>
                </a:solidFill>
                <a:latin typeface="Arial"/>
              </a:rPr>
              <a:t> Y</a:t>
            </a: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 SIN RELACION CON EL TRABAJO DE LA VICTIMA</a:t>
            </a:r>
            <a:r>
              <a:rPr b="1" lang="en-US" sz="2900" spc="-1" strike="noStrike">
                <a:solidFill>
                  <a:srgbClr val="280049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3626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LOS PRODUCIDOS </a:t>
            </a:r>
            <a:r>
              <a:rPr b="1" lang="en-US" sz="2900" spc="-1" strike="noStrike">
                <a:solidFill>
                  <a:srgbClr val="ff9900"/>
                </a:solidFill>
                <a:latin typeface="Arial"/>
              </a:rPr>
              <a:t>INTENCIONALMENTE POR LA VICTIM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1066680"/>
            <a:ext cx="502920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990720"/>
            <a:ext cx="5029200" cy="5331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CCIDENTE DEL TRABAJ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48200" y="4838760"/>
            <a:ext cx="1230120" cy="153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ahoma"/>
              </a:rPr>
              <a:t>Fuerza may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669900"/>
                </a:solidFill>
                <a:uFillTx/>
                <a:latin typeface="Tahoma"/>
              </a:rPr>
              <a:t>De la naturaleza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Sismos, Tempestades, Enfermedades, Incendios, Naufragios, Aluviones,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669900"/>
                </a:solidFill>
                <a:uFillTx/>
                <a:latin typeface="Tahoma"/>
              </a:rPr>
              <a:t>Del hombr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Guerras, revoluciones,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52388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ffff00"/>
                </a:solidFill>
                <a:uFillTx/>
                <a:latin typeface="Tahoma"/>
              </a:rPr>
              <a:t>Ininputabilidad:</a:t>
            </a: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ccffff"/>
                </a:solidFill>
                <a:latin typeface="Tahoma"/>
              </a:rPr>
              <a:t>No existe culpable, Voluntad del trabajador o empleador no interviene en la ocurrencia del hecho.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ffff00"/>
                </a:solidFill>
                <a:uFillTx/>
                <a:latin typeface="Tahoma"/>
              </a:rPr>
              <a:t>Inprevisibilidad:</a:t>
            </a: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ccffff"/>
                </a:solidFill>
                <a:latin typeface="Tahoma"/>
              </a:rPr>
              <a:t>Las partes no pueden prever  la ocurrencia del hech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ffff00"/>
                </a:solidFill>
                <a:uFillTx/>
                <a:latin typeface="Tahoma"/>
              </a:rPr>
              <a:t>Insuperabilidad:</a:t>
            </a: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ccffff"/>
                </a:solidFill>
                <a:latin typeface="Tahoma"/>
              </a:rPr>
              <a:t>Nadie podría evitar las causas del hech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30492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066680"/>
            <a:ext cx="914400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ahoma"/>
              </a:rPr>
              <a:t>ACCIDENTE CON CAUS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Se refiere a la lesion ocurrida debido a una o mas causas, donde tiene en definitiva, efectos más graves que en un caso norm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jemplo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Herida leve en un hemofíl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nfermedad preexistente (diabe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ahoma"/>
              </a:rPr>
              <a:t>CONCAUSA SOBREVINI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Son aquellos acaecidos con posterioridad al accidente, pero en relación con 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rror en intervención quirúrg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2590920"/>
            <a:ext cx="8229600" cy="2590560"/>
          </a:xfrm>
          <a:prstGeom prst="roundRect">
            <a:avLst>
              <a:gd name="adj" fmla="val 12495"/>
            </a:avLst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2438280"/>
            <a:ext cx="8305560" cy="25909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f57b49"/>
              </a:gs>
              <a:gs pos="50000">
                <a:srgbClr val="fefefe"/>
              </a:gs>
              <a:gs pos="100000">
                <a:srgbClr val="f57b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2895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ON LOS OCURRIDOS EN EL TRAYECTO DIRECTO ENTRE LA HABITACION Y EL LUGAR DE TRABAJO Y VICEVER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1676520"/>
            <a:ext cx="2044800" cy="520560"/>
          </a:xfrm>
          <a:prstGeom prst="roundRect">
            <a:avLst>
              <a:gd name="adj" fmla="val 49995"/>
            </a:avLst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2057400" cy="53352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618ffd"/>
              </a:gs>
              <a:gs pos="50000">
                <a:srgbClr val="8faffc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8288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DEFINIC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1066680"/>
            <a:ext cx="502920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990720"/>
            <a:ext cx="5029200" cy="5331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1523880"/>
            <a:ext cx="2895480" cy="533520"/>
          </a:xfrm>
          <a:prstGeom prst="roundRect">
            <a:avLst>
              <a:gd name="adj" fmla="val 49995"/>
            </a:avLst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905120" y="10666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CCIDENTE DEL TRABAJ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1447920"/>
            <a:ext cx="3047760" cy="5331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618ff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15238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N EL TRAY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438360" y="5261040"/>
            <a:ext cx="1971720" cy="10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1600200"/>
            <a:ext cx="830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66ffff"/>
                </a:solidFill>
                <a:uFillTx/>
                <a:latin typeface="Tahoma"/>
              </a:rPr>
              <a:t>Domicilio: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Es el asiento legal de una persona. Atiende más a un concepto que a una materialidad. (pluralidad de domicilio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66ffff"/>
                </a:solidFill>
                <a:uFillTx/>
                <a:latin typeface="Tahoma"/>
              </a:rPr>
              <a:t>Residencia: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Atiende a un concepto material, donde la persona vive en forma perman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66ffff"/>
                </a:solidFill>
                <a:uFillTx/>
                <a:latin typeface="Tahoma"/>
              </a:rPr>
              <a:t>Habitación: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Lugar donde la persona reside o pernoc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66ffff"/>
                </a:solidFill>
                <a:uFillTx/>
                <a:latin typeface="Tahoma"/>
              </a:rPr>
              <a:t>Morada: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Se asemeja a habit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3520" y="457200"/>
            <a:ext cx="8135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1752480"/>
            <a:ext cx="8458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669900"/>
                </a:solidFill>
                <a:uFillTx/>
                <a:latin typeface="Tahoma"/>
              </a:rPr>
              <a:t>Lugar de trabajo: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 Lugar donde la persona desempeña una función, tomando en cuenta el momento en que se dispone a trabaj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669900"/>
                </a:solidFill>
                <a:uFillTx/>
                <a:latin typeface="Tahoma"/>
              </a:rPr>
              <a:t>Trayecto directo: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 Trayecto que no sea desviado ni interrumpido por propósitos  ajenos a la necesidad de dirigirse al lugar de trabajo o habitació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14440" y="566640"/>
          <a:ext cx="8115120" cy="572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440" y="566640"/>
                    <a:ext cx="8115120" cy="57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0880" y="838080"/>
            <a:ext cx="8382240" cy="533520"/>
          </a:xfrm>
          <a:prstGeom prst="roundRect">
            <a:avLst>
              <a:gd name="adj" fmla="val 1249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762120"/>
            <a:ext cx="8458200" cy="5331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18ffd"/>
              </a:gs>
              <a:gs pos="50000">
                <a:srgbClr val="dee7fd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447920"/>
            <a:ext cx="8382240" cy="838080"/>
          </a:xfrm>
          <a:prstGeom prst="roundRect">
            <a:avLst>
              <a:gd name="adj" fmla="val 1249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1523880"/>
            <a:ext cx="8458200" cy="8384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18ffd"/>
              </a:gs>
              <a:gs pos="50000">
                <a:srgbClr val="dee7fd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CCIDENTE DEL TRABAJO EN EL TRAYECT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2100"/>
              </a:spcBef>
              <a:buClr>
                <a:srgbClr val="0054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E DE CARABINE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Bef>
                <a:spcPts val="2100"/>
              </a:spcBef>
              <a:buClr>
                <a:srgbClr val="0054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RTIFICADO MEDICO - POSTA - HOSPI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Bef>
                <a:spcPts val="2100"/>
              </a:spcBef>
              <a:buClr>
                <a:srgbClr val="0054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STIG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10000"/>
              </a:lnSpc>
              <a:spcBef>
                <a:spcPts val="2100"/>
              </a:spcBef>
              <a:buClr>
                <a:srgbClr val="0054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L EMPLEADOR SOLO OTORGA DENUNCIA Y CERTIFICADO HOR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6765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66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EBEN SER PROBADOS POR EL TRABAJADOR (ART. 7º DECRETO 101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0" y="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04920" y="1828800"/>
            <a:ext cx="8534160" cy="2209680"/>
          </a:xfrm>
          <a:prstGeom prst="roundRect">
            <a:avLst>
              <a:gd name="adj" fmla="val 12495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8120" y="304920"/>
            <a:ext cx="5638680" cy="91440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304920"/>
            <a:ext cx="5639040" cy="7617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edf2fd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NFERMEDAD PROFESIONAL</a:t>
            </a:r>
            <a:br>
              <a:rPr sz="2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REGLAMENTADO DECRETO Nº 109)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84836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 algn="ctr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ES LA CAUSADA DE UNA MANERA DIRECTA POR EL EJERCICIO DE LA PROFESION O EL TRABAJO QUE REALICE UNA PERSONA Y QUE LE PRODUZCA INCAPACIDAD O MUER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1295280"/>
            <a:ext cx="2355840" cy="527040"/>
          </a:xfrm>
          <a:prstGeom prst="roundRect">
            <a:avLst>
              <a:gd name="adj" fmla="val 49995"/>
            </a:avLst>
          </a:prstGeom>
          <a:solidFill>
            <a:srgbClr val="2800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1295280"/>
            <a:ext cx="2057400" cy="53352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12952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DEFINIC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209680" y="3962520"/>
            <a:ext cx="4114800" cy="237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br>
              <a:rPr sz="3600"/>
            </a:br>
            <a:r>
              <a:rPr b="1" lang="es-CL" sz="2400" spc="-1" strike="noStrike">
                <a:solidFill>
                  <a:srgbClr val="ff0000"/>
                </a:solidFill>
                <a:latin typeface="Tahoma"/>
              </a:rPr>
              <a:t>ENFERMEDAD PROFES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16765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 u="sng">
                <a:solidFill>
                  <a:srgbClr val="669900"/>
                </a:solidFill>
                <a:uFillTx/>
                <a:latin typeface="Tahoma"/>
              </a:rPr>
              <a:t>Element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Alteración de la sal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lación directa de causa efec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ncapacidad o muerte del trabajad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tar incluida en Decreto Supremo Nº 109 o prueba conforme al Art. Nº 7 de la Le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79280" y="404640"/>
            <a:ext cx="87138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00"/>
                </a:solidFill>
                <a:uFillTx/>
                <a:latin typeface="Tahoma"/>
              </a:rPr>
              <a:t>Similitudes entre Accidente y Enf. Pro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Relación entre el trabajo y la alteración de la salud, y menoscabo de la capacidad de trabajo o muerte del trabajad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Alteración de la salu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Estado de necesidad del trabajador yo de sus cargas familia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Tahoma"/>
              </a:rPr>
              <a:t>Estado de necesidad:</a:t>
            </a:r>
            <a:r>
              <a:rPr b="0" lang="es-CL" sz="2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Hechos que provocan una situación de menor capacidad de ganancia o bien desembolso extraordinario, o amb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0948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1125360"/>
            <a:ext cx="8569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6600"/>
                </a:solidFill>
                <a:uFillTx/>
                <a:latin typeface="Tahoma"/>
              </a:rPr>
              <a:t>Diferenci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 origen clínico Ej.: trabajador de una mina ( sordo por detonación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Instantaneidad y/o acumul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ausa directa o indirec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accidente no está reglamentado, es un concept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057400" y="1143000"/>
            <a:ext cx="5715000" cy="2286000"/>
          </a:xfrm>
          <a:prstGeom prst="roundRect">
            <a:avLst>
              <a:gd name="adj" fmla="val 1249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1143000"/>
            <a:ext cx="5410080" cy="228600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286000" y="1142640"/>
            <a:ext cx="510552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0049"/>
                </a:solidFill>
                <a:latin typeface="Arial"/>
              </a:rPr>
              <a:t>ADMINISTRAC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0049"/>
                </a:solidFill>
                <a:latin typeface="Arial"/>
              </a:rPr>
              <a:t>DEL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0049"/>
                </a:solidFill>
                <a:latin typeface="Arial"/>
              </a:rPr>
              <a:t>SEGUR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57200"/>
            <a:ext cx="403884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3886200"/>
            <a:ext cx="7543800" cy="9907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5105520"/>
            <a:ext cx="7543800" cy="12189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403848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85640" indent="-48564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A. ORGANISMOS ESTAT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(I.N.P. - S.N.S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B. ORGANISMOS PRIV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(MUTUALIDAD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(ADMINISTRACION DELEG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2971800"/>
            <a:ext cx="7162920" cy="1143000"/>
          </a:xfrm>
          <a:prstGeom prst="roundRect">
            <a:avLst>
              <a:gd name="adj" fmla="val 31611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4343400"/>
            <a:ext cx="5257800" cy="762120"/>
          </a:xfrm>
          <a:prstGeom prst="roundRect">
            <a:avLst>
              <a:gd name="adj" fmla="val 36532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990720"/>
            <a:ext cx="5715000" cy="685800"/>
          </a:xfrm>
          <a:prstGeom prst="roundRect">
            <a:avLst>
              <a:gd name="adj" fmla="val 28565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990720"/>
            <a:ext cx="5943600" cy="68580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5257800"/>
            <a:ext cx="7772400" cy="990720"/>
          </a:xfrm>
          <a:prstGeom prst="roundRect">
            <a:avLst>
              <a:gd name="adj" fmla="val 36532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2057400"/>
            <a:ext cx="7162920" cy="685800"/>
          </a:xfrm>
          <a:prstGeom prst="roundRect">
            <a:avLst>
              <a:gd name="adj" fmla="val 36532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FINANCIAMIENTO LEY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47920" y="2209680"/>
            <a:ext cx="670536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A.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COTIZACION BASICA 0,9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B.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COTIZACION ADICION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0,0% - 3,4% (DECRETO 110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C.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MULT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D.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DERECHO A REPETIR ART. 56 Y 6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838080" y="533520"/>
            <a:ext cx="6400800" cy="838080"/>
          </a:xfrm>
          <a:prstGeom prst="roundRect">
            <a:avLst>
              <a:gd name="adj" fmla="val 28565"/>
            </a:avLst>
          </a:prstGeom>
          <a:solidFill>
            <a:srgbClr val="6e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457200"/>
            <a:ext cx="6248520" cy="685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. PRESTACIONES MEDICAS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TENCION MEDICA, QUIRURGICA Y DEN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SPITALIZA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DICAMENTOS Y PRODUCTOS FARMACEU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ESIS Y APARATOS ORTOPEDICOS Y SU REPARA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HABILITACION FIS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6248520" y="4724280"/>
            <a:ext cx="2068560" cy="13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590920" y="533520"/>
            <a:ext cx="5638680" cy="91440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52480" y="380880"/>
            <a:ext cx="5639040" cy="91440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edf2fd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057400" y="533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       PRESTACIONES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ECONOMICA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83055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indent="0" algn="just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) SUBSID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I) INDEMNIZ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II)PEN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V)PENSIONE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PERVIVENCI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76200" y="671400"/>
          <a:ext cx="8391600" cy="551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6200" y="671400"/>
                    <a:ext cx="8391600" cy="55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09480" y="1676520"/>
            <a:ext cx="3886200" cy="1143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18ff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057400"/>
            <a:ext cx="44193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I)      SUBSIDIO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289548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 algn="just">
              <a:lnSpc>
                <a:spcPct val="100000"/>
              </a:lnSpc>
              <a:buClr>
                <a:srgbClr val="99ccff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CAPACIDAD TEMP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IGENCIA 52 SEMANAS PRORROGABLES POR OTRAS 5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ONTO: 100% DE LA REMUNERACION PROMEDIO ULTIMOS 3 ME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CCIDENTE O ENFERMEDAD PROFES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CLUYE COTIZACION PREVISIONAL Y SAL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DERECHO A REPETIR ART. 56 Y 6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410080" y="457200"/>
            <a:ext cx="327672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666880" y="838080"/>
            <a:ext cx="5029200" cy="838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a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5334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I INDEMNIZACIONES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UANDO EL TRABAJADOR PIERDE ENTRE EL 15% Y 40% DE SU CAPACIDAD DE GANANCI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49"/>
              </a:spcBef>
              <a:buClr>
                <a:srgbClr val="0054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CIBE DE 1,5  A 15 SUELDOS BASE QUE CORRESPONDEN AL PROMEDIO REMUNERACION DE LOS 6 MESES ANTERIORES AL ACCIDENTE O ENFERMEDAD PROFESIONAL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172200" y="2133720"/>
            <a:ext cx="297180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09480" y="3657600"/>
            <a:ext cx="8229600" cy="2209680"/>
          </a:xfrm>
          <a:prstGeom prst="rect">
            <a:avLst/>
          </a:prstGeom>
          <a:gradFill rotWithShape="0">
            <a:gsLst>
              <a:gs pos="0">
                <a:srgbClr val="eaec5e"/>
              </a:gs>
              <a:gs pos="50000">
                <a:srgbClr val="fefefe"/>
              </a:gs>
              <a:gs pos="100000">
                <a:srgbClr val="eaec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971800"/>
            <a:ext cx="8229600" cy="609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304560" y="2361960"/>
            <a:ext cx="883908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ERDIDA PERMANENTE DE SU CAPACIDAD DE GANANCI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%PERDIDA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PENSION MENS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1800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TRE 40% Y 70%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35% SUELDO 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GUAL O SUPERIOR A 70%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70% SUELDO 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ODA SU CAPACIDA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100% SUELDO 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N INVALIDEZ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30% SUPLEM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PE 140% SUELDO 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57400" y="1295280"/>
            <a:ext cx="3809880" cy="685800"/>
          </a:xfrm>
          <a:prstGeom prst="ellipse">
            <a:avLst/>
          </a:prstGeom>
          <a:gradFill rotWithShape="0">
            <a:gsLst>
              <a:gs pos="0">
                <a:srgbClr val="f35b1b"/>
              </a:gs>
              <a:gs pos="50000">
                <a:srgbClr val="f9bca3"/>
              </a:gs>
              <a:gs pos="100000">
                <a:srgbClr val="f35b1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1143000"/>
            <a:ext cx="5334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III) PENS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52880" y="2971800"/>
            <a:ext cx="0" cy="584280"/>
          </a:xfrm>
          <a:prstGeom prst="line">
            <a:avLst/>
          </a:prstGeom>
          <a:ln w="25560">
            <a:solidFill>
              <a:srgbClr val="280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657600"/>
            <a:ext cx="0" cy="2184480"/>
          </a:xfrm>
          <a:prstGeom prst="line">
            <a:avLst/>
          </a:prstGeom>
          <a:ln w="25560">
            <a:solidFill>
              <a:srgbClr val="280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6172200" y="457200"/>
            <a:ext cx="2438280" cy="190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1828800"/>
            <a:ext cx="4952880" cy="1066680"/>
          </a:xfrm>
          <a:prstGeom prst="ellipse">
            <a:avLst/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2640" y="22093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V) PENSIONES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OR SUPERVIVENCIA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RECHO - HABIENTES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520" y="2895120"/>
            <a:ext cx="81536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50000"/>
              </a:lnSpc>
              <a:spcBef>
                <a:spcPts val="700"/>
              </a:spcBef>
              <a:buClr>
                <a:srgbClr val="f35b1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SPO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50000"/>
              </a:lnSpc>
              <a:spcBef>
                <a:spcPts val="2100"/>
              </a:spcBef>
              <a:buClr>
                <a:srgbClr val="f35b1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I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 algn="just">
              <a:lnSpc>
                <a:spcPct val="90000"/>
              </a:lnSpc>
              <a:spcBef>
                <a:spcPts val="2100"/>
              </a:spcBef>
              <a:buClr>
                <a:srgbClr val="f35b1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VIVIENTE Y TODO AQUEL QUE HUBIERE VIVIDO A EXPENSAS DE LA VICTIMA COMO CARGA RECONOCID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715000" y="838080"/>
            <a:ext cx="2743200" cy="251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CION  DE RIESGOS PROFESIONAL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 (TITULO VII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588520" cy="207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LIGACIONES DEL EST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ERVIGILANCIA Y FISCALIZACION DE LA PREVENCION, HIGIENE Y SEGURIDAD DE TODOS LOS SITIOS DE TRABAJO A TRAVES DE LAS SEREMIS DE SALUD RESPECTIVAS. (ART.6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576"/>
              </a:spcBef>
              <a:buClr>
                <a:srgbClr val="99ccff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ICAR LAS MEDIDAS DE HIGIENE Y SEGURIDAD EN EL TRABAJO NECESARIAS EN LAS EMPRESAS A TRAVES DE LOS SERVICIOS DE SALUD Y APLICAR SANCIONES POR INCUMPLIMIENTO. (ART.68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Arial"/>
              </a:rPr>
              <a:t>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304920" y="4724280"/>
            <a:ext cx="8610480" cy="152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228600" y="2276640"/>
            <a:ext cx="5867280" cy="41241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CRIBIR TODAS LAS MEDIDAS DE HIGIENE Y SEGURIDAD EN EL TRABAJO QUE LAS EMPRESAS ADHERIDAS DEBAN IMPLANT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LICAR ALZAS O REBAJAS DE COTIZACION ADICIONAL DIFERENCIADA (TASA DE SINIESTRALIDAD EFECTIVA DECRETO Nº 6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6372360" y="3357720"/>
            <a:ext cx="2438280" cy="23619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395280" y="476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LIGACIONES DE LOS ORGANISMOS ADMINISTR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7920000" cy="45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41440" indent="-541440" algn="just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ANTAR MEDIDAS DE PREVENCIÓN DE RIESGOS QUE INDIQUE EL ORGANISMO ADMINISTRADOR Y/O EL DEPARTAMENTO DE PREVENCION DE RIESGOS Y COMITES PARITARI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41440" indent="0" algn="just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41440" indent="-541440" algn="just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ECER Y MANTENER AL DIA REGLAMENTO INTERNO DE HIGIENE Y SEGURIDA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41440"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41440" indent="-541440" algn="just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ECER EL DEPARTAMENTO DE PREVENCIÓN DE RIESGOS CUANDO CUENTEN CON MAS DE 100 TRABAJADOR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24280" y="22860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9680" y="655308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95280" y="457200"/>
            <a:ext cx="5486400" cy="533520"/>
          </a:xfrm>
          <a:prstGeom prst="flowChartAlternateProcess">
            <a:avLst/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90720" y="533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4572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BLIGACIONES DE LAS EMPRE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438280" cy="1447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50920" y="2060640"/>
            <a:ext cx="86421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ar comité paritario cuando cuente con más de 25 trabajad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rcionar a los trabajadores, elementos de protección perso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rmar sobre riesgos laborales a sus trabajad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ectuar exámenes de control médico preven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33720" y="457200"/>
            <a:ext cx="5486400" cy="533520"/>
          </a:xfrm>
          <a:prstGeom prst="flowChartAlternateProcess">
            <a:avLst/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533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057400" y="457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LIGACIONES DE LAS EMPRE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6705720" y="476280"/>
            <a:ext cx="2438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209680" y="304920"/>
            <a:ext cx="6019920" cy="990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99440" cy="3581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190440" indent="-190440" algn="just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mplir con lo establecido por el reglamento inter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0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0440" indent="-190440" algn="just">
              <a:lnSpc>
                <a:spcPct val="90000"/>
              </a:lnSpc>
              <a:spcBef>
                <a:spcPts val="10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mplir con las normas e instrucciones impartidas por el servicio de salud, organismo administrador, departamento de prevención de riesgos o Comité Paritario de Higiene y Segur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83808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380880"/>
            <a:ext cx="65754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BLIGACIONES DE LOS TRABAJA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3816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79280" y="2060640"/>
            <a:ext cx="6624720" cy="42260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 algn="just">
              <a:lnSpc>
                <a:spcPct val="120000"/>
              </a:lnSpc>
              <a:spcBef>
                <a:spcPts val="13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tilizar los elementos de protección personal y/o dispositivos de seguridad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3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cudir a exámenes médicos de contro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3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articipar activamente en el actividades de prevención de riesgos a través del comité paritari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0" y="662940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47640" y="333360"/>
            <a:ext cx="6019920" cy="9907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BLIGACIONES DE 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ABAJA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6964200" y="2205000"/>
            <a:ext cx="1987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28520" y="414360"/>
          <a:ext cx="8886960" cy="602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20" y="414360"/>
                    <a:ext cx="888696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79280" y="333360"/>
            <a:ext cx="4176720" cy="1143000"/>
          </a:xfrm>
          <a:prstGeom prst="roundRect">
            <a:avLst>
              <a:gd name="adj" fmla="val 16667"/>
            </a:avLst>
          </a:prstGeom>
          <a:solidFill>
            <a:srgbClr val="ffd9b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79280" y="2205000"/>
            <a:ext cx="5639040" cy="3581280"/>
          </a:xfrm>
          <a:prstGeom prst="rect">
            <a:avLst/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8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tectar y evaluar riesgo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80000"/>
              </a:lnSpc>
              <a:spcBef>
                <a:spcPts val="16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ción educativa a los trabajado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80000"/>
              </a:lnSpc>
              <a:spcBef>
                <a:spcPts val="1375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moción de la capacitació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80000"/>
              </a:lnSpc>
              <a:spcBef>
                <a:spcPts val="1375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esoría técnica a los Comités Paritarios y a la línea de administración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80000"/>
              </a:lnSpc>
              <a:spcBef>
                <a:spcPts val="1375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antener los registros estadístic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80000"/>
              </a:lnSpc>
              <a:spcBef>
                <a:spcPts val="1375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formar sobre riesgos laborales a los trabajado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0" y="380880"/>
            <a:ext cx="4191120" cy="990720"/>
          </a:xfrm>
          <a:prstGeom prst="rect">
            <a:avLst/>
          </a:prstGeom>
          <a:gradFill rotWithShape="0">
            <a:gsLst>
              <a:gs pos="0">
                <a:srgbClr val="00ae00"/>
              </a:gs>
              <a:gs pos="50000">
                <a:srgbClr val="fefefe"/>
              </a:gs>
              <a:gs pos="100000">
                <a:srgbClr val="00ae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67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19720" y="304920"/>
            <a:ext cx="4419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ECRETO S. Nº 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9280" y="333360"/>
            <a:ext cx="40323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UNCIONES DE LOS DEPARTA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E PREVENCION D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IESG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6019920" y="2057400"/>
            <a:ext cx="2841480" cy="17524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5972040" y="4038480"/>
            <a:ext cx="2884680" cy="228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04920" y="281952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esorar e instruir a los trabajadores en la correcta utilización de los elementos de protección pers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gilar cumplimiento de medidas de higiene y segurid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igar causas de accidentes y enfermedades profesion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idir si el accidente o enfermedad profesional se debió a negligencia inexcusable del trabajad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0920" y="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46200" y="4096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404640"/>
            <a:ext cx="3352680" cy="762120"/>
          </a:xfrm>
          <a:prstGeom prst="rect">
            <a:avLst/>
          </a:prstGeom>
          <a:solidFill>
            <a:srgbClr val="fadfb4"/>
          </a:solidFill>
          <a:ln w="0">
            <a:noFill/>
          </a:ln>
          <a:effectLst>
            <a:outerShdw dist="17819" dir="2700000" blurRad="0" rotWithShape="0">
              <a:srgbClr val="9585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189000"/>
            <a:ext cx="327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CRETO S. Nº 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0920" y="1933560"/>
            <a:ext cx="3816360" cy="637560"/>
          </a:xfrm>
          <a:prstGeom prst="rect">
            <a:avLst/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CIONES DEL COMI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ITA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859280" y="333360"/>
            <a:ext cx="3925800" cy="220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79280" y="3200400"/>
            <a:ext cx="8713800" cy="3225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r la adopción de todas las medidas de higiene y segur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mplir funciones o misiones que se les haya encomendado el organismo administrad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ver cursos de capacitación para  los trabajad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rmar sobre riesgos labor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05120" y="3049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81080" y="380880"/>
            <a:ext cx="3353040" cy="762120"/>
          </a:xfrm>
          <a:prstGeom prst="rect">
            <a:avLst/>
          </a:prstGeom>
          <a:solidFill>
            <a:srgbClr val="fadfb4"/>
          </a:solidFill>
          <a:ln w="0">
            <a:noFill/>
          </a:ln>
          <a:effectLst>
            <a:outerShdw dist="17819" dir="2700000" blurRad="0" rotWithShape="0">
              <a:srgbClr val="9585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81080" y="2286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CRETO S. Nº 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1828800"/>
            <a:ext cx="4232520" cy="698760"/>
          </a:xfrm>
          <a:prstGeom prst="rect">
            <a:avLst/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IONES DEL COMI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IT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5364000" y="609480"/>
            <a:ext cx="35514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771640" y="404640"/>
            <a:ext cx="352908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Ley Nº 16.74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989000"/>
            <a:ext cx="8064720" cy="4322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ahoma"/>
              </a:rPr>
              <a:t>Establece el seguro obligatorio contra riesgos de accidentes del trabajo y enfermedades profesion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ahoma"/>
              </a:rPr>
              <a:t>Establece seguro social, terminándose el seguro comerc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ahoma"/>
              </a:rPr>
              <a:t>Cambia el concepto reparativo de las leyes por un concepto preven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ahoma"/>
              </a:rPr>
              <a:t>Cambia el criterio, se indemniza la “ Pérdida de capacidad de ganancia” en lugar de pérdidas funcion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85760" y="404640"/>
          <a:ext cx="8772480" cy="604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760" y="404640"/>
                    <a:ext cx="877248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57320" y="747720"/>
          <a:ext cx="8829360" cy="536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7320" y="747720"/>
                    <a:ext cx="882936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3880" y="1600200"/>
            <a:ext cx="7162920" cy="685800"/>
          </a:xfrm>
          <a:prstGeom prst="roundRect">
            <a:avLst>
              <a:gd name="adj" fmla="val 12495"/>
            </a:avLst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1600200"/>
            <a:ext cx="7162920" cy="68580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a2c1fe"/>
              </a:gs>
              <a:gs pos="50000">
                <a:srgbClr val="fefefe"/>
              </a:gs>
              <a:gs pos="100000">
                <a:srgbClr val="a2c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1752120"/>
            <a:ext cx="601992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12000"/>
                </a:solidFill>
                <a:latin typeface="Arial"/>
              </a:rPr>
              <a:t>OBJETIVOS LEY 16.744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PREVENCION DE ACCIDENTES ENFERMEDADES PROFES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PRESTACIONES MED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. PRESTACIONES ECONOM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 REHABILITA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. REEDUCA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86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410080" y="4705200"/>
            <a:ext cx="2919600" cy="16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1371600"/>
            <a:ext cx="3200400" cy="2286000"/>
          </a:xfrm>
          <a:prstGeom prst="ellipse">
            <a:avLst/>
          </a:prstGeom>
          <a:gradFill rotWithShape="0">
            <a:gsLst>
              <a:gs pos="0">
                <a:srgbClr val="a2c1fe"/>
              </a:gs>
              <a:gs pos="50000">
                <a:srgbClr val="f4f7fd"/>
              </a:gs>
              <a:gs pos="100000">
                <a:srgbClr val="a2c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800600" y="11430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ABAJADORES P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UENTA AJ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2999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UNCIONA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UBL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2999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TUDIA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2999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GUNOS TRABAJAD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Y TRABAJAD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MILIA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21337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712000"/>
                </a:solidFill>
                <a:latin typeface="Arial"/>
              </a:rPr>
              <a:t>PERSONAS PROTEGI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200240" y="3656160"/>
            <a:ext cx="2914560" cy="234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10T07:57:52Z</dcterms:created>
  <dc:creator>MUTUAL DE SEGURIDAD C.CH.C.</dc:creator>
  <dc:description/>
  <cp:keywords/>
  <dc:language>en-US</dc:language>
  <cp:lastModifiedBy>WinuE</cp:lastModifiedBy>
  <cp:lastPrinted>1999-08-30T13:50:41Z</cp:lastPrinted>
  <dcterms:modified xsi:type="dcterms:W3CDTF">2008-08-17T23:58:11Z</dcterms:modified>
  <cp:revision>107</cp:revision>
  <dc:subject/>
  <dc:title>CURSO DE ORIENTACION EN</dc:title>
</cp:coreProperties>
</file>