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050-0F71-4F96-8A46-C9917B37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04D-6CE6-4D0C-8A6D-2E431FA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8C2-CFB8-4A9D-85F3-B4B91B18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580-8C0A-4746-BB91-7FF306F6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40C-2C42-477B-9207-9CDB2640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906-D327-4470-8318-8DEF30BF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01D-B318-4614-90A8-2A7BE11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AA6E-32E3-4243-A842-BDB91776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C67-E527-424D-AEDD-22463B8D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6FFA-A88F-47B2-9EEE-29704CC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209D-1E68-44FB-B6C1-44E0B35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825-B1C4-4684-870E-971B0C0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71EE-7B1E-40E3-8B10-0D938EB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2BE-5E0E-4445-8433-D11AB5D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33EF-E824-4862-B3ED-A15D953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5C0-BD2A-4DD5-BBD5-5028FB1C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E3AC-438D-4B6D-BC6B-8FFCEA64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E43-FBB1-4669-992B-502BEE7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CCA-3B46-4249-BE7E-AF835C6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897-018B-4033-A380-8345BD7D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447-237B-42EB-AB02-D60841F3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3A9-87BD-4BCE-9EB5-3A29B605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EF7-EDF0-47C0-8088-11C9206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8C3-53D8-4666-9890-BD75DFC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5B4-869E-4AF2-AB5F-ADC261440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BABE-B4C3-4A8D-8428-8A2429735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del punto de operación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4338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Piso resbal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dañado en  escal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5440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619280" y="22892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i quiere cre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emigos trate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ambiar al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76120" y="217656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8480" y="60804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4160" y="6192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00680" y="2176560"/>
            <a:ext cx="449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3400" y="6080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12560" y="2130480"/>
            <a:ext cx="4470840" cy="301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0440" y="474840"/>
            <a:ext cx="6685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3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6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7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5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0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1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39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8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6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4400" y="1687320"/>
            <a:ext cx="6918120" cy="405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7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0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25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62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84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999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4292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ller de identificación de ries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27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52" name="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5"/>
          <a:stretch/>
        </p:blipFill>
        <p:spPr>
          <a:xfrm>
            <a:off x="4705200" y="3352680"/>
            <a:ext cx="4133880" cy="23338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036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80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 x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64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1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6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83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8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6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9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7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4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7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9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8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09-10-05T01:05:56Z</dcterms:modified>
  <cp:revision>24</cp:revision>
  <dc:subject/>
  <dc:title>Presentación de PowerPoint</dc:title>
</cp:coreProperties>
</file>