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A3B-C139-4059-AFFF-8177BF6D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244-F876-4E57-8C82-1A3A7790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3F4-C7F9-42F5-AF9F-CF021C7B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D15-0956-45FF-9BCE-1248FD13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1FEF-84FB-4D90-B5C4-5A2137EB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B42F-2D68-43E3-BCF8-15D22791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7A55-5554-44DF-8C3B-951F983E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21BF-172C-4D61-BBD6-36ACC746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2943-9245-4910-B902-4F72EFBF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07A2-F671-4812-B038-DF267236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1C5D-9953-44EA-8DFA-6E359CCF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206-A3F1-47ED-9B31-CCBB38A2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4AC4-AA2F-4525-8A8F-335CC2B9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9A66-7FF9-40BD-8AD7-58301EAD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E4EB-1650-4277-B551-28A2C9A3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00C8-C57F-4C4A-A88E-4068C044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1B45-BDE1-47EF-83FF-64CE7972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134-301E-43B4-9974-6457E085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D5B-10E8-4A34-A080-86BA2AA7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191-2F0E-4236-9DB3-9B35D0FA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EDD-F2A5-466A-B135-B7E10AF9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CD9-748D-404B-8856-F04E4965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8A1-F108-406B-AED7-01574375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8B0-19DE-4BF9-BCC3-47CA96D4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9417-CD68-4E24-A6EE-56E099FB9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5A6C-B2F0-40E2-9A17-898A77001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1268280"/>
            <a:ext cx="8174160" cy="52599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del punto de operación e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sierra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evi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838080"/>
            <a:ext cx="8153640" cy="43380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de lesión o enfermedad grave que puede resultar en incapacidad temporal o daño a la propiedad , pero menos serio que en la clase “A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Piso resbal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dañado en  escal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76360" y="907920"/>
            <a:ext cx="6983280" cy="378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potencial  de lesiones o enfermedades leves (no incapacitantes), o daño a la propi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Carpintero sin guantes, manipula madera rús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d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ERDIDAS QUE PUED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c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87680" y="1483200"/>
            <a:ext cx="676440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9960" y="608760"/>
            <a:ext cx="4245120" cy="70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CONTROL DE PERD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UN NUEVO ENFOQUE DE LA SEGUR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828800"/>
            <a:ext cx="533160" cy="533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9840" y="1904400"/>
            <a:ext cx="6064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COMPROMETIDO CON LOS OBJETIVOS GEN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438280"/>
            <a:ext cx="533160" cy="533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124080"/>
            <a:ext cx="533160" cy="5335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733920"/>
            <a:ext cx="533160" cy="5331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343400"/>
            <a:ext cx="533160" cy="5335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5029200"/>
            <a:ext cx="533160" cy="5335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2590200"/>
            <a:ext cx="437184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DE AMPLIA COBETURA DE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9040" y="3276000"/>
            <a:ext cx="37605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CTUA EN BASE A UN SIST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8320" y="3885480"/>
            <a:ext cx="5133600" cy="368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INTEGRADO AL PROCESO DE PRODU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7240" y="4419000"/>
            <a:ext cx="6570720" cy="368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ORIENTADO A MEJORAR EL CONTROL ADMINISTR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7600" y="5180760"/>
            <a:ext cx="5261760" cy="368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BASA LOS RESULTADOS EN EL DESEMP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23" name="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32" name="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43" name="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50" name="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57" name="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64" name="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71" name="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78" name="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82" name="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/>
              <a:ahLst/>
              <a:rect l="l" t="t" r="r" b="b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87" name="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302" name="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311" name="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26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30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34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38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50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51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79" name="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96560" y="2437200"/>
            <a:ext cx="1101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AÑ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0160" y="2437200"/>
            <a:ext cx="1495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E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63760" y="379800"/>
            <a:ext cx="41065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ISPOSICIONES LEG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480" y="1676520"/>
            <a:ext cx="533520" cy="5331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6120" y="1775880"/>
            <a:ext cx="802440" cy="37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87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89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0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1702800"/>
            <a:ext cx="2097000" cy="37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INGLATER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INGLATER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960" y="1631160"/>
            <a:ext cx="5254200" cy="4115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a ley sobr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a ley sobr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omisión Gobierno de Ont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Compensación de Wiscons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 Congreso de Seguridad N.S.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Departamento del trabaj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Se organiza la AA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a Apai reconocida por le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OSHA Occupational Safety and Heal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A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02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06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10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14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26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27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55" name="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78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82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86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90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02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03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31" name="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90920" y="3254400"/>
            <a:ext cx="615780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 bajo los niveles que se han establecido como correctos o que se aceptan como ta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200040" y="76104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INSEG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761040"/>
            <a:ext cx="23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UBESTA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2320" y="1650960"/>
            <a:ext cx="601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sin autoriz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llamar la atención o asegur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a una velocidad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Poner fuera de servicio los dispositivos de segur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quipo defectuo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l equipo incorr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usar el equipo de Protección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argar o ubicar incorrect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Levantar en forma incor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Adoptar una posición incor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Efectuar mantención a equipo en mov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Hacer bro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onsumir drogas o be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609480"/>
            <a:ext cx="6400800" cy="5334120"/>
          </a:xfrm>
          <a:custGeom>
            <a:avLst/>
            <a:gdLst/>
            <a:ahLst/>
            <a:rect l="l" t="t" r="r" b="b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49" name="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/>
              <a:ahLst/>
              <a:rect l="l" t="t" r="r" b="b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80880" y="1752480"/>
            <a:ext cx="8229600" cy="48488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quipos en m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Materiales defectu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Peligros de incendios y explo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Gases, polvos, Humos, vapores, sobre el L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uido exc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Iluminación o ventilación inadecu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adi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Desorden y desa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esguardos y protecciones inadecu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Con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Señalizaciones inadecuadas o insufic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59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63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67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71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83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12" name="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2496960"/>
            <a:ext cx="570384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PERS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DE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23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27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31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35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47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48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76" name="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689" name="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693" name="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697" name="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01" name="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05" name="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925920" y="533520"/>
            <a:ext cx="71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NCIPIO DE LAS CARACTERÍSTIC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U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332000" y="243684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El desempeño pasado de una organización tiende a delinear s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ísticas fu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619280" y="2289240"/>
            <a:ext cx="626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Si quiere crear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enemigos trate 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cambiar al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85440" y="1065600"/>
            <a:ext cx="19393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y  en 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50840" y="278352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2444760"/>
            <a:ext cx="58341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3.170 Sobre Responsabilidad Patr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4.055 Aumenta 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16.744 de Segur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176120" y="2176560"/>
            <a:ext cx="652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s posible tomar una dec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ógica y acertada, sólo cua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e ha identificado primeram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 problema básico o r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58480" y="60804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INCIPIO DE LA DEFIN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1335240" y="2181240"/>
            <a:ext cx="7340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uanto más se aparte un cambio planificado, de las formas aceptadas en el pasado, mayor será la resistencia probablemente de la gente involucrada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34160" y="6192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INCIPIO DE LA RESISTENCIA A LOS CAM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2200680" y="2176560"/>
            <a:ext cx="4490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Los problemas y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ccidentes casi nun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son el resultad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a sola cau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23400" y="60804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INCIPIO DE LAS CAUSAS MULT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2212560" y="2130480"/>
            <a:ext cx="4470840" cy="3018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n cualquier grup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ocurrencias,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equeño númer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ausas influirá en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mayor proporción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los resul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90440" y="474840"/>
            <a:ext cx="66852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INCIPIO DE  LOS POCOS CRI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753" name="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5996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Times New Roman"/>
                </a:rPr>
                <a:t>LAS TRES ETAPAS DEL CONTR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756" name="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757" name="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761" name="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765" name="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769" name="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773" name="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PRE - 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POST - 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810" name="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821" name="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38" name="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839" name="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840" name="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79880" y="2360520"/>
            <a:ext cx="570060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858" name="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993600" y="2739960"/>
            <a:ext cx="69854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 (Si Es I.P. Gener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RNIR EL MOMENTO DE LA INSPEC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68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2440440" y="227160"/>
            <a:ext cx="3785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LISTA DE VER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89600" y="1293480"/>
            <a:ext cx="4149000" cy="44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77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492120" y="410040"/>
            <a:ext cx="77292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527480" y="1140840"/>
            <a:ext cx="5096880" cy="53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LIMENTACION ELEC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ONTROL DE MARCHA Y PA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ISTEMA D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UNTOS DE OPE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NTENIMIENTO DE PARTES VI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86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464400" y="1687320"/>
            <a:ext cx="6918120" cy="405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UBRIR TODO EL SECTOR O I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USAR LISTAS DE VERIF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USCAR “LO QUE NO SALTA A LA VIST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GISTRAR TODAS LAS DEFICIENCIAS DETECT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TUAR INMEDIATAMENTE ANTE PELIGROS SE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USCAR SIEMPRE LAS CAUSAS BASICAS PARA C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ELIGRO DETEC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35268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897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456480" y="1992600"/>
            <a:ext cx="7560000" cy="344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 (Pelig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08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NFORME RESUMEN AL NIVEL SUP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25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116000" y="22050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1210320" y="1522800"/>
            <a:ext cx="690300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36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657600" y="2781360"/>
            <a:ext cx="1143000" cy="571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635280" y="4076640"/>
            <a:ext cx="1143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48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962" name="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292720" y="2895480"/>
            <a:ext cx="422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92720" y="4191120"/>
            <a:ext cx="422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076720" y="5734080"/>
            <a:ext cx="4730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984" name="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999" name="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ánd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042920" y="270828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aller de identificación de riesg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892160" y="1241280"/>
            <a:ext cx="6448680" cy="5578200"/>
            <a:chOff x="1892160" y="1241280"/>
            <a:chExt cx="6448680" cy="5578200"/>
          </a:xfrm>
        </p:grpSpPr>
        <p:sp>
          <p:nvSpPr>
            <p:cNvPr id="1027" name=""/>
            <p:cNvSpPr/>
            <p:nvPr/>
          </p:nvSpPr>
          <p:spPr>
            <a:xfrm>
              <a:off x="1892160" y="1241280"/>
              <a:ext cx="6448680" cy="5578200"/>
            </a:xfrm>
            <a:custGeom>
              <a:avLst/>
              <a:gdLst>
                <a:gd name="textAreaLeft" fmla="*/ 329760 w 6448680"/>
                <a:gd name="textAreaRight" fmla="*/ 6118920 w 6448680"/>
                <a:gd name="textAreaTop" fmla="*/ 329760 h 5578200"/>
                <a:gd name="textAreaBottom" fmla="*/ 5248440 h 5578200"/>
              </a:gdLst>
              <a:ahLst/>
              <a:rect l="textAreaLeft" t="textAreaTop" r="textAreaRight" b="textAreaBottom"/>
              <a:pathLst>
                <a:path w="24970" h="21600">
                  <a:moveTo>
                    <a:pt x="0" y="0"/>
                  </a:moveTo>
                  <a:lnTo>
                    <a:pt x="24970" y="0"/>
                  </a:lnTo>
                  <a:lnTo>
                    <a:pt x="24970" y="21600"/>
                  </a:lnTo>
                  <a:lnTo>
                    <a:pt x="0" y="21600"/>
                  </a:lnTo>
                  <a:close/>
                </a:path>
                <a:path fill="lightenLess" w="24970" h="21600">
                  <a:moveTo>
                    <a:pt x="0" y="0"/>
                  </a:moveTo>
                  <a:lnTo>
                    <a:pt x="24970" y="0"/>
                  </a:lnTo>
                  <a:lnTo>
                    <a:pt x="23694" y="1277"/>
                  </a:lnTo>
                  <a:lnTo>
                    <a:pt x="1277" y="1277"/>
                  </a:lnTo>
                  <a:close/>
                </a:path>
                <a:path fill="darken" w="24970" h="21600">
                  <a:moveTo>
                    <a:pt x="24970" y="0"/>
                  </a:moveTo>
                  <a:lnTo>
                    <a:pt x="24970" y="21600"/>
                  </a:lnTo>
                  <a:lnTo>
                    <a:pt x="23694" y="20323"/>
                  </a:lnTo>
                  <a:lnTo>
                    <a:pt x="23694" y="1277"/>
                  </a:lnTo>
                  <a:close/>
                </a:path>
                <a:path fill="darkenLess" w="24970" h="21600">
                  <a:moveTo>
                    <a:pt x="24970" y="21600"/>
                  </a:moveTo>
                  <a:lnTo>
                    <a:pt x="0" y="21600"/>
                  </a:lnTo>
                  <a:lnTo>
                    <a:pt x="1277" y="20323"/>
                  </a:lnTo>
                  <a:lnTo>
                    <a:pt x="23694" y="20323"/>
                  </a:lnTo>
                  <a:close/>
                </a:path>
                <a:path fill="lighten" w="24970" h="21600">
                  <a:moveTo>
                    <a:pt x="0" y="21600"/>
                  </a:moveTo>
                  <a:lnTo>
                    <a:pt x="0" y="0"/>
                  </a:lnTo>
                  <a:lnTo>
                    <a:pt x="1277" y="1277"/>
                  </a:lnTo>
                  <a:lnTo>
                    <a:pt x="1277" y="20323"/>
                  </a:lnTo>
                  <a:close/>
                </a:path>
              </a:pathLst>
            </a:custGeom>
            <a:solidFill>
              <a:srgbClr val="f8f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84320" y="1521720"/>
              <a:ext cx="446436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31320" y="1462320"/>
              <a:ext cx="3024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Tipos de Accidente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74760" y="2014560"/>
              <a:ext cx="593100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aídas del mismo ni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aídas de distinto ni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Golpeado por/con/contra objetos o estructu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Atrapamiento en máquinas, materiales o instalacio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objetos cort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objetos punz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fuego/objetos/líquidos calientes/productos químic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Sobreesfuerzo por peso excesivo/movimiento brusco/movimiento repetitivo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Atropellamiento o cho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electricid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6000" y="1298520"/>
            <a:ext cx="8680320" cy="5083200"/>
          </a:xfrm>
          <a:custGeom>
            <a:avLst/>
            <a:gdLst>
              <a:gd name="textAreaLeft" fmla="*/ 300240 w 8680320"/>
              <a:gd name="textAreaRight" fmla="*/ 8380080 w 8680320"/>
              <a:gd name="textAreaTop" fmla="*/ 300240 h 5083200"/>
              <a:gd name="textAreaBottom" fmla="*/ 4782960 h 5083200"/>
            </a:gdLst>
            <a:ahLst/>
            <a:rect l="textAreaLeft" t="textAreaTop" r="textAreaRight" b="textAreaBottom"/>
            <a:pathLst>
              <a:path w="36884" h="21600">
                <a:moveTo>
                  <a:pt x="0" y="0"/>
                </a:moveTo>
                <a:lnTo>
                  <a:pt x="36884" y="0"/>
                </a:lnTo>
                <a:lnTo>
                  <a:pt x="36884" y="21600"/>
                </a:lnTo>
                <a:lnTo>
                  <a:pt x="0" y="21600"/>
                </a:lnTo>
                <a:close/>
              </a:path>
              <a:path fill="lightenLess" w="36884" h="21600">
                <a:moveTo>
                  <a:pt x="0" y="0"/>
                </a:moveTo>
                <a:lnTo>
                  <a:pt x="36884" y="0"/>
                </a:lnTo>
                <a:lnTo>
                  <a:pt x="35607" y="1277"/>
                </a:lnTo>
                <a:lnTo>
                  <a:pt x="1277" y="1277"/>
                </a:lnTo>
                <a:close/>
              </a:path>
              <a:path fill="darken" w="36884" h="21600">
                <a:moveTo>
                  <a:pt x="36884" y="0"/>
                </a:moveTo>
                <a:lnTo>
                  <a:pt x="36884" y="21600"/>
                </a:lnTo>
                <a:lnTo>
                  <a:pt x="35607" y="20323"/>
                </a:lnTo>
                <a:lnTo>
                  <a:pt x="35607" y="1277"/>
                </a:lnTo>
                <a:close/>
              </a:path>
              <a:path fill="darkenLess" w="36884" h="21600">
                <a:moveTo>
                  <a:pt x="36884" y="21600"/>
                </a:moveTo>
                <a:lnTo>
                  <a:pt x="0" y="21600"/>
                </a:lnTo>
                <a:lnTo>
                  <a:pt x="1277" y="20323"/>
                </a:lnTo>
                <a:lnTo>
                  <a:pt x="35607" y="20323"/>
                </a:lnTo>
                <a:close/>
              </a:path>
              <a:path fill="lighten" w="36884" h="21600">
                <a:moveTo>
                  <a:pt x="0" y="21600"/>
                </a:moveTo>
                <a:lnTo>
                  <a:pt x="0" y="0"/>
                </a:lnTo>
                <a:lnTo>
                  <a:pt x="1277" y="1277"/>
                </a:lnTo>
                <a:lnTo>
                  <a:pt x="1277" y="20323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43120" y="174456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433880" y="1690560"/>
            <a:ext cx="2504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Riesgo asoci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5320" y="2079720"/>
            <a:ext cx="465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aídas del mismo ni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aídas de distinto ni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Golpeado por/con/contra objetos o estructu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trapamiento en máquinas, materiales o instal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objetos cort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objetos punz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fuego/objetos/líquidos cal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obreesfuerzo por peso excesivo/movimiento brusco/movimiento repetitiv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tropellamiento o cho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electri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957920" y="176364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23280" y="1709640"/>
            <a:ext cx="2165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064120" y="2174760"/>
            <a:ext cx="383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u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Her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Fractu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Mu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mpu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nfermedades infectocontagio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Quemaduras de distinto g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Lesiones a la espal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sgui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Tendin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hock eléc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35080" y="1488960"/>
            <a:ext cx="8623080" cy="5083200"/>
          </a:xfrm>
          <a:custGeom>
            <a:avLst/>
            <a:gdLst>
              <a:gd name="textAreaLeft" fmla="*/ 300240 w 8623080"/>
              <a:gd name="textAreaRight" fmla="*/ 8322840 w 8623080"/>
              <a:gd name="textAreaTop" fmla="*/ 300240 h 5083200"/>
              <a:gd name="textAreaBottom" fmla="*/ 4782960 h 5083200"/>
            </a:gdLst>
            <a:ahLst/>
            <a:rect l="textAreaLeft" t="textAreaTop" r="textAreaRight" b="textAreaBottom"/>
            <a:pathLst>
              <a:path w="36641" h="21600">
                <a:moveTo>
                  <a:pt x="0" y="0"/>
                </a:moveTo>
                <a:lnTo>
                  <a:pt x="36641" y="0"/>
                </a:lnTo>
                <a:lnTo>
                  <a:pt x="36641" y="21600"/>
                </a:lnTo>
                <a:lnTo>
                  <a:pt x="0" y="21600"/>
                </a:lnTo>
                <a:close/>
              </a:path>
              <a:path fill="lightenLess" w="36641" h="21600">
                <a:moveTo>
                  <a:pt x="0" y="0"/>
                </a:moveTo>
                <a:lnTo>
                  <a:pt x="36641" y="0"/>
                </a:lnTo>
                <a:lnTo>
                  <a:pt x="35364" y="1277"/>
                </a:lnTo>
                <a:lnTo>
                  <a:pt x="1277" y="1277"/>
                </a:lnTo>
                <a:close/>
              </a:path>
              <a:path fill="darken" w="36641" h="21600">
                <a:moveTo>
                  <a:pt x="36641" y="0"/>
                </a:moveTo>
                <a:lnTo>
                  <a:pt x="36641" y="21600"/>
                </a:lnTo>
                <a:lnTo>
                  <a:pt x="35364" y="20323"/>
                </a:lnTo>
                <a:lnTo>
                  <a:pt x="35364" y="1277"/>
                </a:lnTo>
                <a:close/>
              </a:path>
              <a:path fill="darkenLess" w="36641" h="21600">
                <a:moveTo>
                  <a:pt x="36641" y="21600"/>
                </a:moveTo>
                <a:lnTo>
                  <a:pt x="0" y="21600"/>
                </a:lnTo>
                <a:lnTo>
                  <a:pt x="1277" y="20323"/>
                </a:lnTo>
                <a:lnTo>
                  <a:pt x="35364" y="20323"/>
                </a:lnTo>
                <a:close/>
              </a:path>
              <a:path fill="lighten" w="36641" h="21600">
                <a:moveTo>
                  <a:pt x="0" y="21600"/>
                </a:moveTo>
                <a:lnTo>
                  <a:pt x="0" y="0"/>
                </a:lnTo>
                <a:lnTo>
                  <a:pt x="1277" y="1277"/>
                </a:lnTo>
                <a:lnTo>
                  <a:pt x="1277" y="20323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43120" y="174456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54680" y="167148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Riesgo Asoci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5320" y="2308320"/>
            <a:ext cx="446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ru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solv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Demora en la evacuación en caso de una emergenc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cend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lapso estructural en caso de sismo o terremo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humo de cigar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sumo de alimentos en mal es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957920" y="176364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723280" y="1709640"/>
            <a:ext cx="2165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064120" y="2289240"/>
            <a:ext cx="335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ord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Daño Orgánico Cereb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usiones, heridas, fracturas, Mue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Quemaduras de distinto grado, mue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án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toxicación, mu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828800"/>
            <a:ext cx="8001000" cy="3764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2468520" y="2470320"/>
            <a:ext cx="5475240" cy="2205000"/>
          </a:xfrm>
          <a:prstGeom prst="rect">
            <a:avLst/>
          </a:prstGeom>
          <a:solidFill>
            <a:srgbClr val="fbf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65280" y="1176480"/>
            <a:ext cx="7121520" cy="53316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EVALUACIO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82800" y="2778120"/>
            <a:ext cx="500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Probabilidad de ocurrenc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4724280" y="3705120"/>
            <a:ext cx="4114800" cy="198144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0" y="5867280"/>
            <a:ext cx="9143640" cy="533520"/>
            <a:chOff x="0" y="5867280"/>
            <a:chExt cx="9143640" cy="533520"/>
          </a:xfrm>
        </p:grpSpPr>
        <p:sp>
          <p:nvSpPr>
            <p:cNvPr id="1052" name=""/>
            <p:cNvSpPr/>
            <p:nvPr/>
          </p:nvSpPr>
          <p:spPr>
            <a:xfrm>
              <a:off x="0" y="6400800"/>
              <a:ext cx="1023840" cy="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23840" y="5867280"/>
              <a:ext cx="8119800" cy="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1023840" y="5867280"/>
              <a:ext cx="0" cy="53352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867560" cy="10000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62160" cy="3049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3"/>
          <a:stretch/>
        </p:blipFill>
        <p:spPr>
          <a:xfrm>
            <a:off x="1104840" y="2743200"/>
            <a:ext cx="3124440" cy="32544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4"/>
          <a:stretch/>
        </p:blipFill>
        <p:spPr>
          <a:xfrm>
            <a:off x="1104840" y="3352680"/>
            <a:ext cx="3159360" cy="165096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5"/>
          <a:stretch/>
        </p:blipFill>
        <p:spPr>
          <a:xfrm>
            <a:off x="4705200" y="3352680"/>
            <a:ext cx="4133880" cy="233388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1523880" y="457200"/>
            <a:ext cx="7121520" cy="5335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CÁLCULO DE LA MAGNITUD DE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03640" y="206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5800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 x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064" name="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Verdana"/>
              </a:rPr>
              <a:t>PROB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071" name="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076" name="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Verdana"/>
              </a:rPr>
              <a:t>PROB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083" name="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2322360" y="1573200"/>
            <a:ext cx="5720040" cy="4848120"/>
            <a:chOff x="2322360" y="1573200"/>
            <a:chExt cx="5720040" cy="4848120"/>
          </a:xfrm>
        </p:grpSpPr>
        <p:grpSp>
          <p:nvGrpSpPr>
            <p:cNvPr id="1088" name=""/>
            <p:cNvGrpSpPr/>
            <p:nvPr/>
          </p:nvGrpSpPr>
          <p:grpSpPr>
            <a:xfrm>
              <a:off x="2322360" y="1573200"/>
              <a:ext cx="5719680" cy="1162080"/>
              <a:chOff x="2322360" y="1573200"/>
              <a:chExt cx="5719680" cy="1162080"/>
            </a:xfrm>
          </p:grpSpPr>
          <p:sp>
            <p:nvSpPr>
              <p:cNvPr id="1089" name=""/>
              <p:cNvSpPr/>
              <p:nvPr/>
            </p:nvSpPr>
            <p:spPr>
              <a:xfrm>
                <a:off x="2322360" y="1573200"/>
                <a:ext cx="137448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6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769920" y="1573200"/>
                <a:ext cx="137484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217840" y="157320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667560" y="157320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2322360" y="2800440"/>
              <a:ext cx="5719680" cy="1162080"/>
              <a:chOff x="2322360" y="2800440"/>
              <a:chExt cx="5719680" cy="1162080"/>
            </a:xfrm>
          </p:grpSpPr>
          <p:sp>
            <p:nvSpPr>
              <p:cNvPr id="1094" name=""/>
              <p:cNvSpPr/>
              <p:nvPr/>
            </p:nvSpPr>
            <p:spPr>
              <a:xfrm>
                <a:off x="2322360" y="2800440"/>
                <a:ext cx="1374480" cy="11620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769920" y="280044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17840" y="280044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667560" y="2800440"/>
                <a:ext cx="137448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2322360" y="4032360"/>
              <a:ext cx="5719680" cy="1162080"/>
              <a:chOff x="2322360" y="4032360"/>
              <a:chExt cx="5719680" cy="1162080"/>
            </a:xfrm>
          </p:grpSpPr>
          <p:sp>
            <p:nvSpPr>
              <p:cNvPr id="1099" name=""/>
              <p:cNvSpPr/>
              <p:nvPr/>
            </p:nvSpPr>
            <p:spPr>
              <a:xfrm>
                <a:off x="2322360" y="4032360"/>
                <a:ext cx="137448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69920" y="403236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17840" y="403236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667560" y="4032360"/>
                <a:ext cx="137448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2322360" y="5259240"/>
              <a:ext cx="5719680" cy="1162080"/>
              <a:chOff x="2322360" y="5259240"/>
              <a:chExt cx="5719680" cy="1162080"/>
            </a:xfrm>
          </p:grpSpPr>
          <p:sp>
            <p:nvSpPr>
              <p:cNvPr id="1104" name=""/>
              <p:cNvSpPr/>
              <p:nvPr/>
            </p:nvSpPr>
            <p:spPr>
              <a:xfrm>
                <a:off x="2322360" y="525924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769920" y="525924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1784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66720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2322360" y="1573200"/>
              <a:ext cx="1374840" cy="116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6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IN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70280" y="157320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218200" y="157320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667560" y="15732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70280" y="280044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1820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66756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322360" y="403236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7028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21820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667560" y="403236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32236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7028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21820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66756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22360" y="279252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22360" y="403848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18200" y="158112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22360" y="52578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7028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665760" y="158112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72080" y="5257800"/>
              <a:ext cx="137448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21964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66756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1964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0" y="1352520"/>
            <a:ext cx="91440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32000" y="260280"/>
            <a:ext cx="7121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 Black"/>
              </a:rPr>
              <a:t>TRABAJO EN GRUP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154080" y="1442880"/>
            <a:ext cx="8837640" cy="2562480"/>
            <a:chOff x="154080" y="1442880"/>
            <a:chExt cx="8837640" cy="2562480"/>
          </a:xfrm>
        </p:grpSpPr>
        <p:grpSp>
          <p:nvGrpSpPr>
            <p:cNvPr id="1136" name=""/>
            <p:cNvGrpSpPr/>
            <p:nvPr/>
          </p:nvGrpSpPr>
          <p:grpSpPr>
            <a:xfrm>
              <a:off x="158760" y="1446840"/>
              <a:ext cx="8827920" cy="2553480"/>
              <a:chOff x="158760" y="1446840"/>
              <a:chExt cx="8827920" cy="255348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158760" y="1446840"/>
                <a:ext cx="1003320" cy="806400"/>
                <a:chOff x="158760" y="1446840"/>
                <a:chExt cx="1003320" cy="8064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158760" y="1446840"/>
                  <a:ext cx="100332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9" name=""/>
                <p:cNvGrpSpPr/>
                <p:nvPr/>
              </p:nvGrpSpPr>
              <p:grpSpPr>
                <a:xfrm>
                  <a:off x="158760" y="1446840"/>
                  <a:ext cx="1003320" cy="806400"/>
                  <a:chOff x="158760" y="1446840"/>
                  <a:chExt cx="1003320" cy="806400"/>
                </a:xfrm>
              </p:grpSpPr>
              <p:sp>
                <p:nvSpPr>
                  <p:cNvPr id="1140" name=""/>
                  <p:cNvSpPr/>
                  <p:nvPr/>
                </p:nvSpPr>
                <p:spPr>
                  <a:xfrm>
                    <a:off x="203040" y="1446840"/>
                    <a:ext cx="9144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Lugar 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58760" y="1446840"/>
                    <a:ext cx="100332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2" name=""/>
              <p:cNvGrpSpPr/>
              <p:nvPr/>
            </p:nvGrpSpPr>
            <p:grpSpPr>
              <a:xfrm>
                <a:off x="1162080" y="1446840"/>
                <a:ext cx="1003320" cy="806400"/>
                <a:chOff x="1162080" y="1446840"/>
                <a:chExt cx="1003320" cy="80640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162080" y="1446840"/>
                  <a:ext cx="100332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4" name=""/>
                <p:cNvGrpSpPr/>
                <p:nvPr/>
              </p:nvGrpSpPr>
              <p:grpSpPr>
                <a:xfrm>
                  <a:off x="1162080" y="1446840"/>
                  <a:ext cx="1003320" cy="806400"/>
                  <a:chOff x="1162080" y="1446840"/>
                  <a:chExt cx="1003320" cy="80640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1206360" y="1446840"/>
                    <a:ext cx="9144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ondición de Riesgo detectad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1162080" y="1446840"/>
                    <a:ext cx="100332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7" name=""/>
              <p:cNvGrpSpPr/>
              <p:nvPr/>
            </p:nvGrpSpPr>
            <p:grpSpPr>
              <a:xfrm>
                <a:off x="2165400" y="1446840"/>
                <a:ext cx="995400" cy="806400"/>
                <a:chOff x="2165400" y="1446840"/>
                <a:chExt cx="995400" cy="80640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2165400" y="1446840"/>
                  <a:ext cx="9954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9" name=""/>
                <p:cNvGrpSpPr/>
                <p:nvPr/>
              </p:nvGrpSpPr>
              <p:grpSpPr>
                <a:xfrm>
                  <a:off x="2165400" y="1446840"/>
                  <a:ext cx="995400" cy="806400"/>
                  <a:chOff x="2165400" y="1446840"/>
                  <a:chExt cx="995400" cy="80640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>
                    <a:off x="2209680" y="1446840"/>
                    <a:ext cx="90648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Riesgo Asociad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165400" y="1446840"/>
                    <a:ext cx="9954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2" name=""/>
              <p:cNvGrpSpPr/>
              <p:nvPr/>
            </p:nvGrpSpPr>
            <p:grpSpPr>
              <a:xfrm>
                <a:off x="3160800" y="1446840"/>
                <a:ext cx="1187280" cy="806400"/>
                <a:chOff x="3160800" y="1446840"/>
                <a:chExt cx="1187280" cy="8064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3160800" y="1446840"/>
                  <a:ext cx="118728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3160800" y="1446840"/>
                  <a:ext cx="1187280" cy="806400"/>
                  <a:chOff x="3160800" y="1446840"/>
                  <a:chExt cx="1187280" cy="80640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3205080" y="1446840"/>
                    <a:ext cx="109872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onsecuenci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160800" y="1446840"/>
                    <a:ext cx="118728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7" name=""/>
              <p:cNvGrpSpPr/>
              <p:nvPr/>
            </p:nvGrpSpPr>
            <p:grpSpPr>
              <a:xfrm>
                <a:off x="4348080" y="1446840"/>
                <a:ext cx="1187640" cy="806400"/>
                <a:chOff x="4348080" y="1446840"/>
                <a:chExt cx="1187640" cy="80640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4348080" y="1446840"/>
                  <a:ext cx="118764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4348080" y="1446840"/>
                  <a:ext cx="1187640" cy="806400"/>
                  <a:chOff x="4348080" y="1446840"/>
                  <a:chExt cx="1187640" cy="80640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4392720" y="1446840"/>
                    <a:ext cx="109836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agnitud de Riesg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348080" y="1446840"/>
                    <a:ext cx="118764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5535720" y="1446840"/>
                <a:ext cx="1101600" cy="806400"/>
                <a:chOff x="5535720" y="1446840"/>
                <a:chExt cx="1101600" cy="80640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5535720" y="1446840"/>
                  <a:ext cx="11016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5535720" y="1446840"/>
                  <a:ext cx="1101600" cy="806400"/>
                  <a:chOff x="5535720" y="1446840"/>
                  <a:chExt cx="1101600" cy="80640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5580000" y="1446840"/>
                    <a:ext cx="101304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edidas de Control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535720" y="1446840"/>
                    <a:ext cx="11016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7" name=""/>
              <p:cNvGrpSpPr/>
              <p:nvPr/>
            </p:nvGrpSpPr>
            <p:grpSpPr>
              <a:xfrm>
                <a:off x="6637320" y="1446840"/>
                <a:ext cx="1117800" cy="806400"/>
                <a:chOff x="6637320" y="1446840"/>
                <a:chExt cx="1117800" cy="80640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6637320" y="1446840"/>
                  <a:ext cx="11178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9" name=""/>
                <p:cNvGrpSpPr/>
                <p:nvPr/>
              </p:nvGrpSpPr>
              <p:grpSpPr>
                <a:xfrm>
                  <a:off x="6637320" y="1446840"/>
                  <a:ext cx="1117800" cy="806400"/>
                  <a:chOff x="6637320" y="1446840"/>
                  <a:chExt cx="1117800" cy="80640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6681960" y="1446840"/>
                    <a:ext cx="102852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Responsable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6637320" y="1446840"/>
                    <a:ext cx="11178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2" name=""/>
              <p:cNvGrpSpPr/>
              <p:nvPr/>
            </p:nvGrpSpPr>
            <p:grpSpPr>
              <a:xfrm>
                <a:off x="7755120" y="1446840"/>
                <a:ext cx="1231560" cy="806400"/>
                <a:chOff x="7755120" y="1446840"/>
                <a:chExt cx="1231560" cy="80640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7755120" y="1446840"/>
                  <a:ext cx="123156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4" name=""/>
                <p:cNvGrpSpPr/>
                <p:nvPr/>
              </p:nvGrpSpPr>
              <p:grpSpPr>
                <a:xfrm>
                  <a:off x="7755120" y="1446840"/>
                  <a:ext cx="1231560" cy="806400"/>
                  <a:chOff x="7755120" y="1446840"/>
                  <a:chExt cx="1231560" cy="80640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7799400" y="1446840"/>
                    <a:ext cx="11430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lazo de Cumplimient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7755120" y="1446840"/>
                    <a:ext cx="123156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7" name=""/>
              <p:cNvGrpSpPr/>
              <p:nvPr/>
            </p:nvGrpSpPr>
            <p:grpSpPr>
              <a:xfrm>
                <a:off x="158760" y="2253240"/>
                <a:ext cx="1003320" cy="1747080"/>
                <a:chOff x="158760" y="2253240"/>
                <a:chExt cx="1003320" cy="174708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158760" y="2253240"/>
                  <a:ext cx="100332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9" name=""/>
                <p:cNvGrpSpPr/>
                <p:nvPr/>
              </p:nvGrpSpPr>
              <p:grpSpPr>
                <a:xfrm>
                  <a:off x="158760" y="2253240"/>
                  <a:ext cx="1003320" cy="1747080"/>
                  <a:chOff x="158760" y="2253240"/>
                  <a:chExt cx="1003320" cy="1747080"/>
                </a:xfrm>
              </p:grpSpPr>
              <p:sp>
                <p:nvSpPr>
                  <p:cNvPr id="1180" name=""/>
                  <p:cNvSpPr/>
                  <p:nvPr/>
                </p:nvSpPr>
                <p:spPr>
                  <a:xfrm>
                    <a:off x="203040" y="2253240"/>
                    <a:ext cx="9144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Plant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Sección o Dept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Máquina, lugar específico ó puesto de trabajo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200" spc="-1" strike="noStrike">
                        <a:solidFill>
                          <a:srgbClr val="3333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58760" y="2253240"/>
                    <a:ext cx="100332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2" name=""/>
              <p:cNvGrpSpPr/>
              <p:nvPr/>
            </p:nvGrpSpPr>
            <p:grpSpPr>
              <a:xfrm>
                <a:off x="1162080" y="2253240"/>
                <a:ext cx="1003320" cy="1747080"/>
                <a:chOff x="1162080" y="2253240"/>
                <a:chExt cx="1003320" cy="174708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1162080" y="2253240"/>
                  <a:ext cx="100332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1162080" y="2253240"/>
                  <a:ext cx="1003320" cy="1747080"/>
                  <a:chOff x="1162080" y="2253240"/>
                  <a:chExt cx="1003320" cy="17470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1206360" y="2253240"/>
                    <a:ext cx="9144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Acción o Condición Insegur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1162080" y="2253240"/>
                    <a:ext cx="100332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7" name=""/>
              <p:cNvGrpSpPr/>
              <p:nvPr/>
            </p:nvGrpSpPr>
            <p:grpSpPr>
              <a:xfrm>
                <a:off x="2165400" y="2253240"/>
                <a:ext cx="995400" cy="1747080"/>
                <a:chOff x="2165400" y="2253240"/>
                <a:chExt cx="995400" cy="174708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2165400" y="2253240"/>
                  <a:ext cx="9954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9" name=""/>
                <p:cNvGrpSpPr/>
                <p:nvPr/>
              </p:nvGrpSpPr>
              <p:grpSpPr>
                <a:xfrm>
                  <a:off x="2165400" y="2253240"/>
                  <a:ext cx="995400" cy="1747080"/>
                  <a:chOff x="2165400" y="2253240"/>
                  <a:chExt cx="995400" cy="174708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2209680" y="2253240"/>
                    <a:ext cx="90648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Tipo de accidente o riesgo generado por la condición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165400" y="2253240"/>
                    <a:ext cx="9954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2" name=""/>
              <p:cNvGrpSpPr/>
              <p:nvPr/>
            </p:nvGrpSpPr>
            <p:grpSpPr>
              <a:xfrm>
                <a:off x="3160800" y="2253240"/>
                <a:ext cx="1187280" cy="1747080"/>
                <a:chOff x="3160800" y="2253240"/>
                <a:chExt cx="1187280" cy="174708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3160800" y="2253240"/>
                  <a:ext cx="118728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4" name=""/>
                <p:cNvGrpSpPr/>
                <p:nvPr/>
              </p:nvGrpSpPr>
              <p:grpSpPr>
                <a:xfrm>
                  <a:off x="3160800" y="2253240"/>
                  <a:ext cx="1187280" cy="1747080"/>
                  <a:chOff x="3160800" y="2253240"/>
                  <a:chExt cx="1187280" cy="174708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>
                    <a:off x="3205080" y="2253240"/>
                    <a:ext cx="109872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Tipo de lesiones o enfermedades que la condición puede provocar, pérdidas o daños a la propiedad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160800" y="2253240"/>
                    <a:ext cx="118728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7" name=""/>
              <p:cNvGrpSpPr/>
              <p:nvPr/>
            </p:nvGrpSpPr>
            <p:grpSpPr>
              <a:xfrm>
                <a:off x="4348080" y="2253240"/>
                <a:ext cx="1187640" cy="1747080"/>
                <a:chOff x="4348080" y="2253240"/>
                <a:chExt cx="1187640" cy="17470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4348080" y="2253240"/>
                  <a:ext cx="118764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9" name=""/>
                <p:cNvGrpSpPr/>
                <p:nvPr/>
              </p:nvGrpSpPr>
              <p:grpSpPr>
                <a:xfrm>
                  <a:off x="4348080" y="2253240"/>
                  <a:ext cx="1187640" cy="1747080"/>
                  <a:chOff x="4348080" y="2253240"/>
                  <a:chExt cx="1187640" cy="174708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4392720" y="2253240"/>
                    <a:ext cx="109836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alcular de acuerdo a Criterio de Magnitud de Riesgo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4348080" y="2253240"/>
                    <a:ext cx="118764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2" name=""/>
              <p:cNvGrpSpPr/>
              <p:nvPr/>
            </p:nvGrpSpPr>
            <p:grpSpPr>
              <a:xfrm>
                <a:off x="5535720" y="2253240"/>
                <a:ext cx="1101600" cy="1747080"/>
                <a:chOff x="5535720" y="2253240"/>
                <a:chExt cx="1101600" cy="174708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5535720" y="2253240"/>
                  <a:ext cx="11016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4" name=""/>
                <p:cNvGrpSpPr/>
                <p:nvPr/>
              </p:nvGrpSpPr>
              <p:grpSpPr>
                <a:xfrm>
                  <a:off x="5535720" y="2253240"/>
                  <a:ext cx="1101600" cy="1747080"/>
                  <a:chOff x="5535720" y="2253240"/>
                  <a:chExt cx="1101600" cy="174708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5580000" y="2253240"/>
                    <a:ext cx="101304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edidas que evitarán que la condición de riesgo se mantenga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535720" y="2253240"/>
                    <a:ext cx="11016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7" name=""/>
              <p:cNvGrpSpPr/>
              <p:nvPr/>
            </p:nvGrpSpPr>
            <p:grpSpPr>
              <a:xfrm>
                <a:off x="6637320" y="2253240"/>
                <a:ext cx="1117800" cy="1747080"/>
                <a:chOff x="6637320" y="2253240"/>
                <a:chExt cx="1117800" cy="174708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6637320" y="2253240"/>
                  <a:ext cx="11178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9" name=""/>
                <p:cNvGrpSpPr/>
                <p:nvPr/>
              </p:nvGrpSpPr>
              <p:grpSpPr>
                <a:xfrm>
                  <a:off x="6637320" y="2253240"/>
                  <a:ext cx="1117800" cy="1747080"/>
                  <a:chOff x="6637320" y="2253240"/>
                  <a:chExt cx="1117800" cy="174708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6681960" y="2253240"/>
                    <a:ext cx="102852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ersona que se hará responsable de llevar a cabo la Medida de Control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6637320" y="2253240"/>
                    <a:ext cx="11178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2" name=""/>
              <p:cNvGrpSpPr/>
              <p:nvPr/>
            </p:nvGrpSpPr>
            <p:grpSpPr>
              <a:xfrm>
                <a:off x="7755120" y="2253240"/>
                <a:ext cx="1231560" cy="1747080"/>
                <a:chOff x="7755120" y="2253240"/>
                <a:chExt cx="1231560" cy="174708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7755120" y="2253240"/>
                  <a:ext cx="123156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4" name=""/>
                <p:cNvGrpSpPr/>
                <p:nvPr/>
              </p:nvGrpSpPr>
              <p:grpSpPr>
                <a:xfrm>
                  <a:off x="7755120" y="2253240"/>
                  <a:ext cx="1231560" cy="1747080"/>
                  <a:chOff x="7755120" y="2253240"/>
                  <a:chExt cx="1231560" cy="1747080"/>
                </a:xfrm>
              </p:grpSpPr>
              <p:sp>
                <p:nvSpPr>
                  <p:cNvPr id="1215" name=""/>
                  <p:cNvSpPr/>
                  <p:nvPr/>
                </p:nvSpPr>
                <p:spPr>
                  <a:xfrm>
                    <a:off x="7799400" y="2253240"/>
                    <a:ext cx="11430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lazo en el que la medida de control deberá estar implementada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7755120" y="2253240"/>
                    <a:ext cx="123156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17" name=""/>
            <p:cNvSpPr/>
            <p:nvPr/>
          </p:nvSpPr>
          <p:spPr>
            <a:xfrm>
              <a:off x="154080" y="1442880"/>
              <a:ext cx="8837640" cy="256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179280" y="4149720"/>
            <a:ext cx="8835840" cy="2295360"/>
            <a:chOff x="179280" y="4149720"/>
            <a:chExt cx="8835840" cy="2295360"/>
          </a:xfrm>
        </p:grpSpPr>
        <p:grpSp>
          <p:nvGrpSpPr>
            <p:cNvPr id="1219" name=""/>
            <p:cNvGrpSpPr/>
            <p:nvPr/>
          </p:nvGrpSpPr>
          <p:grpSpPr>
            <a:xfrm>
              <a:off x="183960" y="4154400"/>
              <a:ext cx="8826480" cy="2286000"/>
              <a:chOff x="183960" y="4154400"/>
              <a:chExt cx="8826480" cy="228600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183960" y="4154400"/>
                <a:ext cx="1003320" cy="1066680"/>
                <a:chOff x="183960" y="4154400"/>
                <a:chExt cx="1003320" cy="106668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28240" y="4154400"/>
                  <a:ext cx="91440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Bodega de.....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183960" y="4154400"/>
                  <a:ext cx="10033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187280" y="4154400"/>
                <a:ext cx="1052640" cy="1066680"/>
                <a:chOff x="1187280" y="4154400"/>
                <a:chExt cx="1052640" cy="106668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231560" y="4154400"/>
                  <a:ext cx="963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Trabajador no utiliza Calzado de Seguridad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187280" y="4154400"/>
                  <a:ext cx="10526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239920" y="4154400"/>
                <a:ext cx="1296720" cy="1066680"/>
                <a:chOff x="2239920" y="4154400"/>
                <a:chExt cx="1296720" cy="106668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284200" y="4154400"/>
                  <a:ext cx="12081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Caída de objetos, atropellamiento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239920" y="4154400"/>
                  <a:ext cx="12967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3536640" y="4154400"/>
                <a:ext cx="1117800" cy="1066680"/>
                <a:chOff x="3536640" y="4154400"/>
                <a:chExt cx="1117800" cy="106668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3581280" y="4154400"/>
                  <a:ext cx="1028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Contusiones, fractur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536640" y="4154400"/>
                  <a:ext cx="111780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4654440" y="4154400"/>
                <a:ext cx="888840" cy="1066680"/>
                <a:chOff x="4654440" y="4154400"/>
                <a:chExt cx="888840" cy="106668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4698720" y="4154400"/>
                  <a:ext cx="8002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654440" y="4154400"/>
                  <a:ext cx="8888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5543280" y="4154400"/>
                <a:ext cx="1117800" cy="1066680"/>
                <a:chOff x="5543280" y="4154400"/>
                <a:chExt cx="1117800" cy="10666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5587920" y="4154400"/>
                  <a:ext cx="1028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5543280" y="4154400"/>
                  <a:ext cx="111780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6661080" y="4154400"/>
                <a:ext cx="1117440" cy="1066680"/>
                <a:chOff x="6661080" y="4154400"/>
                <a:chExt cx="1117440" cy="106668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6705360" y="4154400"/>
                  <a:ext cx="10288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661080" y="4154400"/>
                  <a:ext cx="11174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7778520" y="4154400"/>
                <a:ext cx="1231920" cy="1066680"/>
                <a:chOff x="7778520" y="4154400"/>
                <a:chExt cx="1231920" cy="106668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7823160" y="4154400"/>
                  <a:ext cx="114300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7778520" y="4154400"/>
                  <a:ext cx="12319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83960" y="5221080"/>
                <a:ext cx="1003320" cy="1219320"/>
                <a:chOff x="183960" y="5221080"/>
                <a:chExt cx="1003320" cy="12193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228240" y="5221080"/>
                  <a:ext cx="9144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Pasillo sector...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83960" y="5221080"/>
                  <a:ext cx="10033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1187280" y="5221080"/>
                <a:ext cx="1052640" cy="1219320"/>
                <a:chOff x="1187280" y="5221080"/>
                <a:chExt cx="1052640" cy="1219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231560" y="5221080"/>
                  <a:ext cx="9637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Alfombra se encuentra suelta y deshilachada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187280" y="5221080"/>
                  <a:ext cx="10526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2239920" y="5221080"/>
                <a:ext cx="1296720" cy="1219320"/>
                <a:chOff x="2239920" y="5221080"/>
                <a:chExt cx="1296720" cy="121932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2284200" y="5221080"/>
                  <a:ext cx="12081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Sobreesfuerzos por movimiento brusco (torceduras), caíd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239920" y="5221080"/>
                  <a:ext cx="12967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3536640" y="5221080"/>
                <a:ext cx="1117800" cy="1219320"/>
                <a:chOff x="3536640" y="5221080"/>
                <a:chExt cx="1117800" cy="12193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3581280" y="5221080"/>
                  <a:ext cx="10285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Esguinces, contusiones, fractur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536640" y="5221080"/>
                  <a:ext cx="11178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4654440" y="5221080"/>
                <a:ext cx="888840" cy="1219320"/>
                <a:chOff x="4654440" y="5221080"/>
                <a:chExt cx="888840" cy="12193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4698720" y="5221080"/>
                  <a:ext cx="8002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654440" y="5221080"/>
                  <a:ext cx="8888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5543280" y="5221080"/>
                <a:ext cx="1117800" cy="1219320"/>
                <a:chOff x="5543280" y="5221080"/>
                <a:chExt cx="1117800" cy="121932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5587920" y="5221080"/>
                  <a:ext cx="10285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543280" y="5221080"/>
                  <a:ext cx="11178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661080" y="5221080"/>
                <a:ext cx="1117440" cy="1219320"/>
                <a:chOff x="6661080" y="5221080"/>
                <a:chExt cx="1117440" cy="12193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05360" y="5221080"/>
                  <a:ext cx="10288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661080" y="5221080"/>
                  <a:ext cx="11174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7778520" y="5221080"/>
                <a:ext cx="1231920" cy="1219320"/>
                <a:chOff x="7778520" y="5221080"/>
                <a:chExt cx="1231920" cy="121932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7823160" y="5221080"/>
                  <a:ext cx="11430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7778520" y="5221080"/>
                  <a:ext cx="12319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8" name=""/>
            <p:cNvSpPr/>
            <p:nvPr/>
          </p:nvSpPr>
          <p:spPr>
            <a:xfrm>
              <a:off x="179280" y="4149720"/>
              <a:ext cx="8835840" cy="2295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ff"/>
                </a:solidFill>
                <a:latin typeface="Arial Black"/>
              </a:rPr>
              <a:t>AREAS DE AT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65280" y="2006640"/>
            <a:ext cx="29671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rden y Limpieza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ción de Máquin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nstalaciones Eléctric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Herramientas Manua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perficies de Trabaj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stancias Inflamab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stancias Peligros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Gases a Presió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Pasillos de Tránsit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045040" y="2006640"/>
            <a:ext cx="364176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Áreas de Apilamiento de Materia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eñalizaciones y Vías de Escap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Áreas de Almacenamient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Equipos Motorizad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ervicios Higiénicos y Bañ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y Prevención de Incendi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luminació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s de Ventil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Equipos de Protección Personal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11720" y="2070360"/>
            <a:ext cx="3268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60160" y="2802240"/>
            <a:ext cx="5281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60160" y="3945240"/>
            <a:ext cx="5281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98960" y="5164200"/>
            <a:ext cx="7020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1720" y="380340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WinuE</cp:lastModifiedBy>
  <dcterms:modified xsi:type="dcterms:W3CDTF">2009-10-05T01:05:56Z</dcterms:modified>
  <cp:revision>24</cp:revision>
  <dc:subject/>
  <dc:title>Presentación de PowerPoint</dc:title>
</cp:coreProperties>
</file>