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742-03F2-46BE-A396-F5187505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178-E068-4310-A9F7-79C80153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FCB-8CC1-4191-B480-5AA0D371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0147-3AC5-454C-AA30-9FF1DE8F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46C2-35D1-4CD6-B132-D4905752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2DAC-BE71-4C23-9998-700BA1EC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09B7-10E6-4B4B-9AD5-9F8679D1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2647-65D6-45C8-927F-353C5938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0968-9CAD-4DF8-8F36-4F74E944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72BC-7EED-4614-B563-0A5B35C6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B147-5C14-4B12-861D-24949A70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4B6C-3FAC-435D-8601-1D7DDC03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39BF-488E-4860-A9C5-F42F1755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5FB2-B461-458F-9A98-D9C98D13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7250-6299-4C2E-A6F9-9AF0C01D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C8A0-5CAC-41CF-B99F-82830BF7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9F35-BF3C-4EDF-97E5-239A408E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857D-BECB-49C0-91AE-F273B496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4BF-D609-4A28-969B-22113CD0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F07-ADCA-460B-8975-B3E132B2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F47-EA77-412E-9BD8-69117F80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245-6FB0-4132-9C97-FA78A686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2741-DDE9-4529-A9C8-BC8803D9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5D7-A436-4771-B092-9DFF3156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DFEE-FF0D-4776-AC92-B6C952303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6FC9-E871-441B-9972-4EFDC5118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3880" y="3073320"/>
            <a:ext cx="6096240" cy="703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1268280"/>
            <a:ext cx="8174160" cy="52599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Arial"/>
              </a:rPr>
              <a:t>METODO PARA CLASIFICAR EL PELIG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A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AL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con un potencial de incapacidad permanente, pérdida de la vida o parte del cuerpo, pérdida extensa de la estructura, equipo o mater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Falta de protección del punto de operación e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sierra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Trabajar en cámara profunda, sin ventilar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revi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838080"/>
            <a:ext cx="8153640" cy="43380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M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MED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destructivo con un potencial de lesión o enfermedad grave que puede resultar en incapacidad temporal o daño a la propiedad , pero menos serio que en la clase “A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Piso resbalo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Peldaño dañado en  escal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76360" y="907920"/>
            <a:ext cx="6983280" cy="378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B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BAJ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(no destructivo), con un potencial  de lesiones o enfermedades leves (no incapacitantes), o daño a la propie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Carpintero sin guantes, manipula madera rúst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228946" dir="52107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7200" y="3199320"/>
            <a:ext cx="807732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33"/>
              </a:gs>
              <a:gs pos="100000">
                <a:srgbClr val="dd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41760" y="4037400"/>
            <a:ext cx="711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CUALQUIER ACCION INTERNA DE LA ADMINISTR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PARA REDUCIR LAS PERDIDAS QUE PUED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RESULTAR DE LOS RIESGOS PUROS DEL NEGO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3680" y="2437560"/>
            <a:ext cx="48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Control de Pérdidas 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066680" y="3199320"/>
            <a:ext cx="701064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c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9920" y="4037400"/>
            <a:ext cx="487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ES LA APLICACIÓN SISTEMATICA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LA ADMINISTRACION PROFE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AL CONTROL DE PER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3680" y="1889640"/>
            <a:ext cx="474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Administració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del Control de Pérd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87680" y="1483200"/>
            <a:ext cx="6764400" cy="161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                         </a:t>
            </a:r>
            <a:r>
              <a:rPr b="1" lang="es-ES_tradnl" sz="2000" spc="-1" strike="noStrike">
                <a:solidFill>
                  <a:srgbClr val="ff0066"/>
                </a:solidFill>
                <a:latin typeface="Arial"/>
              </a:rPr>
              <a:t>1    IDENTIFICAR TODOS LOS RIES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2   EVALUAR TODOS LOS RIES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3  DECIDIR QUE HACER CON CADA RIES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9973400">
            <a:off x="231840" y="684000"/>
            <a:ext cx="28537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ADMINIST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E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4343400"/>
            <a:ext cx="1143000" cy="1905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s-ES_tradnl" sz="6000" spc="-1" strike="noStrike">
                <a:solidFill>
                  <a:srgbClr val="80008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5200" y="4191120"/>
            <a:ext cx="169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rmin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ler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nsfer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3809880"/>
            <a:ext cx="7617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114800" y="3124080"/>
            <a:ext cx="3048120" cy="2667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30000" y="1904040"/>
            <a:ext cx="70142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AREAS DE ATENCION DE LA SEGURIDAD/C.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2666880"/>
            <a:ext cx="2590920" cy="3276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2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840" y="3353040"/>
            <a:ext cx="23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p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du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9960" y="608760"/>
            <a:ext cx="4245120" cy="70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CONTROL DE PERD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Arial"/>
              </a:rPr>
              <a:t>UN NUEVO ENFOQUE DE LA SEGUR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828800"/>
            <a:ext cx="533160" cy="533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9840" y="1904400"/>
            <a:ext cx="60649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COMPROMETIDO CON LOS OBJETIVOS GEN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438280"/>
            <a:ext cx="533160" cy="5335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3124080"/>
            <a:ext cx="533160" cy="5335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3733920"/>
            <a:ext cx="533160" cy="5331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4343400"/>
            <a:ext cx="533160" cy="5335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5029200"/>
            <a:ext cx="533160" cy="53352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1640" y="2590200"/>
            <a:ext cx="4371840" cy="368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DE AMPLIA COBETURA DE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9040" y="3276000"/>
            <a:ext cx="3760560" cy="368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CTUA EN BASE A UN SISTE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8320" y="3885480"/>
            <a:ext cx="5133600" cy="368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INTEGRADO AL PROCESO DE PRODUC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7240" y="4419000"/>
            <a:ext cx="6570720" cy="368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ORIENTADO A MEJORAR EL CONTROL ADMINISTR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7600" y="5180760"/>
            <a:ext cx="5261760" cy="368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BASA LOS RESULTADOS EN EL DESEMP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788000" y="18792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AUSAS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SECUE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 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CID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66760" y="533520"/>
            <a:ext cx="272448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51000" y="3200400"/>
            <a:ext cx="272592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98920" y="2081160"/>
            <a:ext cx="272556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081160"/>
            <a:ext cx="272556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44360" y="3029040"/>
            <a:ext cx="936360" cy="1117080"/>
            <a:chOff x="1044360" y="3029040"/>
            <a:chExt cx="936360" cy="1117080"/>
          </a:xfrm>
        </p:grpSpPr>
        <p:sp>
          <p:nvSpPr>
            <p:cNvPr id="223" name=""/>
            <p:cNvSpPr/>
            <p:nvPr/>
          </p:nvSpPr>
          <p:spPr>
            <a:xfrm flipH="1">
              <a:off x="1044000" y="3755160"/>
              <a:ext cx="936360" cy="39096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111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833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1308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9804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34244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17216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214640" y="3922920"/>
              <a:ext cx="6382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469880" y="2340000"/>
            <a:ext cx="511200" cy="1119240"/>
            <a:chOff x="1469880" y="2340000"/>
            <a:chExt cx="511200" cy="1119240"/>
          </a:xfrm>
        </p:grpSpPr>
        <p:sp>
          <p:nvSpPr>
            <p:cNvPr id="232" name=""/>
            <p:cNvSpPr/>
            <p:nvPr/>
          </p:nvSpPr>
          <p:spPr>
            <a:xfrm>
              <a:off x="1469880" y="2640960"/>
              <a:ext cx="511200" cy="34452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42600" y="2985840"/>
              <a:ext cx="365040" cy="4734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52400" y="2770200"/>
              <a:ext cx="109440" cy="1720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1556640" y="3210480"/>
              <a:ext cx="300960" cy="10944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88760" y="3114720"/>
              <a:ext cx="0" cy="344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52400" y="2640960"/>
              <a:ext cx="146160" cy="86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688760" y="2425680"/>
              <a:ext cx="0" cy="21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761840" y="2425680"/>
              <a:ext cx="0" cy="21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52400" y="2340000"/>
              <a:ext cx="146160" cy="86040"/>
            </a:xfrm>
            <a:prstGeom prst="triangle">
              <a:avLst>
                <a:gd name="adj" fmla="val 5469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15680" y="3373200"/>
              <a:ext cx="18252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811160" y="3114720"/>
            <a:ext cx="936720" cy="429840"/>
            <a:chOff x="1811160" y="3114720"/>
            <a:chExt cx="936720" cy="429840"/>
          </a:xfrm>
        </p:grpSpPr>
        <p:sp>
          <p:nvSpPr>
            <p:cNvPr id="243" name=""/>
            <p:cNvSpPr/>
            <p:nvPr/>
          </p:nvSpPr>
          <p:spPr>
            <a:xfrm>
              <a:off x="1811160" y="3114720"/>
              <a:ext cx="936720" cy="26460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88920" y="3379320"/>
              <a:ext cx="780480" cy="165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35400" y="3445560"/>
              <a:ext cx="78120" cy="9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06280" y="3445560"/>
              <a:ext cx="23400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84040" y="3445560"/>
              <a:ext cx="0" cy="6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62160" y="3445560"/>
              <a:ext cx="0" cy="6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322360" y="1393920"/>
            <a:ext cx="509760" cy="1290600"/>
            <a:chOff x="2322360" y="1393920"/>
            <a:chExt cx="509760" cy="1290600"/>
          </a:xfrm>
        </p:grpSpPr>
        <p:sp>
          <p:nvSpPr>
            <p:cNvPr id="250" name=""/>
            <p:cNvSpPr/>
            <p:nvPr/>
          </p:nvSpPr>
          <p:spPr>
            <a:xfrm>
              <a:off x="2424240" y="1393920"/>
              <a:ext cx="305640" cy="3056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4240" y="1733400"/>
              <a:ext cx="305640" cy="4752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22360" y="1733400"/>
              <a:ext cx="6768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64080" y="1733400"/>
              <a:ext cx="6804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5808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9416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917800" y="963720"/>
            <a:ext cx="680760" cy="1891800"/>
            <a:chOff x="2917800" y="963720"/>
            <a:chExt cx="680760" cy="1891800"/>
          </a:xfrm>
        </p:grpSpPr>
        <p:sp>
          <p:nvSpPr>
            <p:cNvPr id="257" name=""/>
            <p:cNvSpPr/>
            <p:nvPr/>
          </p:nvSpPr>
          <p:spPr>
            <a:xfrm>
              <a:off x="3053880" y="963720"/>
              <a:ext cx="408600" cy="4478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53880" y="1461600"/>
              <a:ext cx="40860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1780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0784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992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810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684600" y="1143000"/>
            <a:ext cx="658440" cy="1712880"/>
            <a:chOff x="3684600" y="1143000"/>
            <a:chExt cx="658440" cy="1712880"/>
          </a:xfrm>
        </p:grpSpPr>
        <p:sp>
          <p:nvSpPr>
            <p:cNvPr id="264" name=""/>
            <p:cNvSpPr/>
            <p:nvPr/>
          </p:nvSpPr>
          <p:spPr>
            <a:xfrm>
              <a:off x="3816360" y="1143000"/>
              <a:ext cx="395280" cy="4053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84600" y="1593720"/>
              <a:ext cx="8784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5560" y="1593720"/>
              <a:ext cx="8748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6028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3596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16360" y="1593720"/>
              <a:ext cx="395280" cy="901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883240" y="4108680"/>
            <a:ext cx="1176840" cy="1328400"/>
            <a:chOff x="2883240" y="4108680"/>
            <a:chExt cx="1176840" cy="1328400"/>
          </a:xfrm>
        </p:grpSpPr>
        <p:sp>
          <p:nvSpPr>
            <p:cNvPr id="271" name=""/>
            <p:cNvSpPr/>
            <p:nvPr/>
          </p:nvSpPr>
          <p:spPr>
            <a:xfrm>
              <a:off x="3121560" y="492048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1560" y="4633920"/>
              <a:ext cx="713160" cy="573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21560" y="434664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78320" y="4863240"/>
              <a:ext cx="0" cy="57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924200">
              <a:off x="347796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rot="19675800">
              <a:off x="291744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770280" y="4662360"/>
            <a:ext cx="509400" cy="774360"/>
            <a:chOff x="3770280" y="4662360"/>
            <a:chExt cx="509400" cy="774360"/>
          </a:xfrm>
        </p:grpSpPr>
        <p:sp>
          <p:nvSpPr>
            <p:cNvPr id="278" name=""/>
            <p:cNvSpPr/>
            <p:nvPr/>
          </p:nvSpPr>
          <p:spPr>
            <a:xfrm>
              <a:off x="3770280" y="5092920"/>
              <a:ext cx="509400" cy="34380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70280" y="492048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70280" y="466236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47880" y="4748040"/>
            <a:ext cx="425520" cy="860760"/>
            <a:chOff x="2747880" y="4748040"/>
            <a:chExt cx="425520" cy="860760"/>
          </a:xfrm>
        </p:grpSpPr>
        <p:sp>
          <p:nvSpPr>
            <p:cNvPr id="282" name=""/>
            <p:cNvSpPr/>
            <p:nvPr/>
          </p:nvSpPr>
          <p:spPr>
            <a:xfrm>
              <a:off x="2747880" y="4748040"/>
              <a:ext cx="425520" cy="860760"/>
            </a:xfrm>
            <a:custGeom>
              <a:avLst/>
              <a:gdLst/>
              <a:ahLst/>
              <a:rect l="l" t="t" r="r" b="b"/>
              <a:pathLst>
                <a:path w="960" h="1296">
                  <a:moveTo>
                    <a:pt x="192" y="240"/>
                  </a:moveTo>
                  <a:lnTo>
                    <a:pt x="192" y="0"/>
                  </a:lnTo>
                  <a:lnTo>
                    <a:pt x="816" y="96"/>
                  </a:lnTo>
                  <a:lnTo>
                    <a:pt x="816" y="336"/>
                  </a:lnTo>
                  <a:lnTo>
                    <a:pt x="672" y="528"/>
                  </a:lnTo>
                  <a:lnTo>
                    <a:pt x="672" y="1200"/>
                  </a:lnTo>
                  <a:lnTo>
                    <a:pt x="816" y="1296"/>
                  </a:lnTo>
                  <a:lnTo>
                    <a:pt x="960" y="1152"/>
                  </a:lnTo>
                  <a:lnTo>
                    <a:pt x="960" y="480"/>
                  </a:lnTo>
                  <a:lnTo>
                    <a:pt x="864" y="384"/>
                  </a:lnTo>
                  <a:lnTo>
                    <a:pt x="864" y="96"/>
                  </a:lnTo>
                  <a:lnTo>
                    <a:pt x="144" y="0"/>
                  </a:lnTo>
                  <a:lnTo>
                    <a:pt x="144" y="192"/>
                  </a:lnTo>
                  <a:lnTo>
                    <a:pt x="0" y="384"/>
                  </a:lnTo>
                  <a:lnTo>
                    <a:pt x="0" y="1056"/>
                  </a:lnTo>
                  <a:lnTo>
                    <a:pt x="48" y="1152"/>
                  </a:lnTo>
                  <a:lnTo>
                    <a:pt x="816" y="1296"/>
                  </a:lnTo>
                </a:path>
              </a:pathLst>
            </a:custGeom>
            <a:solidFill>
              <a:srgbClr val="0066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32840" y="4843440"/>
              <a:ext cx="255240" cy="127440"/>
            </a:xfrm>
            <a:custGeom>
              <a:avLst/>
              <a:gdLst/>
              <a:ahLst/>
              <a:rect l="l" t="t" r="r" b="b"/>
              <a:pathLst>
                <a:path w="576" h="192">
                  <a:moveTo>
                    <a:pt x="0" y="96"/>
                  </a:moveTo>
                  <a:lnTo>
                    <a:pt x="576" y="192"/>
                  </a:lnTo>
                  <a:lnTo>
                    <a:pt x="576" y="9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7880" y="5002920"/>
              <a:ext cx="297720" cy="95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32840" y="5353920"/>
              <a:ext cx="127440" cy="127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lnTo>
                    <a:pt x="288" y="96"/>
                  </a:lnTo>
                  <a:lnTo>
                    <a:pt x="288" y="19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535640" y="2770200"/>
            <a:ext cx="766440" cy="688680"/>
            <a:chOff x="4535640" y="2770200"/>
            <a:chExt cx="766440" cy="688680"/>
          </a:xfrm>
        </p:grpSpPr>
        <p:sp>
          <p:nvSpPr>
            <p:cNvPr id="287" name=""/>
            <p:cNvSpPr/>
            <p:nvPr/>
          </p:nvSpPr>
          <p:spPr>
            <a:xfrm>
              <a:off x="4876200" y="277020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76200" y="3382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3564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9884600">
              <a:off x="517428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1712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8142800">
              <a:off x="5178600" y="32248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0054400">
              <a:off x="4578120" y="322956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3568800">
              <a:off x="5050440" y="33400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491600">
              <a:off x="4705560" y="334404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3658800">
              <a:off x="4710240" y="2803680"/>
              <a:ext cx="7632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720200">
              <a:off x="457776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650600">
              <a:off x="5046120" y="280800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20600" y="2846880"/>
              <a:ext cx="596160" cy="5356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90880" y="2999880"/>
              <a:ext cx="255240" cy="22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451400" y="3618360"/>
            <a:ext cx="594720" cy="483120"/>
            <a:chOff x="4451400" y="3618360"/>
            <a:chExt cx="594720" cy="483120"/>
          </a:xfrm>
        </p:grpSpPr>
        <p:sp>
          <p:nvSpPr>
            <p:cNvPr id="302" name=""/>
            <p:cNvSpPr/>
            <p:nvPr/>
          </p:nvSpPr>
          <p:spPr>
            <a:xfrm>
              <a:off x="445140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8096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3568800">
              <a:off x="4851360" y="402732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491600">
              <a:off x="4584240" y="403128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3658800">
              <a:off x="4587480" y="362628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50600">
              <a:off x="4848120" y="363024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16560" y="3659400"/>
              <a:ext cx="464400" cy="4010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9760" y="3773880"/>
              <a:ext cx="198360" cy="17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962600" y="3200400"/>
            <a:ext cx="1020240" cy="1031760"/>
            <a:chOff x="4962600" y="3200400"/>
            <a:chExt cx="1020240" cy="1031760"/>
          </a:xfrm>
        </p:grpSpPr>
        <p:sp>
          <p:nvSpPr>
            <p:cNvPr id="311" name=""/>
            <p:cNvSpPr/>
            <p:nvPr/>
          </p:nvSpPr>
          <p:spPr>
            <a:xfrm>
              <a:off x="5415840" y="320040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15840" y="411768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626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9884600">
              <a:off x="5812560" y="342972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698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8142800">
              <a:off x="5811840" y="388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0054400">
              <a:off x="5019120" y="38876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3568800">
              <a:off x="5642280" y="406044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491600">
              <a:off x="5189040" y="40600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3658800">
              <a:off x="5188320" y="325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720200">
              <a:off x="5019120" y="342936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650600">
              <a:off x="5642640" y="32572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75640" y="3314880"/>
              <a:ext cx="793800" cy="8024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02800" y="3544200"/>
              <a:ext cx="340200" cy="34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26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30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34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338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350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351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609480" y="2590920"/>
            <a:ext cx="1488960" cy="3641760"/>
            <a:chOff x="609480" y="2590920"/>
            <a:chExt cx="1488960" cy="3641760"/>
          </a:xfrm>
        </p:grpSpPr>
        <p:sp>
          <p:nvSpPr>
            <p:cNvPr id="379" name=""/>
            <p:cNvSpPr/>
            <p:nvPr/>
          </p:nvSpPr>
          <p:spPr>
            <a:xfrm>
              <a:off x="609480" y="2590920"/>
              <a:ext cx="1488960" cy="36417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47240" y="2590920"/>
              <a:ext cx="1051200" cy="36417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047240" y="3956040"/>
              <a:ext cx="105120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47720" y="359424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95480" y="409428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63760" y="49309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5480" y="359424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880" y="342576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6219800">
            <a:off x="-45000" y="489960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PERD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 rot="8340600">
            <a:off x="457920" y="266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96560" y="2437200"/>
            <a:ext cx="11012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AÑ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0160" y="2437200"/>
            <a:ext cx="1495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ER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6120" y="3134520"/>
            <a:ext cx="302148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L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F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OMPENS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APACIT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UER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12080" y="3134520"/>
            <a:ext cx="297252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 PROP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EN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IDEN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V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AY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RITÍ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200040" y="3657600"/>
            <a:ext cx="571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7220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86400" y="266688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188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363760" y="379800"/>
            <a:ext cx="41065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ISPOSICIONES LEG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480" y="1676520"/>
            <a:ext cx="533520" cy="5331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6120" y="1775880"/>
            <a:ext cx="802440" cy="3780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87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89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08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1702800"/>
            <a:ext cx="2097000" cy="3780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INGLATER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INGLATER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6960" y="1631160"/>
            <a:ext cx="5254200" cy="4115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ey de Responsabilidad Patron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Primera ley sobre Compens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Primera ley sobre Compens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omisión Gobierno de Ont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ey de Compensación de Wiscons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Primer Congreso de Seguridad N.S.C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Departamento del trabaj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ey de Compens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Se organiza la AA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a Apai reconocida por le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OSHA Occupational Safety and Heal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Ac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402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406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410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14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26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27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455" name="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52480" y="4343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43000" y="54100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43000" y="4724280"/>
            <a:ext cx="230040" cy="36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2480" y="50292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16219800">
            <a:off x="-147240" y="466092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 rot="8340600">
            <a:off x="305280" y="281916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3915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56000" y="2832120"/>
            <a:ext cx="60195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CCIDENT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ontecimiento no dese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e resulta en daño físico 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s personas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y/o daño a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piedad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39625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13480" y="836280"/>
            <a:ext cx="26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PRINCIP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BAS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 PRE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07040" y="2684160"/>
            <a:ext cx="55224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os accidentes que determinan l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recursos de nuestras empres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no suceden, SON CAUSADOS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57600" y="4036320"/>
            <a:ext cx="4724280" cy="155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as causas de los incid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ioradores pueden 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minadas y elimi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o contro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8954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71360" y="3047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28800" y="44956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047680" y="464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685800"/>
            <a:ext cx="350496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478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482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486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90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502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503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531" name="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828800" y="44197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541008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16219800">
            <a:off x="-97920" y="4597920"/>
            <a:ext cx="18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SUBESRAND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 rot="8340600">
            <a:off x="305640" y="28184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629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90920" y="3254400"/>
            <a:ext cx="615780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CTOS Y CONDI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on desviaciones y/o cambios que producen bajo los niveles que se han establecido como correctos o que se aceptan como ta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200040" y="761040"/>
            <a:ext cx="168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INSEG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761040"/>
            <a:ext cx="23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UBESTA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2320" y="1650960"/>
            <a:ext cx="601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sin autoriz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llamar la atención o asegur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a una velocidad in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Poner fuera de servicio los dispositivos de segur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quipo defectuo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l equipo incorr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usar el equipo de Protección 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argar o ubicar incorrect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Levantar en forma incorrec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Adoptar una posición incorrec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Efectuar mantención a equipo en mov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Hacer bro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onsumir drogas o be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05520" y="1143000"/>
            <a:ext cx="38088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33720" y="609480"/>
            <a:ext cx="6400800" cy="5334120"/>
          </a:xfrm>
          <a:custGeom>
            <a:avLst/>
            <a:gdLst/>
            <a:ahLst/>
            <a:rect l="l" t="t" r="r" b="b"/>
            <a:pathLst>
              <a:path w="4032" h="3360">
                <a:moveTo>
                  <a:pt x="624" y="0"/>
                </a:moveTo>
                <a:lnTo>
                  <a:pt x="1728" y="0"/>
                </a:lnTo>
                <a:lnTo>
                  <a:pt x="1728" y="528"/>
                </a:lnTo>
                <a:lnTo>
                  <a:pt x="1248" y="528"/>
                </a:lnTo>
                <a:lnTo>
                  <a:pt x="1248" y="624"/>
                </a:lnTo>
                <a:lnTo>
                  <a:pt x="4032" y="624"/>
                </a:lnTo>
                <a:lnTo>
                  <a:pt x="4032" y="3360"/>
                </a:lnTo>
                <a:lnTo>
                  <a:pt x="0" y="3360"/>
                </a:lnTo>
                <a:lnTo>
                  <a:pt x="0" y="624"/>
                </a:lnTo>
                <a:lnTo>
                  <a:pt x="1056" y="624"/>
                </a:lnTo>
                <a:lnTo>
                  <a:pt x="1056" y="528"/>
                </a:lnTo>
                <a:lnTo>
                  <a:pt x="624" y="528"/>
                </a:lnTo>
                <a:lnTo>
                  <a:pt x="624" y="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9480" y="990720"/>
            <a:ext cx="1143000" cy="2133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160020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990720" y="1676520"/>
            <a:ext cx="380880" cy="991800"/>
            <a:chOff x="990720" y="1676520"/>
            <a:chExt cx="380880" cy="991800"/>
          </a:xfrm>
        </p:grpSpPr>
        <p:sp>
          <p:nvSpPr>
            <p:cNvPr id="549" name=""/>
            <p:cNvSpPr/>
            <p:nvPr/>
          </p:nvSpPr>
          <p:spPr>
            <a:xfrm>
              <a:off x="1049400" y="1676520"/>
              <a:ext cx="262080" cy="1922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90720" y="1911600"/>
              <a:ext cx="380880" cy="756720"/>
            </a:xfrm>
            <a:custGeom>
              <a:avLst/>
              <a:gdLst/>
              <a:ahLst/>
              <a:rect l="l" t="t" r="r" b="b"/>
              <a:pathLst>
                <a:path w="337" h="913">
                  <a:moveTo>
                    <a:pt x="0" y="0"/>
                  </a:moveTo>
                  <a:lnTo>
                    <a:pt x="336" y="0"/>
                  </a:lnTo>
                  <a:lnTo>
                    <a:pt x="336" y="432"/>
                  </a:lnTo>
                  <a:lnTo>
                    <a:pt x="288" y="432"/>
                  </a:lnTo>
                  <a:lnTo>
                    <a:pt x="288" y="144"/>
                  </a:lnTo>
                  <a:lnTo>
                    <a:pt x="240" y="144"/>
                  </a:lnTo>
                  <a:lnTo>
                    <a:pt x="240" y="912"/>
                  </a:lnTo>
                  <a:lnTo>
                    <a:pt x="192" y="912"/>
                  </a:lnTo>
                  <a:lnTo>
                    <a:pt x="192" y="480"/>
                  </a:lnTo>
                  <a:lnTo>
                    <a:pt x="144" y="480"/>
                  </a:lnTo>
                  <a:lnTo>
                    <a:pt x="144" y="912"/>
                  </a:lnTo>
                  <a:lnTo>
                    <a:pt x="96" y="912"/>
                  </a:lnTo>
                  <a:lnTo>
                    <a:pt x="96" y="144"/>
                  </a:lnTo>
                  <a:lnTo>
                    <a:pt x="48" y="144"/>
                  </a:lnTo>
                  <a:lnTo>
                    <a:pt x="48" y="432"/>
                  </a:ln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638680" y="533520"/>
            <a:ext cx="2438640" cy="9144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80880" y="1752480"/>
            <a:ext cx="8229600" cy="48488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erramientas defectuo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quipos en ma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Materiales defectuo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Peligros de incendios y explos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Gases, polvos, Humos, vapores, sobre el L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uido exce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Iluminación o ventilación inadecu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adi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Desorden y desas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esguardos y protecciones inadecu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Con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Señalizaciones inadecuadas o insufic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197080" y="372960"/>
            <a:ext cx="239364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380880"/>
            <a:ext cx="248616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INSEG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480" y="132084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4724280" y="762120"/>
            <a:ext cx="45720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05320" y="1295280"/>
            <a:ext cx="0" cy="45720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559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563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567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571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583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584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612" name="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6219800">
            <a:off x="100800" y="470988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Tahoma"/>
              </a:rPr>
              <a:t>CAUSA(S) BASICA(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 rot="8526600">
            <a:off x="609840" y="2514240"/>
            <a:ext cx="252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cc"/>
                </a:solidFill>
                <a:latin typeface="Tahoma"/>
              </a:rPr>
              <a:t>PROBLEMAS REAL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199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71800" y="2496960"/>
            <a:ext cx="570384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ACTORES PERS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APACIDAD INADECUA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LTA DE CONOCI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LTA DE HABIL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MOTIVACIÓN IMPROP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ACTORES DE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LIDERA</a:t>
            </a:r>
            <a:r>
              <a:rPr b="1" lang="es-CL" sz="1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GO INADECU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INGENIERIA INADECUA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OMPRAS INADECUA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MANTENCIÓN INADECUA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HERRAMIENTAS Y EQUIPOS INADECUAD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ESTÁNDARES DE TRABAJO INADECUAD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USO DESGAS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ABUSO O MAL 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29320" y="144684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 BAS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623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627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631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635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647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648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 flipV="1" rot="8494200">
            <a:off x="4994280" y="53280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676" name="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2120" y="335268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16219800">
            <a:off x="74880" y="4704480"/>
            <a:ext cx="164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FALTA DE CONTROL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 rot="8526600">
            <a:off x="918000" y="266616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DMINISTRA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486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65240" y="2739960"/>
            <a:ext cx="573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FALTA DE CONTRO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PROGRAMAS  INADECU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ESTANDARES INADECU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INCUMPLIMIENTO DE ESTAND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57400" y="281952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371600" y="40384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752480" y="480060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"/>
          <p:cNvGrpSpPr/>
          <p:nvPr/>
        </p:nvGrpSpPr>
        <p:grpSpPr>
          <a:xfrm>
            <a:off x="304920" y="1600200"/>
            <a:ext cx="1828440" cy="4038120"/>
            <a:chOff x="304920" y="1600200"/>
            <a:chExt cx="1828440" cy="4038120"/>
          </a:xfrm>
        </p:grpSpPr>
        <p:sp>
          <p:nvSpPr>
            <p:cNvPr id="689" name=""/>
            <p:cNvSpPr/>
            <p:nvPr/>
          </p:nvSpPr>
          <p:spPr>
            <a:xfrm>
              <a:off x="304920" y="1600200"/>
              <a:ext cx="1828440" cy="403812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42400" y="1600200"/>
              <a:ext cx="1290600" cy="403812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842400" y="3114360"/>
              <a:ext cx="1290600" cy="92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905120" y="1676520"/>
            <a:ext cx="1675800" cy="3961800"/>
            <a:chOff x="1905120" y="1676520"/>
            <a:chExt cx="1675800" cy="3961800"/>
          </a:xfrm>
        </p:grpSpPr>
        <p:sp>
          <p:nvSpPr>
            <p:cNvPr id="693" name=""/>
            <p:cNvSpPr/>
            <p:nvPr/>
          </p:nvSpPr>
          <p:spPr>
            <a:xfrm>
              <a:off x="1905120" y="1676520"/>
              <a:ext cx="1675800" cy="39618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97960" y="1676520"/>
              <a:ext cx="1182960" cy="39618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397960" y="3161880"/>
              <a:ext cx="1182960" cy="90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276720" y="1600200"/>
            <a:ext cx="1752120" cy="3962160"/>
            <a:chOff x="3276720" y="1600200"/>
            <a:chExt cx="1752120" cy="3962160"/>
          </a:xfrm>
        </p:grpSpPr>
        <p:sp>
          <p:nvSpPr>
            <p:cNvPr id="697" name=""/>
            <p:cNvSpPr/>
            <p:nvPr/>
          </p:nvSpPr>
          <p:spPr>
            <a:xfrm>
              <a:off x="3276720" y="1600200"/>
              <a:ext cx="1752120" cy="39621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91880" y="1600200"/>
              <a:ext cx="1236960" cy="39621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3791880" y="3085920"/>
              <a:ext cx="1236960" cy="90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105520" y="1676520"/>
            <a:ext cx="1904400" cy="3885840"/>
            <a:chOff x="5105520" y="1676520"/>
            <a:chExt cx="1904400" cy="3885840"/>
          </a:xfrm>
        </p:grpSpPr>
        <p:sp>
          <p:nvSpPr>
            <p:cNvPr id="701" name=""/>
            <p:cNvSpPr/>
            <p:nvPr/>
          </p:nvSpPr>
          <p:spPr>
            <a:xfrm>
              <a:off x="5105520" y="1676520"/>
              <a:ext cx="1904400" cy="388584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665320" y="1676520"/>
              <a:ext cx="1344240" cy="388584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5665320" y="3133440"/>
              <a:ext cx="1344240" cy="89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7162920" y="1523880"/>
            <a:ext cx="1675800" cy="3809880"/>
            <a:chOff x="7162920" y="1523880"/>
            <a:chExt cx="1675800" cy="3809880"/>
          </a:xfrm>
        </p:grpSpPr>
        <p:sp>
          <p:nvSpPr>
            <p:cNvPr id="705" name=""/>
            <p:cNvSpPr/>
            <p:nvPr/>
          </p:nvSpPr>
          <p:spPr>
            <a:xfrm>
              <a:off x="7162920" y="1523880"/>
              <a:ext cx="1675800" cy="38098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55760" y="1523880"/>
              <a:ext cx="1182960" cy="38098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7655760" y="2952000"/>
              <a:ext cx="1182960" cy="87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572000" y="36576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32767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943600" y="40384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705720" y="3505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3600" y="4724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42670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305920" y="2057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4495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29400" y="2362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990720" y="3352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153280" y="39625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381880" y="26668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48720" y="30481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848720" y="2438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19423200">
            <a:off x="7477200" y="1904760"/>
            <a:ext cx="11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162920" y="2438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16219800">
            <a:off x="6918120" y="44787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ERDI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19423200">
            <a:off x="492480" y="1905120"/>
            <a:ext cx="14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rot="19423200">
            <a:off x="2079720" y="2014560"/>
            <a:ext cx="138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19423200">
            <a:off x="3443760" y="19807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19590600">
            <a:off x="5218560" y="1980720"/>
            <a:ext cx="152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105520" y="2590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05120" y="259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767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6219800">
            <a:off x="-412200" y="39585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rot="16219800">
            <a:off x="1103760" y="391968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rot="16219800">
            <a:off x="2458080" y="3667680"/>
            <a:ext cx="21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rot="16219800">
            <a:off x="4730400" y="39790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7160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752480" y="22096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81952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447920" y="4343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925920" y="533520"/>
            <a:ext cx="71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NCIPIO DE LAS CARACTERÍSTIC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UTU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332000" y="243684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El desempeño pasado de una organización tiende a delinear s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aracterísticas futu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619280" y="2289240"/>
            <a:ext cx="626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Si quiere crear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enemigos trate 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cambiar alg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16120" y="2209680"/>
            <a:ext cx="7315200" cy="297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85440" y="1065600"/>
            <a:ext cx="19393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y  en 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50840" y="2783520"/>
            <a:ext cx="857520" cy="1922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0920" y="2444760"/>
            <a:ext cx="5834160" cy="2654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Nº 3.170 Sobre Responsabilidad Patr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Nº 4.055 Aumenta Benef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Nº 16.744 de Seguridad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16765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1176120" y="2176560"/>
            <a:ext cx="652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s posible tomar una dec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ógica y acertada, sólo cua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e ha identificado primerame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l problema básico o r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58480" y="608040"/>
            <a:ext cx="45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INCIPIO DE LA DEFINI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1335240" y="2181240"/>
            <a:ext cx="73404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uanto más se aparte un cambio planificado, de las formas aceptadas en el pasado, mayor será la resistencia probablemente de la gente involucrada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334160" y="6192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INCIPIO DE LA RESISTENCIA A LOS CAMB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2200680" y="2176560"/>
            <a:ext cx="4490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Los problemas y 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ccidentes casi nun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son el resultad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a sola cau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23400" y="608040"/>
            <a:ext cx="70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INCIPIO DE LAS CAUSAS MULT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2212560" y="2130480"/>
            <a:ext cx="4470840" cy="3018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En cualquier grup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ocurrencias,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equeño númer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ausas influirá en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mayor proporción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los result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90440" y="474840"/>
            <a:ext cx="668520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INCIPIO DE  LOS POCOS CRIT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"/>
          <p:cNvGrpSpPr/>
          <p:nvPr/>
        </p:nvGrpSpPr>
        <p:grpSpPr>
          <a:xfrm>
            <a:off x="1600200" y="304920"/>
            <a:ext cx="6324480" cy="838080"/>
            <a:chOff x="1600200" y="304920"/>
            <a:chExt cx="6324480" cy="838080"/>
          </a:xfrm>
        </p:grpSpPr>
        <p:sp>
          <p:nvSpPr>
            <p:cNvPr id="753" name=""/>
            <p:cNvSpPr/>
            <p:nvPr/>
          </p:nvSpPr>
          <p:spPr>
            <a:xfrm>
              <a:off x="160020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59960" y="53316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Times New Roman"/>
                </a:rPr>
                <a:t>LAS TRES ETAPAS DEL CONTR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914400" y="1513080"/>
            <a:ext cx="7391160" cy="4201560"/>
            <a:chOff x="914400" y="1513080"/>
            <a:chExt cx="7391160" cy="4201560"/>
          </a:xfrm>
        </p:grpSpPr>
        <p:grpSp>
          <p:nvGrpSpPr>
            <p:cNvPr id="756" name=""/>
            <p:cNvGrpSpPr/>
            <p:nvPr/>
          </p:nvGrpSpPr>
          <p:grpSpPr>
            <a:xfrm>
              <a:off x="914400" y="1600200"/>
              <a:ext cx="1828440" cy="4038120"/>
              <a:chOff x="914400" y="1600200"/>
              <a:chExt cx="1828440" cy="4038120"/>
            </a:xfrm>
          </p:grpSpPr>
          <p:sp>
            <p:nvSpPr>
              <p:cNvPr id="757" name=""/>
              <p:cNvSpPr/>
              <p:nvPr/>
            </p:nvSpPr>
            <p:spPr>
              <a:xfrm>
                <a:off x="914400" y="1600200"/>
                <a:ext cx="1828440" cy="40381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451880" y="1600200"/>
                <a:ext cx="1290600" cy="40381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1451880" y="3114360"/>
                <a:ext cx="1290600" cy="92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905120" y="1676160"/>
              <a:ext cx="1675800" cy="3962160"/>
              <a:chOff x="1905120" y="1676160"/>
              <a:chExt cx="1675800" cy="3962160"/>
            </a:xfrm>
          </p:grpSpPr>
          <p:sp>
            <p:nvSpPr>
              <p:cNvPr id="761" name=""/>
              <p:cNvSpPr/>
              <p:nvPr/>
            </p:nvSpPr>
            <p:spPr>
              <a:xfrm>
                <a:off x="1905120" y="1676160"/>
                <a:ext cx="1675800" cy="396216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397960" y="1676160"/>
                <a:ext cx="1182960" cy="396216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2397960" y="3161880"/>
                <a:ext cx="118296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2666880" y="1676160"/>
              <a:ext cx="1752480" cy="3962160"/>
              <a:chOff x="2666880" y="1676160"/>
              <a:chExt cx="1752480" cy="3962160"/>
            </a:xfrm>
          </p:grpSpPr>
          <p:sp>
            <p:nvSpPr>
              <p:cNvPr id="765" name=""/>
              <p:cNvSpPr/>
              <p:nvPr/>
            </p:nvSpPr>
            <p:spPr>
              <a:xfrm>
                <a:off x="2666880" y="1676160"/>
                <a:ext cx="1752480" cy="396216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182040" y="1676160"/>
                <a:ext cx="1237320" cy="396216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3182040" y="3161880"/>
                <a:ext cx="123732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4572000" y="1828800"/>
              <a:ext cx="1904760" cy="3885840"/>
              <a:chOff x="4572000" y="1828800"/>
              <a:chExt cx="1904760" cy="3885840"/>
            </a:xfrm>
          </p:grpSpPr>
          <p:sp>
            <p:nvSpPr>
              <p:cNvPr id="769" name=""/>
              <p:cNvSpPr/>
              <p:nvPr/>
            </p:nvSpPr>
            <p:spPr>
              <a:xfrm>
                <a:off x="4572000" y="1828800"/>
                <a:ext cx="1904760" cy="388584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131800" y="1828800"/>
                <a:ext cx="1344600" cy="388584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5131800" y="3285720"/>
                <a:ext cx="1344600" cy="89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6629400" y="1752480"/>
              <a:ext cx="1676160" cy="3809520"/>
              <a:chOff x="6629400" y="1752480"/>
              <a:chExt cx="1676160" cy="3809520"/>
            </a:xfrm>
          </p:grpSpPr>
          <p:sp>
            <p:nvSpPr>
              <p:cNvPr id="773" name=""/>
              <p:cNvSpPr/>
              <p:nvPr/>
            </p:nvSpPr>
            <p:spPr>
              <a:xfrm>
                <a:off x="6629400" y="1752480"/>
                <a:ext cx="1676160" cy="38095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122240" y="1752480"/>
                <a:ext cx="1183320" cy="38095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7122240" y="3180960"/>
                <a:ext cx="1183320" cy="87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4114800" y="35812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34120" y="3429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410080" y="41907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172200" y="3657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10080" y="48765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72200" y="4419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72400" y="2286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429000" y="4800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5880" y="2514600"/>
              <a:ext cx="15264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600200" y="32004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20120" y="41907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48720" y="28954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15200" y="3276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315200" y="26668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9423200">
              <a:off x="6943680" y="2133000"/>
              <a:ext cx="111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GENTE-PRO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29400" y="2666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6219800">
              <a:off x="6384600" y="4707360"/>
              <a:ext cx="103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9423200">
              <a:off x="1101960" y="190440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DMINISTRAC</a:t>
              </a: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9423200">
              <a:off x="2079720" y="201456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PROBLEMAS REAL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9423200">
              <a:off x="2965320" y="1980360"/>
              <a:ext cx="121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SINTOM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9590600">
              <a:off x="4685400" y="2133000"/>
              <a:ext cx="1523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ACONTECIMIEN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(CONTACTO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14400" y="25146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666880" y="25905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6219800">
              <a:off x="120960" y="396000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FALTA DE CONTR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6219800">
              <a:off x="1103760" y="3919680"/>
              <a:ext cx="20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CAUSA(S)  BASICA(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6219800">
              <a:off x="1848240" y="3819960"/>
              <a:ext cx="21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CTOS Y CONDI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SUBESTAND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219800">
              <a:off x="4197240" y="4131360"/>
              <a:ext cx="12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INCID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 rot="21553200">
            <a:off x="999720" y="6106680"/>
            <a:ext cx="17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PRE - CONTA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rot="21592200">
            <a:off x="3764520" y="616536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CONTA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rot="21557400">
            <a:off x="6644520" y="617328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POST - CONTA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219320" y="608760"/>
            <a:ext cx="678168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Arial"/>
              </a:rPr>
              <a:t>TECNICAS DE PRE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447920" y="2362320"/>
            <a:ext cx="1752480" cy="1022400"/>
            <a:chOff x="1447920" y="2362320"/>
            <a:chExt cx="1752480" cy="1022400"/>
          </a:xfrm>
        </p:grpSpPr>
        <p:sp>
          <p:nvSpPr>
            <p:cNvPr id="810" name=""/>
            <p:cNvSpPr/>
            <p:nvPr/>
          </p:nvSpPr>
          <p:spPr>
            <a:xfrm>
              <a:off x="1447920" y="2994120"/>
              <a:ext cx="936720" cy="390600"/>
            </a:xfrm>
            <a:prstGeom prst="rect">
              <a:avLst/>
            </a:prstGeom>
            <a:solidFill>
              <a:srgbClr val="00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149004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1617120" y="2770200"/>
              <a:ext cx="12852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178848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170280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506680" y="2362320"/>
              <a:ext cx="8424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33840" y="2362320"/>
              <a:ext cx="8568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70320" y="3124080"/>
              <a:ext cx="639720" cy="115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2378160" y="3048120"/>
              <a:ext cx="517680" cy="244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2865600" y="2971800"/>
              <a:ext cx="3348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981080" y="3962520"/>
            <a:ext cx="681120" cy="1891800"/>
            <a:chOff x="1981080" y="3962520"/>
            <a:chExt cx="681120" cy="1891800"/>
          </a:xfrm>
        </p:grpSpPr>
        <p:sp>
          <p:nvSpPr>
            <p:cNvPr id="821" name=""/>
            <p:cNvSpPr/>
            <p:nvPr/>
          </p:nvSpPr>
          <p:spPr>
            <a:xfrm>
              <a:off x="2117520" y="3962520"/>
              <a:ext cx="408240" cy="4474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17520" y="4460760"/>
              <a:ext cx="4082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81080" y="4460760"/>
              <a:ext cx="9036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571480" y="446076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6216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4468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28195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9880" y="48769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257800" y="2620080"/>
            <a:ext cx="327672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INSPEC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334120" y="4799520"/>
            <a:ext cx="327636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OBSERV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2985120" y="1446840"/>
            <a:ext cx="2700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224000" y="3199320"/>
            <a:ext cx="20048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11880" y="3732480"/>
            <a:ext cx="16362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IT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RI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288760" y="2665800"/>
            <a:ext cx="20401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261440" y="4913640"/>
            <a:ext cx="2547360" cy="459720"/>
          </a:xfrm>
          <a:prstGeom prst="rect">
            <a:avLst/>
          </a:prstGeom>
          <a:noFill/>
          <a:ln w="7632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NO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3200400"/>
            <a:ext cx="304920" cy="304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38" name=""/>
          <p:cNvCxnSpPr/>
          <p:nvPr/>
        </p:nvCxnSpPr>
        <p:spPr>
          <a:xfrm flipV="1">
            <a:off x="3504960" y="2818800"/>
            <a:ext cx="152460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839" name=""/>
          <p:cNvCxnSpPr/>
          <p:nvPr/>
        </p:nvCxnSpPr>
        <p:spPr>
          <a:xfrm>
            <a:off x="3428640" y="3428640"/>
            <a:ext cx="167724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pic>
        <p:nvPicPr>
          <p:cNvPr id="840" name="" descr=""/>
          <p:cNvPicPr/>
          <p:nvPr/>
        </p:nvPicPr>
        <p:blipFill>
          <a:blip r:embed="rId5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2518560" y="913320"/>
            <a:ext cx="242712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UBESTA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96240" y="913320"/>
            <a:ext cx="19774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NSEGU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279880" y="2360520"/>
            <a:ext cx="5700600" cy="411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Herramientas defectuo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quipos en mal est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Materiales defectuo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Peligros de incen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Gases, Polvos, Humos, Vapores, Sobre el L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uido exces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luminación o ventilación in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adi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Desorden y desase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esguardos protecciones inadecu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gest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eñalizaciones inadecuadas e insufic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tc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895480" y="1752480"/>
            <a:ext cx="129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257800" y="838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2033640" y="1446840"/>
            <a:ext cx="4609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692280" y="2969640"/>
            <a:ext cx="765900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tividad preventiva sistem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ara DETECTAR, ANALIZAR, CORREGIR defici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n equipos, materiales 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que puedan causar accidente y pérd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3202920" y="2511000"/>
            <a:ext cx="2853720" cy="33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PLANE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 PREPA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 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D INFOR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 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200400" y="25909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00400" y="32767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403848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200400" y="48006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54864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6553080" y="2743200"/>
            <a:ext cx="1293840" cy="3700440"/>
            <a:chOff x="6553080" y="2743200"/>
            <a:chExt cx="1293840" cy="3700440"/>
          </a:xfrm>
        </p:grpSpPr>
        <p:sp>
          <p:nvSpPr>
            <p:cNvPr id="858" name=""/>
            <p:cNvSpPr/>
            <p:nvPr/>
          </p:nvSpPr>
          <p:spPr>
            <a:xfrm flipH="1">
              <a:off x="6962760" y="3354480"/>
              <a:ext cx="650880" cy="6444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568560" y="2743200"/>
              <a:ext cx="577800" cy="143964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324200" y="4071960"/>
              <a:ext cx="522360" cy="8665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931080" y="4032360"/>
              <a:ext cx="490320" cy="10681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194600" y="4898880"/>
              <a:ext cx="372960" cy="154476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552720" y="4898880"/>
              <a:ext cx="609480" cy="130356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6920" y="1110240"/>
            <a:ext cx="7632720" cy="7340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OS OBJETIVOS DE LA SEGURIDAD PUEDEN MEDIRSE MEJ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N TERMIN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DIDAS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RESPECTO 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4114080"/>
            <a:ext cx="373356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APACIDAD DE PRODUC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351960"/>
            <a:ext cx="32004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NVERSION DE CAP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2589840"/>
            <a:ext cx="266688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VALORES HUMA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993600" y="2739960"/>
            <a:ext cx="6985440" cy="265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1 REVISAR INFORMES DE I.P. ANTERI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2 DEFINIR EL RECORRIDO (Si Es I.P. Gener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3 PREPARAR LISTAS DE VERIFIC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4 DECIRNIR EL MOMENTO DE LA INSPEC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467840" y="4267080"/>
            <a:ext cx="1446120" cy="2023920"/>
            <a:chOff x="7467840" y="4267080"/>
            <a:chExt cx="1446120" cy="2023920"/>
          </a:xfrm>
        </p:grpSpPr>
        <p:sp>
          <p:nvSpPr>
            <p:cNvPr id="868" name=""/>
            <p:cNvSpPr/>
            <p:nvPr/>
          </p:nvSpPr>
          <p:spPr>
            <a:xfrm flipH="1">
              <a:off x="7925400" y="4601160"/>
              <a:ext cx="72756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7485480" y="4267080"/>
              <a:ext cx="64584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8330040" y="4993920"/>
              <a:ext cx="58392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7890480" y="4972320"/>
              <a:ext cx="547920" cy="584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8184960" y="5446080"/>
              <a:ext cx="41688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7467840" y="5446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2440440" y="227160"/>
            <a:ext cx="37850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LISTA DE VERIF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( CHECK LI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289600" y="1293480"/>
            <a:ext cx="4149000" cy="442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NSTALACIONES ELECTR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ORDEN Y LIMPI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HERRAMIEN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QUINAR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LUMINAC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VENTIL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ROTECCION 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ISOS, PASILLOS, ESCALE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CCESOS Y SAL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RVICIOS HIGIEN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STRUCTURA DEL EDIF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QUIPOS CONTRA INCEN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CIPIENTES Y PRE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ÑALIZACIÓN Y COL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467840" y="4267080"/>
            <a:ext cx="1446120" cy="2023920"/>
            <a:chOff x="7467840" y="4267080"/>
            <a:chExt cx="1446120" cy="2023920"/>
          </a:xfrm>
        </p:grpSpPr>
        <p:sp>
          <p:nvSpPr>
            <p:cNvPr id="877" name=""/>
            <p:cNvSpPr/>
            <p:nvPr/>
          </p:nvSpPr>
          <p:spPr>
            <a:xfrm flipH="1">
              <a:off x="7925400" y="4601160"/>
              <a:ext cx="72756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7485480" y="4267080"/>
              <a:ext cx="64584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8330040" y="4993920"/>
              <a:ext cx="58392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7890480" y="4972320"/>
              <a:ext cx="547920" cy="584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8184960" y="5446080"/>
              <a:ext cx="41688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7467840" y="5446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492120" y="410040"/>
            <a:ext cx="77292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UNTOS DE VERIFICACION EN EQUIPOS CRI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527480" y="1140840"/>
            <a:ext cx="5096880" cy="53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LIMENTACION ELEC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ONTROL DE MARCHA Y PAR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ISTEMA DE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UNTOS DE OPE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SGUAR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REA CIRCUND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NTENIMIENTO DE PARTES VI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7467840" y="4267080"/>
            <a:ext cx="1446120" cy="2023920"/>
            <a:chOff x="7467840" y="4267080"/>
            <a:chExt cx="1446120" cy="2023920"/>
          </a:xfrm>
        </p:grpSpPr>
        <p:sp>
          <p:nvSpPr>
            <p:cNvPr id="886" name=""/>
            <p:cNvSpPr/>
            <p:nvPr/>
          </p:nvSpPr>
          <p:spPr>
            <a:xfrm flipH="1">
              <a:off x="7925400" y="4601160"/>
              <a:ext cx="72756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7485480" y="4267080"/>
              <a:ext cx="64584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8330040" y="4993920"/>
              <a:ext cx="58392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7890480" y="4972320"/>
              <a:ext cx="547920" cy="584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8184960" y="5446080"/>
              <a:ext cx="41688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7467840" y="5446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 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464400" y="1687320"/>
            <a:ext cx="6918120" cy="405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UBRIR TODO EL SECTOR O I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USAR LISTAS DE VERIF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USCAR “LO QUE NO SALTA A LA VIST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GISTRAR TODAS LAS DEFICIENCIAS DETECT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CTUAR INMEDIATAMENTE ANTE PELIGROS SE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USCAR SIEMPRE LAS CAUSAS BASICAS PARA C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ELIGRO DETEC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352680" y="685800"/>
            <a:ext cx="30492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897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 INFOR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>
            <a:off x="456480" y="1992600"/>
            <a:ext cx="7560000" cy="344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DATOS DE IDENTIF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REGISTRO DE CONDICIONES SUBESTANDARES (Peligr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3  CLASIFICACION DE PELIG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4  REGISTRO DE LAS CAUSAS BA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5 RECOMENDACIÓN DE MEDIDAS DE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6 RE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505320" y="685800"/>
            <a:ext cx="30456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08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1134360" y="1598400"/>
            <a:ext cx="6269040" cy="4362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SISTEMA ORGANIZ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INFORME RESUMEN AL NIVEL SUP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  N° de Medidas de Control Recomendadas (M.C.R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  N° y % de M.C.R. realiz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  N° y % de M.C.R. en Ejecu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d  N° y % de M.C.R. Pend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  N° y  % de M.C.R. Desenten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200400" y="685800"/>
            <a:ext cx="30492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143000" y="16002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43000" y="28954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143000" y="34290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143000" y="41148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143000" y="47242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143000" y="5334120"/>
            <a:ext cx="304920" cy="304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25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1116000" y="22050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2629080" y="30348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ENEF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1210320" y="1522800"/>
            <a:ext cx="6903000" cy="100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fuentes de pér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Corregir condiciones subestá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y corregir deficiencias de Control Administr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36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1220400" y="3427920"/>
            <a:ext cx="69458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EJORAR LAS INTERACCIONES EN EL SISTEMA G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12480" y="4723200"/>
            <a:ext cx="494928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antener un ambiente de trabajo seg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ejorar el nivel de operativ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657600" y="2781360"/>
            <a:ext cx="1143000" cy="571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635280" y="4076640"/>
            <a:ext cx="1143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 rot="286200">
            <a:off x="1983960" y="608040"/>
            <a:ext cx="42969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co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ciones insegur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48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 rot="21007200">
            <a:off x="2289960" y="1827000"/>
            <a:ext cx="43808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no h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su trabajo en forma correc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21520" y="3807360"/>
            <a:ext cx="255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SA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PU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QUI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acer el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forma seg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114800" y="388620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114800" y="426708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14800" y="4648320"/>
            <a:ext cx="22860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9" name="" descr=""/>
          <p:cNvPicPr/>
          <p:nvPr/>
        </p:nvPicPr>
        <p:blipFill>
          <a:blip r:embed="rId3"/>
          <a:stretch/>
        </p:blipFill>
        <p:spPr>
          <a:xfrm>
            <a:off x="838080" y="3581280"/>
            <a:ext cx="2286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2133720" y="304920"/>
            <a:ext cx="2666880" cy="2209680"/>
          </a:xfrm>
          <a:prstGeom prst="hexagon">
            <a:avLst>
              <a:gd name="adj" fmla="val 30173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3124080" y="457200"/>
            <a:ext cx="681120" cy="1891800"/>
            <a:chOff x="3124080" y="457200"/>
            <a:chExt cx="681120" cy="1891800"/>
          </a:xfrm>
        </p:grpSpPr>
        <p:sp>
          <p:nvSpPr>
            <p:cNvPr id="962" name=""/>
            <p:cNvSpPr/>
            <p:nvPr/>
          </p:nvSpPr>
          <p:spPr>
            <a:xfrm>
              <a:off x="3260520" y="457200"/>
              <a:ext cx="408240" cy="447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260520" y="955440"/>
              <a:ext cx="4082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124080" y="955440"/>
              <a:ext cx="9036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714480" y="955440"/>
              <a:ext cx="9072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0516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768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1371600" y="2816640"/>
            <a:ext cx="632448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O SUBESTANDAR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odo acto u omisión del trabajador que lo desvía de un procedimiento o de la manera aceptada como correcta para efectuar una tar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990720" y="303480"/>
            <a:ext cx="32763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EMP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UBESTA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04920" y="1675440"/>
            <a:ext cx="4495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USAS BA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04920" y="2894400"/>
            <a:ext cx="45720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FALTA DE CONOCIMI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04920" y="4250520"/>
            <a:ext cx="45720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OBLEMAS FISICO- MEN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28600" y="5828400"/>
            <a:ext cx="4572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IN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91320" y="1446840"/>
            <a:ext cx="190476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19920" y="2513520"/>
            <a:ext cx="2819160" cy="1008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PACIT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TREN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DIESTR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19920" y="4037400"/>
            <a:ext cx="2819160" cy="100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ELE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RGONO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UB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638680" y="5409000"/>
            <a:ext cx="3276720" cy="100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FUERZO POSI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REQU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292720" y="2895480"/>
            <a:ext cx="4222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292720" y="4191120"/>
            <a:ext cx="4222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076720" y="5734080"/>
            <a:ext cx="4730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676520"/>
            <a:ext cx="8001000" cy="482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ELIGRO:  Cualquier situación acto o condición, en que una pérdida es po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: Probabilidad en que un peligro se transforme en pérdida. El riesgo no se elimina, se contro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ÉRDIDA: Consecuencia de un riesgo fuera de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6477120" y="2741760"/>
            <a:ext cx="2361960" cy="106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DESEMPE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ESTAND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correc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362320" y="20574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2895480" y="2514600"/>
            <a:ext cx="777600" cy="1996560"/>
            <a:chOff x="2895480" y="2514600"/>
            <a:chExt cx="777600" cy="1996560"/>
          </a:xfrm>
        </p:grpSpPr>
        <p:sp>
          <p:nvSpPr>
            <p:cNvPr id="984" name=""/>
            <p:cNvSpPr/>
            <p:nvPr/>
          </p:nvSpPr>
          <p:spPr>
            <a:xfrm>
              <a:off x="3051000" y="2514600"/>
              <a:ext cx="466200" cy="472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51000" y="3040560"/>
              <a:ext cx="46620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895480" y="3040560"/>
              <a:ext cx="10296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569760" y="3040560"/>
              <a:ext cx="10332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10212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1056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4267080" y="259092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MB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DU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28600" y="243828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3023400">
            <a:off x="801360" y="374760"/>
            <a:ext cx="2349360" cy="1600200"/>
          </a:xfrm>
          <a:prstGeom prst="rightArrow">
            <a:avLst>
              <a:gd name="adj1" fmla="val 50000"/>
              <a:gd name="adj2" fmla="val 36704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NTREN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9023000">
            <a:off x="495000" y="460980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UB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2057400" y="1141200"/>
            <a:ext cx="327672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OBSERVAC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LANEA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L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828800" y="3198240"/>
            <a:ext cx="6172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ividad preventiva sistemática, para verificar el desempeño de un trabajador, en relación al procedimiento  establecido para la ejecución de una t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057400" y="913320"/>
            <a:ext cx="52578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 OBSERVACION PLANE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09480" y="25146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1143000" y="2971800"/>
            <a:ext cx="777600" cy="1996560"/>
            <a:chOff x="1143000" y="2971800"/>
            <a:chExt cx="777600" cy="1996560"/>
          </a:xfrm>
        </p:grpSpPr>
        <p:sp>
          <p:nvSpPr>
            <p:cNvPr id="999" name=""/>
            <p:cNvSpPr/>
            <p:nvPr/>
          </p:nvSpPr>
          <p:spPr>
            <a:xfrm>
              <a:off x="1298520" y="2971800"/>
              <a:ext cx="466200" cy="4723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98520" y="3497760"/>
              <a:ext cx="46620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43000" y="3497760"/>
              <a:ext cx="10296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17280" y="3497760"/>
              <a:ext cx="10332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34964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55808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3962520" y="2513520"/>
            <a:ext cx="43434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PREPA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3275640"/>
            <a:ext cx="44197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86200" y="4037400"/>
            <a:ext cx="44956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VALUACION Y REGI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886200" y="4723200"/>
            <a:ext cx="44956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E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886200" y="5409000"/>
            <a:ext cx="449568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48120" y="2438280"/>
            <a:ext cx="53316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048120" y="3276720"/>
            <a:ext cx="5331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048120" y="4038480"/>
            <a:ext cx="53316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048120" y="4724280"/>
            <a:ext cx="533160" cy="609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048120" y="5410080"/>
            <a:ext cx="533160" cy="609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PREPA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681560" y="2591280"/>
            <a:ext cx="541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Selección del traba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Selección del trabaj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Revisión de procedimi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cisión de avisar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681560" y="3016080"/>
            <a:ext cx="4547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Ubicación conven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Evitar distraer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Evitar interrup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6009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681560" y="2166480"/>
            <a:ext cx="7214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Identificar actos subestánd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Clasificar su peligros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Determinar probabilidad de ocurr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terminar Causas Bás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   Registrar in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1042920" y="270828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aller de identificación de riesg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892160" y="1241280"/>
            <a:ext cx="6448680" cy="5578200"/>
            <a:chOff x="1892160" y="1241280"/>
            <a:chExt cx="6448680" cy="5578200"/>
          </a:xfrm>
        </p:grpSpPr>
        <p:sp>
          <p:nvSpPr>
            <p:cNvPr id="1027" name=""/>
            <p:cNvSpPr/>
            <p:nvPr/>
          </p:nvSpPr>
          <p:spPr>
            <a:xfrm>
              <a:off x="1892160" y="1241280"/>
              <a:ext cx="6448680" cy="5578200"/>
            </a:xfrm>
            <a:custGeom>
              <a:avLst/>
              <a:gdLst>
                <a:gd name="textAreaLeft" fmla="*/ 329760 w 6448680"/>
                <a:gd name="textAreaRight" fmla="*/ 6118920 w 6448680"/>
                <a:gd name="textAreaTop" fmla="*/ 329760 h 5578200"/>
                <a:gd name="textAreaBottom" fmla="*/ 5248440 h 5578200"/>
              </a:gdLst>
              <a:ahLst/>
              <a:rect l="textAreaLeft" t="textAreaTop" r="textAreaRight" b="textAreaBottom"/>
              <a:pathLst>
                <a:path w="24970" h="21600">
                  <a:moveTo>
                    <a:pt x="0" y="0"/>
                  </a:moveTo>
                  <a:lnTo>
                    <a:pt x="24970" y="0"/>
                  </a:lnTo>
                  <a:lnTo>
                    <a:pt x="24970" y="21600"/>
                  </a:lnTo>
                  <a:lnTo>
                    <a:pt x="0" y="21600"/>
                  </a:lnTo>
                  <a:close/>
                </a:path>
                <a:path fill="lightenLess" w="24970" h="21600">
                  <a:moveTo>
                    <a:pt x="0" y="0"/>
                  </a:moveTo>
                  <a:lnTo>
                    <a:pt x="24970" y="0"/>
                  </a:lnTo>
                  <a:lnTo>
                    <a:pt x="23694" y="1277"/>
                  </a:lnTo>
                  <a:lnTo>
                    <a:pt x="1277" y="1277"/>
                  </a:lnTo>
                  <a:close/>
                </a:path>
                <a:path fill="darken" w="24970" h="21600">
                  <a:moveTo>
                    <a:pt x="24970" y="0"/>
                  </a:moveTo>
                  <a:lnTo>
                    <a:pt x="24970" y="21600"/>
                  </a:lnTo>
                  <a:lnTo>
                    <a:pt x="23694" y="20323"/>
                  </a:lnTo>
                  <a:lnTo>
                    <a:pt x="23694" y="1277"/>
                  </a:lnTo>
                  <a:close/>
                </a:path>
                <a:path fill="darkenLess" w="24970" h="21600">
                  <a:moveTo>
                    <a:pt x="24970" y="21600"/>
                  </a:moveTo>
                  <a:lnTo>
                    <a:pt x="0" y="21600"/>
                  </a:lnTo>
                  <a:lnTo>
                    <a:pt x="1277" y="20323"/>
                  </a:lnTo>
                  <a:lnTo>
                    <a:pt x="23694" y="20323"/>
                  </a:lnTo>
                  <a:close/>
                </a:path>
                <a:path fill="lighten" w="24970" h="21600">
                  <a:moveTo>
                    <a:pt x="0" y="21600"/>
                  </a:moveTo>
                  <a:lnTo>
                    <a:pt x="0" y="0"/>
                  </a:lnTo>
                  <a:lnTo>
                    <a:pt x="1277" y="1277"/>
                  </a:lnTo>
                  <a:lnTo>
                    <a:pt x="1277" y="20323"/>
                  </a:lnTo>
                  <a:close/>
                </a:path>
              </a:pathLst>
            </a:custGeom>
            <a:solidFill>
              <a:srgbClr val="f8f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884320" y="1521720"/>
              <a:ext cx="4464360" cy="369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631320" y="1462320"/>
              <a:ext cx="3024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Tipos de Accidentes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74760" y="2014560"/>
              <a:ext cx="593100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aídas del mismo ni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aídas de distinto ni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Golpeado por/con/contra objetos o estructur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Atrapamiento en máquinas, materiales o instalacio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objetos corta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objetos punza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fuego/objetos/líquidos calientes/productos químic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Sobreesfuerzo por peso excesivo/movimiento brusco/movimiento repetitivo.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Atropellamiento o choq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electricid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6000" y="1298520"/>
            <a:ext cx="8680320" cy="5083200"/>
          </a:xfrm>
          <a:custGeom>
            <a:avLst/>
            <a:gdLst>
              <a:gd name="textAreaLeft" fmla="*/ 300240 w 8680320"/>
              <a:gd name="textAreaRight" fmla="*/ 8380080 w 8680320"/>
              <a:gd name="textAreaTop" fmla="*/ 300240 h 5083200"/>
              <a:gd name="textAreaBottom" fmla="*/ 4782960 h 5083200"/>
            </a:gdLst>
            <a:ahLst/>
            <a:rect l="textAreaLeft" t="textAreaTop" r="textAreaRight" b="textAreaBottom"/>
            <a:pathLst>
              <a:path w="36884" h="21600">
                <a:moveTo>
                  <a:pt x="0" y="0"/>
                </a:moveTo>
                <a:lnTo>
                  <a:pt x="36884" y="0"/>
                </a:lnTo>
                <a:lnTo>
                  <a:pt x="36884" y="21600"/>
                </a:lnTo>
                <a:lnTo>
                  <a:pt x="0" y="21600"/>
                </a:lnTo>
                <a:close/>
              </a:path>
              <a:path fill="lightenLess" w="36884" h="21600">
                <a:moveTo>
                  <a:pt x="0" y="0"/>
                </a:moveTo>
                <a:lnTo>
                  <a:pt x="36884" y="0"/>
                </a:lnTo>
                <a:lnTo>
                  <a:pt x="35607" y="1277"/>
                </a:lnTo>
                <a:lnTo>
                  <a:pt x="1277" y="1277"/>
                </a:lnTo>
                <a:close/>
              </a:path>
              <a:path fill="darken" w="36884" h="21600">
                <a:moveTo>
                  <a:pt x="36884" y="0"/>
                </a:moveTo>
                <a:lnTo>
                  <a:pt x="36884" y="21600"/>
                </a:lnTo>
                <a:lnTo>
                  <a:pt x="35607" y="20323"/>
                </a:lnTo>
                <a:lnTo>
                  <a:pt x="35607" y="1277"/>
                </a:lnTo>
                <a:close/>
              </a:path>
              <a:path fill="darkenLess" w="36884" h="21600">
                <a:moveTo>
                  <a:pt x="36884" y="21600"/>
                </a:moveTo>
                <a:lnTo>
                  <a:pt x="0" y="21600"/>
                </a:lnTo>
                <a:lnTo>
                  <a:pt x="1277" y="20323"/>
                </a:lnTo>
                <a:lnTo>
                  <a:pt x="35607" y="20323"/>
                </a:lnTo>
                <a:close/>
              </a:path>
              <a:path fill="lighten" w="36884" h="21600">
                <a:moveTo>
                  <a:pt x="0" y="21600"/>
                </a:moveTo>
                <a:lnTo>
                  <a:pt x="0" y="0"/>
                </a:lnTo>
                <a:lnTo>
                  <a:pt x="1277" y="1277"/>
                </a:lnTo>
                <a:lnTo>
                  <a:pt x="1277" y="20323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43120" y="174456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433880" y="1690560"/>
            <a:ext cx="2504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Riesgo asociad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25320" y="2079720"/>
            <a:ext cx="4651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aídas del mismo ni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aídas de distinto ni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Golpeado por/con/contra objetos o estructu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trapamiento en máquinas, materiales o instal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objetos cort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objetos punz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fuego/objetos/líquidos cal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Sobreesfuerzo por peso excesivo/movimiento brusco/movimiento repetitiv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tropellamiento o cho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electric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957920" y="176364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723280" y="1709640"/>
            <a:ext cx="2165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Consecuenc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064120" y="2174760"/>
            <a:ext cx="383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us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Her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Fractu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Mue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mpu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nfermedades infectocontagios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Quemaduras de distinto g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Lesiones a la espal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sgui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Tendin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Shock eléc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35080" y="1488960"/>
            <a:ext cx="8623080" cy="5083200"/>
          </a:xfrm>
          <a:custGeom>
            <a:avLst/>
            <a:gdLst>
              <a:gd name="textAreaLeft" fmla="*/ 300240 w 8623080"/>
              <a:gd name="textAreaRight" fmla="*/ 8322840 w 8623080"/>
              <a:gd name="textAreaTop" fmla="*/ 300240 h 5083200"/>
              <a:gd name="textAreaBottom" fmla="*/ 4782960 h 5083200"/>
            </a:gdLst>
            <a:ahLst/>
            <a:rect l="textAreaLeft" t="textAreaTop" r="textAreaRight" b="textAreaBottom"/>
            <a:pathLst>
              <a:path w="36641" h="21600">
                <a:moveTo>
                  <a:pt x="0" y="0"/>
                </a:moveTo>
                <a:lnTo>
                  <a:pt x="36641" y="0"/>
                </a:lnTo>
                <a:lnTo>
                  <a:pt x="36641" y="21600"/>
                </a:lnTo>
                <a:lnTo>
                  <a:pt x="0" y="21600"/>
                </a:lnTo>
                <a:close/>
              </a:path>
              <a:path fill="lightenLess" w="36641" h="21600">
                <a:moveTo>
                  <a:pt x="0" y="0"/>
                </a:moveTo>
                <a:lnTo>
                  <a:pt x="36641" y="0"/>
                </a:lnTo>
                <a:lnTo>
                  <a:pt x="35364" y="1277"/>
                </a:lnTo>
                <a:lnTo>
                  <a:pt x="1277" y="1277"/>
                </a:lnTo>
                <a:close/>
              </a:path>
              <a:path fill="darken" w="36641" h="21600">
                <a:moveTo>
                  <a:pt x="36641" y="0"/>
                </a:moveTo>
                <a:lnTo>
                  <a:pt x="36641" y="21600"/>
                </a:lnTo>
                <a:lnTo>
                  <a:pt x="35364" y="20323"/>
                </a:lnTo>
                <a:lnTo>
                  <a:pt x="35364" y="1277"/>
                </a:lnTo>
                <a:close/>
              </a:path>
              <a:path fill="darkenLess" w="36641" h="21600">
                <a:moveTo>
                  <a:pt x="36641" y="21600"/>
                </a:moveTo>
                <a:lnTo>
                  <a:pt x="0" y="21600"/>
                </a:lnTo>
                <a:lnTo>
                  <a:pt x="1277" y="20323"/>
                </a:lnTo>
                <a:lnTo>
                  <a:pt x="35364" y="20323"/>
                </a:lnTo>
                <a:close/>
              </a:path>
              <a:path fill="lighten" w="36641" h="21600">
                <a:moveTo>
                  <a:pt x="0" y="21600"/>
                </a:moveTo>
                <a:lnTo>
                  <a:pt x="0" y="0"/>
                </a:lnTo>
                <a:lnTo>
                  <a:pt x="1277" y="1277"/>
                </a:lnTo>
                <a:lnTo>
                  <a:pt x="1277" y="20323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43120" y="174456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354680" y="1671480"/>
            <a:ext cx="2553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Riesgo Asociad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25320" y="2308320"/>
            <a:ext cx="446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altos niveles de ru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altos niveles de solv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Demora en la evacuación en caso de una emergenc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Incend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lapso estructural en caso de sismo o terremo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humo de cigar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altos niveles de 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sumo de alimentos en mal est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957920" y="176364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723280" y="1709640"/>
            <a:ext cx="2165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Consecuenc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064120" y="2289240"/>
            <a:ext cx="335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Sord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Daño Orgánico Cereb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usiones, heridas, fracturas, Mue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Quemaduras de distinto grado, mue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án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Intoxicación, mue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828800"/>
            <a:ext cx="8001000" cy="3764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U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PECUL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HERENT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AGREG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2468520" y="2470320"/>
            <a:ext cx="5475240" cy="2205000"/>
          </a:xfrm>
          <a:prstGeom prst="rect">
            <a:avLst/>
          </a:prstGeom>
          <a:solidFill>
            <a:srgbClr val="fbf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565280" y="1176480"/>
            <a:ext cx="7121520" cy="53316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EVALUACION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82800" y="2778120"/>
            <a:ext cx="5005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Consecuencia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Probabilidad de ocurrenc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4724280" y="3705120"/>
            <a:ext cx="4114800" cy="198144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153753" dir="2700000" blurRad="0" rotWithShape="0">
              <a:srgbClr val="1e1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0" y="5867280"/>
            <a:ext cx="9143640" cy="533520"/>
            <a:chOff x="0" y="5867280"/>
            <a:chExt cx="9143640" cy="533520"/>
          </a:xfrm>
        </p:grpSpPr>
        <p:sp>
          <p:nvSpPr>
            <p:cNvPr id="1052" name=""/>
            <p:cNvSpPr/>
            <p:nvPr/>
          </p:nvSpPr>
          <p:spPr>
            <a:xfrm>
              <a:off x="0" y="6400800"/>
              <a:ext cx="1023840" cy="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23840" y="5867280"/>
              <a:ext cx="8119800" cy="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1023840" y="5867280"/>
              <a:ext cx="0" cy="53352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4867560" cy="100008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962160" cy="30492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3"/>
          <a:stretch/>
        </p:blipFill>
        <p:spPr>
          <a:xfrm>
            <a:off x="1104840" y="2743200"/>
            <a:ext cx="3124440" cy="32544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4"/>
          <a:stretch/>
        </p:blipFill>
        <p:spPr>
          <a:xfrm>
            <a:off x="1104840" y="3352680"/>
            <a:ext cx="3159360" cy="165096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5"/>
          <a:stretch/>
        </p:blipFill>
        <p:spPr>
          <a:xfrm>
            <a:off x="4705200" y="3352680"/>
            <a:ext cx="4133880" cy="233388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1523880" y="457200"/>
            <a:ext cx="7121520" cy="5335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CÁLCULO DE LA MAGNITUD DE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03640" y="2060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58000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 x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"/>
          <p:cNvGrpSpPr/>
          <p:nvPr/>
        </p:nvGrpSpPr>
        <p:grpSpPr>
          <a:xfrm>
            <a:off x="2322360" y="1038240"/>
            <a:ext cx="5719680" cy="460440"/>
            <a:chOff x="2322360" y="1038240"/>
            <a:chExt cx="5719680" cy="460440"/>
          </a:xfrm>
        </p:grpSpPr>
        <p:sp>
          <p:nvSpPr>
            <p:cNvPr id="1064" name=""/>
            <p:cNvSpPr/>
            <p:nvPr/>
          </p:nvSpPr>
          <p:spPr>
            <a:xfrm>
              <a:off x="23223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76992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21784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675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2322360" y="428400"/>
            <a:ext cx="5718240" cy="537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Verdana"/>
              </a:rPr>
              <a:t>CONSECUENC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rot="16200000">
            <a:off x="-1050840" y="3741120"/>
            <a:ext cx="4845240" cy="540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Verdana"/>
              </a:rPr>
              <a:t>PROBA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743120" y="1571760"/>
            <a:ext cx="477360" cy="4848840"/>
            <a:chOff x="1743120" y="1571760"/>
            <a:chExt cx="477360" cy="4848840"/>
          </a:xfrm>
        </p:grpSpPr>
        <p:sp>
          <p:nvSpPr>
            <p:cNvPr id="1071" name=""/>
            <p:cNvSpPr/>
            <p:nvPr/>
          </p:nvSpPr>
          <p:spPr>
            <a:xfrm rot="16200000">
              <a:off x="1405800" y="1919160"/>
              <a:ext cx="116208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6200000">
              <a:off x="1405800" y="314748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6200000">
              <a:off x="1405800" y="437904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6200000">
              <a:off x="1395360" y="560592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2322360" y="1038240"/>
            <a:ext cx="5719680" cy="460440"/>
            <a:chOff x="2322360" y="1038240"/>
            <a:chExt cx="5719680" cy="460440"/>
          </a:xfrm>
        </p:grpSpPr>
        <p:sp>
          <p:nvSpPr>
            <p:cNvPr id="1076" name=""/>
            <p:cNvSpPr/>
            <p:nvPr/>
          </p:nvSpPr>
          <p:spPr>
            <a:xfrm>
              <a:off x="23223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76992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21784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6675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>
            <a:off x="2322360" y="428400"/>
            <a:ext cx="5718240" cy="537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Verdana"/>
              </a:rPr>
              <a:t>CONSECUENC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rot="16200000">
            <a:off x="-1050840" y="3741120"/>
            <a:ext cx="4845240" cy="5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Verdana"/>
              </a:rPr>
              <a:t>PROB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1743120" y="1571760"/>
            <a:ext cx="477360" cy="4848840"/>
            <a:chOff x="1743120" y="1571760"/>
            <a:chExt cx="477360" cy="4848840"/>
          </a:xfrm>
        </p:grpSpPr>
        <p:sp>
          <p:nvSpPr>
            <p:cNvPr id="1083" name=""/>
            <p:cNvSpPr/>
            <p:nvPr/>
          </p:nvSpPr>
          <p:spPr>
            <a:xfrm rot="16200000">
              <a:off x="1405800" y="1919160"/>
              <a:ext cx="116208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6200000">
              <a:off x="1405800" y="314748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6200000">
              <a:off x="1405800" y="437904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16200000">
              <a:off x="1395360" y="560592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2322360" y="1573200"/>
            <a:ext cx="5720040" cy="4848120"/>
            <a:chOff x="2322360" y="1573200"/>
            <a:chExt cx="5720040" cy="4848120"/>
          </a:xfrm>
        </p:grpSpPr>
        <p:grpSp>
          <p:nvGrpSpPr>
            <p:cNvPr id="1088" name=""/>
            <p:cNvGrpSpPr/>
            <p:nvPr/>
          </p:nvGrpSpPr>
          <p:grpSpPr>
            <a:xfrm>
              <a:off x="2322360" y="1573200"/>
              <a:ext cx="5719680" cy="1162080"/>
              <a:chOff x="2322360" y="1573200"/>
              <a:chExt cx="5719680" cy="1162080"/>
            </a:xfrm>
          </p:grpSpPr>
          <p:sp>
            <p:nvSpPr>
              <p:cNvPr id="1089" name=""/>
              <p:cNvSpPr/>
              <p:nvPr/>
            </p:nvSpPr>
            <p:spPr>
              <a:xfrm>
                <a:off x="2322360" y="1573200"/>
                <a:ext cx="1374480" cy="1162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6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769920" y="1573200"/>
                <a:ext cx="1374840" cy="1162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3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217840" y="1573200"/>
                <a:ext cx="137484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667560" y="1573200"/>
                <a:ext cx="137448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2322360" y="2800440"/>
              <a:ext cx="5719680" cy="1162080"/>
              <a:chOff x="2322360" y="2800440"/>
              <a:chExt cx="5719680" cy="1162080"/>
            </a:xfrm>
          </p:grpSpPr>
          <p:sp>
            <p:nvSpPr>
              <p:cNvPr id="1094" name=""/>
              <p:cNvSpPr/>
              <p:nvPr/>
            </p:nvSpPr>
            <p:spPr>
              <a:xfrm>
                <a:off x="2322360" y="2800440"/>
                <a:ext cx="1374480" cy="11620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3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769920" y="2800440"/>
                <a:ext cx="137484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217840" y="2800440"/>
                <a:ext cx="137484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667560" y="2800440"/>
                <a:ext cx="137448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2322360" y="4032360"/>
              <a:ext cx="5719680" cy="1162080"/>
              <a:chOff x="2322360" y="4032360"/>
              <a:chExt cx="5719680" cy="1162080"/>
            </a:xfrm>
          </p:grpSpPr>
          <p:sp>
            <p:nvSpPr>
              <p:cNvPr id="1099" name=""/>
              <p:cNvSpPr/>
              <p:nvPr/>
            </p:nvSpPr>
            <p:spPr>
              <a:xfrm>
                <a:off x="2322360" y="4032360"/>
                <a:ext cx="137448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69920" y="4032360"/>
                <a:ext cx="137484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17840" y="4032360"/>
                <a:ext cx="137484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667560" y="4032360"/>
                <a:ext cx="137448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2322360" y="5259240"/>
              <a:ext cx="5719680" cy="1162080"/>
              <a:chOff x="2322360" y="5259240"/>
              <a:chExt cx="5719680" cy="1162080"/>
            </a:xfrm>
          </p:grpSpPr>
          <p:sp>
            <p:nvSpPr>
              <p:cNvPr id="1104" name=""/>
              <p:cNvSpPr/>
              <p:nvPr/>
            </p:nvSpPr>
            <p:spPr>
              <a:xfrm>
                <a:off x="2322360" y="5259240"/>
                <a:ext cx="137448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769920" y="5259240"/>
                <a:ext cx="137484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17840" y="5259240"/>
                <a:ext cx="137484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667200" y="5259240"/>
                <a:ext cx="137484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"/>
            <p:cNvSpPr/>
            <p:nvPr/>
          </p:nvSpPr>
          <p:spPr>
            <a:xfrm>
              <a:off x="2322360" y="1573200"/>
              <a:ext cx="1374840" cy="116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6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IN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770280" y="1573200"/>
              <a:ext cx="1374840" cy="1162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3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218200" y="157320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667560" y="157320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70280" y="280044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218200" y="28004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667560" y="28004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322360" y="403236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70280" y="403236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218200" y="403236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667560" y="403236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322360" y="52592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70280" y="52592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218200" y="5259240"/>
              <a:ext cx="1374840" cy="1162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667560" y="5259240"/>
              <a:ext cx="1374840" cy="1162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322360" y="2792520"/>
              <a:ext cx="1374840" cy="1162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3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22360" y="403848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18200" y="158112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22360" y="525780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70280" y="403848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665760" y="158112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72080" y="5257800"/>
              <a:ext cx="137448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219640" y="403848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667560" y="525132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19640" y="525132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0" y="1352520"/>
            <a:ext cx="9144000" cy="55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332000" y="260280"/>
            <a:ext cx="7121520" cy="438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 Black"/>
              </a:rPr>
              <a:t>TRABAJO EN GRUP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154080" y="1442880"/>
            <a:ext cx="8837640" cy="2562480"/>
            <a:chOff x="154080" y="1442880"/>
            <a:chExt cx="8837640" cy="2562480"/>
          </a:xfrm>
        </p:grpSpPr>
        <p:grpSp>
          <p:nvGrpSpPr>
            <p:cNvPr id="1136" name=""/>
            <p:cNvGrpSpPr/>
            <p:nvPr/>
          </p:nvGrpSpPr>
          <p:grpSpPr>
            <a:xfrm>
              <a:off x="158760" y="1446840"/>
              <a:ext cx="8827920" cy="2553480"/>
              <a:chOff x="158760" y="1446840"/>
              <a:chExt cx="8827920" cy="2553480"/>
            </a:xfrm>
          </p:grpSpPr>
          <p:grpSp>
            <p:nvGrpSpPr>
              <p:cNvPr id="1137" name=""/>
              <p:cNvGrpSpPr/>
              <p:nvPr/>
            </p:nvGrpSpPr>
            <p:grpSpPr>
              <a:xfrm>
                <a:off x="158760" y="1446840"/>
                <a:ext cx="1003320" cy="806400"/>
                <a:chOff x="158760" y="1446840"/>
                <a:chExt cx="1003320" cy="8064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158760" y="1446840"/>
                  <a:ext cx="100332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9" name=""/>
                <p:cNvGrpSpPr/>
                <p:nvPr/>
              </p:nvGrpSpPr>
              <p:grpSpPr>
                <a:xfrm>
                  <a:off x="158760" y="1446840"/>
                  <a:ext cx="1003320" cy="806400"/>
                  <a:chOff x="158760" y="1446840"/>
                  <a:chExt cx="1003320" cy="806400"/>
                </a:xfrm>
              </p:grpSpPr>
              <p:sp>
                <p:nvSpPr>
                  <p:cNvPr id="1140" name=""/>
                  <p:cNvSpPr/>
                  <p:nvPr/>
                </p:nvSpPr>
                <p:spPr>
                  <a:xfrm>
                    <a:off x="203040" y="1446840"/>
                    <a:ext cx="91440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Lugar 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158760" y="1446840"/>
                    <a:ext cx="100332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2" name=""/>
              <p:cNvGrpSpPr/>
              <p:nvPr/>
            </p:nvGrpSpPr>
            <p:grpSpPr>
              <a:xfrm>
                <a:off x="1162080" y="1446840"/>
                <a:ext cx="1003320" cy="806400"/>
                <a:chOff x="1162080" y="1446840"/>
                <a:chExt cx="1003320" cy="80640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1162080" y="1446840"/>
                  <a:ext cx="100332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4" name=""/>
                <p:cNvGrpSpPr/>
                <p:nvPr/>
              </p:nvGrpSpPr>
              <p:grpSpPr>
                <a:xfrm>
                  <a:off x="1162080" y="1446840"/>
                  <a:ext cx="1003320" cy="806400"/>
                  <a:chOff x="1162080" y="1446840"/>
                  <a:chExt cx="1003320" cy="80640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1206360" y="1446840"/>
                    <a:ext cx="91440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Condición de Riesgo detectad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1162080" y="1446840"/>
                    <a:ext cx="100332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7" name=""/>
              <p:cNvGrpSpPr/>
              <p:nvPr/>
            </p:nvGrpSpPr>
            <p:grpSpPr>
              <a:xfrm>
                <a:off x="2165400" y="1446840"/>
                <a:ext cx="995400" cy="806400"/>
                <a:chOff x="2165400" y="1446840"/>
                <a:chExt cx="995400" cy="806400"/>
              </a:xfrm>
            </p:grpSpPr>
            <p:sp>
              <p:nvSpPr>
                <p:cNvPr id="1148" name=""/>
                <p:cNvSpPr/>
                <p:nvPr/>
              </p:nvSpPr>
              <p:spPr>
                <a:xfrm>
                  <a:off x="2165400" y="1446840"/>
                  <a:ext cx="99540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9" name=""/>
                <p:cNvGrpSpPr/>
                <p:nvPr/>
              </p:nvGrpSpPr>
              <p:grpSpPr>
                <a:xfrm>
                  <a:off x="2165400" y="1446840"/>
                  <a:ext cx="995400" cy="806400"/>
                  <a:chOff x="2165400" y="1446840"/>
                  <a:chExt cx="995400" cy="806400"/>
                </a:xfrm>
              </p:grpSpPr>
              <p:sp>
                <p:nvSpPr>
                  <p:cNvPr id="1150" name=""/>
                  <p:cNvSpPr/>
                  <p:nvPr/>
                </p:nvSpPr>
                <p:spPr>
                  <a:xfrm>
                    <a:off x="2209680" y="1446840"/>
                    <a:ext cx="90648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Riesgo Asociad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165400" y="1446840"/>
                    <a:ext cx="99540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2" name=""/>
              <p:cNvGrpSpPr/>
              <p:nvPr/>
            </p:nvGrpSpPr>
            <p:grpSpPr>
              <a:xfrm>
                <a:off x="3160800" y="1446840"/>
                <a:ext cx="1187280" cy="806400"/>
                <a:chOff x="3160800" y="1446840"/>
                <a:chExt cx="1187280" cy="8064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3160800" y="1446840"/>
                  <a:ext cx="118728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4" name=""/>
                <p:cNvGrpSpPr/>
                <p:nvPr/>
              </p:nvGrpSpPr>
              <p:grpSpPr>
                <a:xfrm>
                  <a:off x="3160800" y="1446840"/>
                  <a:ext cx="1187280" cy="806400"/>
                  <a:chOff x="3160800" y="1446840"/>
                  <a:chExt cx="1187280" cy="806400"/>
                </a:xfrm>
              </p:grpSpPr>
              <p:sp>
                <p:nvSpPr>
                  <p:cNvPr id="1155" name=""/>
                  <p:cNvSpPr/>
                  <p:nvPr/>
                </p:nvSpPr>
                <p:spPr>
                  <a:xfrm>
                    <a:off x="3205080" y="1446840"/>
                    <a:ext cx="109872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Consecuenci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3160800" y="1446840"/>
                    <a:ext cx="118728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7" name=""/>
              <p:cNvGrpSpPr/>
              <p:nvPr/>
            </p:nvGrpSpPr>
            <p:grpSpPr>
              <a:xfrm>
                <a:off x="4348080" y="1446840"/>
                <a:ext cx="1187640" cy="806400"/>
                <a:chOff x="4348080" y="1446840"/>
                <a:chExt cx="1187640" cy="80640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4348080" y="1446840"/>
                  <a:ext cx="118764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4348080" y="1446840"/>
                  <a:ext cx="1187640" cy="806400"/>
                  <a:chOff x="4348080" y="1446840"/>
                  <a:chExt cx="1187640" cy="80640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4392720" y="1446840"/>
                    <a:ext cx="109836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Magnitud de Riesg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348080" y="1446840"/>
                    <a:ext cx="118764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5535720" y="1446840"/>
                <a:ext cx="1101600" cy="806400"/>
                <a:chOff x="5535720" y="1446840"/>
                <a:chExt cx="1101600" cy="80640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5535720" y="1446840"/>
                  <a:ext cx="110160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4" name=""/>
                <p:cNvGrpSpPr/>
                <p:nvPr/>
              </p:nvGrpSpPr>
              <p:grpSpPr>
                <a:xfrm>
                  <a:off x="5535720" y="1446840"/>
                  <a:ext cx="1101600" cy="806400"/>
                  <a:chOff x="5535720" y="1446840"/>
                  <a:chExt cx="1101600" cy="80640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>
                    <a:off x="5580000" y="1446840"/>
                    <a:ext cx="101304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Medidas de Control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535720" y="1446840"/>
                    <a:ext cx="110160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7" name=""/>
              <p:cNvGrpSpPr/>
              <p:nvPr/>
            </p:nvGrpSpPr>
            <p:grpSpPr>
              <a:xfrm>
                <a:off x="6637320" y="1446840"/>
                <a:ext cx="1117800" cy="806400"/>
                <a:chOff x="6637320" y="1446840"/>
                <a:chExt cx="1117800" cy="80640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6637320" y="1446840"/>
                  <a:ext cx="111780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9" name=""/>
                <p:cNvGrpSpPr/>
                <p:nvPr/>
              </p:nvGrpSpPr>
              <p:grpSpPr>
                <a:xfrm>
                  <a:off x="6637320" y="1446840"/>
                  <a:ext cx="1117800" cy="806400"/>
                  <a:chOff x="6637320" y="1446840"/>
                  <a:chExt cx="1117800" cy="80640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>
                    <a:off x="6681960" y="1446840"/>
                    <a:ext cx="102852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Responsable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6637320" y="1446840"/>
                    <a:ext cx="111780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2" name=""/>
              <p:cNvGrpSpPr/>
              <p:nvPr/>
            </p:nvGrpSpPr>
            <p:grpSpPr>
              <a:xfrm>
                <a:off x="7755120" y="1446840"/>
                <a:ext cx="1231560" cy="806400"/>
                <a:chOff x="7755120" y="1446840"/>
                <a:chExt cx="1231560" cy="80640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7755120" y="1446840"/>
                  <a:ext cx="123156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4" name=""/>
                <p:cNvGrpSpPr/>
                <p:nvPr/>
              </p:nvGrpSpPr>
              <p:grpSpPr>
                <a:xfrm>
                  <a:off x="7755120" y="1446840"/>
                  <a:ext cx="1231560" cy="806400"/>
                  <a:chOff x="7755120" y="1446840"/>
                  <a:chExt cx="1231560" cy="806400"/>
                </a:xfrm>
              </p:grpSpPr>
              <p:sp>
                <p:nvSpPr>
                  <p:cNvPr id="1175" name=""/>
                  <p:cNvSpPr/>
                  <p:nvPr/>
                </p:nvSpPr>
                <p:spPr>
                  <a:xfrm>
                    <a:off x="7799400" y="1446840"/>
                    <a:ext cx="114300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Plazo de Cumplimient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7755120" y="1446840"/>
                    <a:ext cx="123156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7" name=""/>
              <p:cNvGrpSpPr/>
              <p:nvPr/>
            </p:nvGrpSpPr>
            <p:grpSpPr>
              <a:xfrm>
                <a:off x="158760" y="2253240"/>
                <a:ext cx="1003320" cy="1747080"/>
                <a:chOff x="158760" y="2253240"/>
                <a:chExt cx="1003320" cy="174708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158760" y="2253240"/>
                  <a:ext cx="100332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9" name=""/>
                <p:cNvGrpSpPr/>
                <p:nvPr/>
              </p:nvGrpSpPr>
              <p:grpSpPr>
                <a:xfrm>
                  <a:off x="158760" y="2253240"/>
                  <a:ext cx="1003320" cy="1747080"/>
                  <a:chOff x="158760" y="2253240"/>
                  <a:chExt cx="1003320" cy="1747080"/>
                </a:xfrm>
              </p:grpSpPr>
              <p:sp>
                <p:nvSpPr>
                  <p:cNvPr id="1180" name=""/>
                  <p:cNvSpPr/>
                  <p:nvPr/>
                </p:nvSpPr>
                <p:spPr>
                  <a:xfrm>
                    <a:off x="203040" y="2253240"/>
                    <a:ext cx="91440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-Plant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-Sección o Dept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-Máquina, lugar específico ó puesto de trabajo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200" spc="-1" strike="noStrike">
                        <a:solidFill>
                          <a:srgbClr val="3333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158760" y="2253240"/>
                    <a:ext cx="100332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2" name=""/>
              <p:cNvGrpSpPr/>
              <p:nvPr/>
            </p:nvGrpSpPr>
            <p:grpSpPr>
              <a:xfrm>
                <a:off x="1162080" y="2253240"/>
                <a:ext cx="1003320" cy="1747080"/>
                <a:chOff x="1162080" y="2253240"/>
                <a:chExt cx="1003320" cy="174708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1162080" y="2253240"/>
                  <a:ext cx="100332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4" name=""/>
                <p:cNvGrpSpPr/>
                <p:nvPr/>
              </p:nvGrpSpPr>
              <p:grpSpPr>
                <a:xfrm>
                  <a:off x="1162080" y="2253240"/>
                  <a:ext cx="1003320" cy="1747080"/>
                  <a:chOff x="1162080" y="2253240"/>
                  <a:chExt cx="1003320" cy="174708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1206360" y="2253240"/>
                    <a:ext cx="91440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Acción o Condición Insegur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1162080" y="2253240"/>
                    <a:ext cx="100332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7" name=""/>
              <p:cNvGrpSpPr/>
              <p:nvPr/>
            </p:nvGrpSpPr>
            <p:grpSpPr>
              <a:xfrm>
                <a:off x="2165400" y="2253240"/>
                <a:ext cx="995400" cy="1747080"/>
                <a:chOff x="2165400" y="2253240"/>
                <a:chExt cx="995400" cy="174708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2165400" y="2253240"/>
                  <a:ext cx="99540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9" name=""/>
                <p:cNvGrpSpPr/>
                <p:nvPr/>
              </p:nvGrpSpPr>
              <p:grpSpPr>
                <a:xfrm>
                  <a:off x="2165400" y="2253240"/>
                  <a:ext cx="995400" cy="1747080"/>
                  <a:chOff x="2165400" y="2253240"/>
                  <a:chExt cx="995400" cy="174708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>
                    <a:off x="2209680" y="2253240"/>
                    <a:ext cx="90648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Tipo de accidente o riesgo generado por la condición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165400" y="2253240"/>
                    <a:ext cx="99540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2" name=""/>
              <p:cNvGrpSpPr/>
              <p:nvPr/>
            </p:nvGrpSpPr>
            <p:grpSpPr>
              <a:xfrm>
                <a:off x="3160800" y="2253240"/>
                <a:ext cx="1187280" cy="1747080"/>
                <a:chOff x="3160800" y="2253240"/>
                <a:chExt cx="1187280" cy="1747080"/>
              </a:xfrm>
            </p:grpSpPr>
            <p:sp>
              <p:nvSpPr>
                <p:cNvPr id="1193" name=""/>
                <p:cNvSpPr/>
                <p:nvPr/>
              </p:nvSpPr>
              <p:spPr>
                <a:xfrm>
                  <a:off x="3160800" y="2253240"/>
                  <a:ext cx="118728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4" name=""/>
                <p:cNvGrpSpPr/>
                <p:nvPr/>
              </p:nvGrpSpPr>
              <p:grpSpPr>
                <a:xfrm>
                  <a:off x="3160800" y="2253240"/>
                  <a:ext cx="1187280" cy="1747080"/>
                  <a:chOff x="3160800" y="2253240"/>
                  <a:chExt cx="1187280" cy="1747080"/>
                </a:xfrm>
              </p:grpSpPr>
              <p:sp>
                <p:nvSpPr>
                  <p:cNvPr id="1195" name=""/>
                  <p:cNvSpPr/>
                  <p:nvPr/>
                </p:nvSpPr>
                <p:spPr>
                  <a:xfrm>
                    <a:off x="3205080" y="2253240"/>
                    <a:ext cx="109872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Tipo de lesiones o enfermedades que la condición puede provocar, pérdidas o daños a la propiedad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160800" y="2253240"/>
                    <a:ext cx="118728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7" name=""/>
              <p:cNvGrpSpPr/>
              <p:nvPr/>
            </p:nvGrpSpPr>
            <p:grpSpPr>
              <a:xfrm>
                <a:off x="4348080" y="2253240"/>
                <a:ext cx="1187640" cy="1747080"/>
                <a:chOff x="4348080" y="2253240"/>
                <a:chExt cx="1187640" cy="174708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4348080" y="2253240"/>
                  <a:ext cx="118764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9" name=""/>
                <p:cNvGrpSpPr/>
                <p:nvPr/>
              </p:nvGrpSpPr>
              <p:grpSpPr>
                <a:xfrm>
                  <a:off x="4348080" y="2253240"/>
                  <a:ext cx="1187640" cy="1747080"/>
                  <a:chOff x="4348080" y="2253240"/>
                  <a:chExt cx="1187640" cy="1747080"/>
                </a:xfrm>
              </p:grpSpPr>
              <p:sp>
                <p:nvSpPr>
                  <p:cNvPr id="1200" name=""/>
                  <p:cNvSpPr/>
                  <p:nvPr/>
                </p:nvSpPr>
                <p:spPr>
                  <a:xfrm>
                    <a:off x="4392720" y="2253240"/>
                    <a:ext cx="109836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Calcular de acuerdo a Criterio de Magnitud de Riesgo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4348080" y="2253240"/>
                    <a:ext cx="118764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2" name=""/>
              <p:cNvGrpSpPr/>
              <p:nvPr/>
            </p:nvGrpSpPr>
            <p:grpSpPr>
              <a:xfrm>
                <a:off x="5535720" y="2253240"/>
                <a:ext cx="1101600" cy="1747080"/>
                <a:chOff x="5535720" y="2253240"/>
                <a:chExt cx="1101600" cy="174708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5535720" y="2253240"/>
                  <a:ext cx="110160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4" name=""/>
                <p:cNvGrpSpPr/>
                <p:nvPr/>
              </p:nvGrpSpPr>
              <p:grpSpPr>
                <a:xfrm>
                  <a:off x="5535720" y="2253240"/>
                  <a:ext cx="1101600" cy="1747080"/>
                  <a:chOff x="5535720" y="2253240"/>
                  <a:chExt cx="1101600" cy="1747080"/>
                </a:xfrm>
              </p:grpSpPr>
              <p:sp>
                <p:nvSpPr>
                  <p:cNvPr id="1205" name=""/>
                  <p:cNvSpPr/>
                  <p:nvPr/>
                </p:nvSpPr>
                <p:spPr>
                  <a:xfrm>
                    <a:off x="5580000" y="2253240"/>
                    <a:ext cx="101304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Medidas que evitarán que la condición de riesgo se mantenga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5535720" y="2253240"/>
                    <a:ext cx="110160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7" name=""/>
              <p:cNvGrpSpPr/>
              <p:nvPr/>
            </p:nvGrpSpPr>
            <p:grpSpPr>
              <a:xfrm>
                <a:off x="6637320" y="2253240"/>
                <a:ext cx="1117800" cy="1747080"/>
                <a:chOff x="6637320" y="2253240"/>
                <a:chExt cx="1117800" cy="1747080"/>
              </a:xfrm>
            </p:grpSpPr>
            <p:sp>
              <p:nvSpPr>
                <p:cNvPr id="1208" name=""/>
                <p:cNvSpPr/>
                <p:nvPr/>
              </p:nvSpPr>
              <p:spPr>
                <a:xfrm>
                  <a:off x="6637320" y="2253240"/>
                  <a:ext cx="111780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9" name=""/>
                <p:cNvGrpSpPr/>
                <p:nvPr/>
              </p:nvGrpSpPr>
              <p:grpSpPr>
                <a:xfrm>
                  <a:off x="6637320" y="2253240"/>
                  <a:ext cx="1117800" cy="1747080"/>
                  <a:chOff x="6637320" y="2253240"/>
                  <a:chExt cx="1117800" cy="1747080"/>
                </a:xfrm>
              </p:grpSpPr>
              <p:sp>
                <p:nvSpPr>
                  <p:cNvPr id="1210" name=""/>
                  <p:cNvSpPr/>
                  <p:nvPr/>
                </p:nvSpPr>
                <p:spPr>
                  <a:xfrm>
                    <a:off x="6681960" y="2253240"/>
                    <a:ext cx="102852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Persona que se hará responsable de llevar a cabo la Medida de Control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6637320" y="2253240"/>
                    <a:ext cx="111780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2" name=""/>
              <p:cNvGrpSpPr/>
              <p:nvPr/>
            </p:nvGrpSpPr>
            <p:grpSpPr>
              <a:xfrm>
                <a:off x="7755120" y="2253240"/>
                <a:ext cx="1231560" cy="1747080"/>
                <a:chOff x="7755120" y="2253240"/>
                <a:chExt cx="1231560" cy="174708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7755120" y="2253240"/>
                  <a:ext cx="123156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4" name=""/>
                <p:cNvGrpSpPr/>
                <p:nvPr/>
              </p:nvGrpSpPr>
              <p:grpSpPr>
                <a:xfrm>
                  <a:off x="7755120" y="2253240"/>
                  <a:ext cx="1231560" cy="1747080"/>
                  <a:chOff x="7755120" y="2253240"/>
                  <a:chExt cx="1231560" cy="1747080"/>
                </a:xfrm>
              </p:grpSpPr>
              <p:sp>
                <p:nvSpPr>
                  <p:cNvPr id="1215" name=""/>
                  <p:cNvSpPr/>
                  <p:nvPr/>
                </p:nvSpPr>
                <p:spPr>
                  <a:xfrm>
                    <a:off x="7799400" y="2253240"/>
                    <a:ext cx="114300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Plazo en el que la medida de control deberá estar implementada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7755120" y="2253240"/>
                    <a:ext cx="123156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17" name=""/>
            <p:cNvSpPr/>
            <p:nvPr/>
          </p:nvSpPr>
          <p:spPr>
            <a:xfrm>
              <a:off x="154080" y="1442880"/>
              <a:ext cx="8837640" cy="256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179280" y="4149720"/>
            <a:ext cx="8835840" cy="2295360"/>
            <a:chOff x="179280" y="4149720"/>
            <a:chExt cx="8835840" cy="2295360"/>
          </a:xfrm>
        </p:grpSpPr>
        <p:grpSp>
          <p:nvGrpSpPr>
            <p:cNvPr id="1219" name=""/>
            <p:cNvGrpSpPr/>
            <p:nvPr/>
          </p:nvGrpSpPr>
          <p:grpSpPr>
            <a:xfrm>
              <a:off x="183960" y="4154400"/>
              <a:ext cx="8826480" cy="2286000"/>
              <a:chOff x="183960" y="4154400"/>
              <a:chExt cx="8826480" cy="2286000"/>
            </a:xfrm>
          </p:grpSpPr>
          <p:grpSp>
            <p:nvGrpSpPr>
              <p:cNvPr id="1220" name=""/>
              <p:cNvGrpSpPr/>
              <p:nvPr/>
            </p:nvGrpSpPr>
            <p:grpSpPr>
              <a:xfrm>
                <a:off x="183960" y="4154400"/>
                <a:ext cx="1003320" cy="1066680"/>
                <a:chOff x="183960" y="4154400"/>
                <a:chExt cx="1003320" cy="106668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228240" y="4154400"/>
                  <a:ext cx="91440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Bodega de.....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183960" y="4154400"/>
                  <a:ext cx="100332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1187280" y="4154400"/>
                <a:ext cx="1052640" cy="1066680"/>
                <a:chOff x="1187280" y="4154400"/>
                <a:chExt cx="1052640" cy="106668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1231560" y="4154400"/>
                  <a:ext cx="963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Trabajador no utiliza Calzado de Seguridad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1187280" y="4154400"/>
                  <a:ext cx="105264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2239920" y="4154400"/>
                <a:ext cx="1296720" cy="1066680"/>
                <a:chOff x="2239920" y="4154400"/>
                <a:chExt cx="1296720" cy="106668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2284200" y="4154400"/>
                  <a:ext cx="120816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Caída de objetos, atropellamiento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239920" y="4154400"/>
                  <a:ext cx="129672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3536640" y="4154400"/>
                <a:ext cx="1117800" cy="1066680"/>
                <a:chOff x="3536640" y="4154400"/>
                <a:chExt cx="1117800" cy="106668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3581280" y="4154400"/>
                  <a:ext cx="10285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Contusiones, fracturas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3536640" y="4154400"/>
                  <a:ext cx="111780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4654440" y="4154400"/>
                <a:ext cx="888840" cy="1066680"/>
                <a:chOff x="4654440" y="4154400"/>
                <a:chExt cx="888840" cy="106668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4698720" y="4154400"/>
                  <a:ext cx="80028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654440" y="4154400"/>
                  <a:ext cx="88884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5543280" y="4154400"/>
                <a:ext cx="1117800" cy="1066680"/>
                <a:chOff x="5543280" y="4154400"/>
                <a:chExt cx="1117800" cy="106668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5587920" y="4154400"/>
                  <a:ext cx="10285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5543280" y="4154400"/>
                  <a:ext cx="111780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6661080" y="4154400"/>
                <a:ext cx="1117440" cy="1066680"/>
                <a:chOff x="6661080" y="4154400"/>
                <a:chExt cx="1117440" cy="106668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6705360" y="4154400"/>
                  <a:ext cx="102888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661080" y="4154400"/>
                  <a:ext cx="111744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1" name=""/>
              <p:cNvGrpSpPr/>
              <p:nvPr/>
            </p:nvGrpSpPr>
            <p:grpSpPr>
              <a:xfrm>
                <a:off x="7778520" y="4154400"/>
                <a:ext cx="1231920" cy="1066680"/>
                <a:chOff x="7778520" y="4154400"/>
                <a:chExt cx="1231920" cy="106668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7823160" y="4154400"/>
                  <a:ext cx="114300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7778520" y="4154400"/>
                  <a:ext cx="123192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183960" y="5221080"/>
                <a:ext cx="1003320" cy="1219320"/>
                <a:chOff x="183960" y="5221080"/>
                <a:chExt cx="1003320" cy="121932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228240" y="5221080"/>
                  <a:ext cx="91440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Pasillo sector...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83960" y="5221080"/>
                  <a:ext cx="10033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1187280" y="5221080"/>
                <a:ext cx="1052640" cy="1219320"/>
                <a:chOff x="1187280" y="5221080"/>
                <a:chExt cx="1052640" cy="1219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1231560" y="5221080"/>
                  <a:ext cx="9637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Alfombra se encuentra suelta y deshilachada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187280" y="5221080"/>
                  <a:ext cx="10526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2239920" y="5221080"/>
                <a:ext cx="1296720" cy="1219320"/>
                <a:chOff x="2239920" y="5221080"/>
                <a:chExt cx="1296720" cy="121932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2284200" y="5221080"/>
                  <a:ext cx="12081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Sobreesfuerzos por movimiento brusco (torceduras), caídas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239920" y="5221080"/>
                  <a:ext cx="12967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3536640" y="5221080"/>
                <a:ext cx="1117800" cy="1219320"/>
                <a:chOff x="3536640" y="5221080"/>
                <a:chExt cx="1117800" cy="121932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3581280" y="5221080"/>
                  <a:ext cx="10285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Esguinces, contusiones, fracturas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536640" y="5221080"/>
                  <a:ext cx="111780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4654440" y="5221080"/>
                <a:ext cx="888840" cy="1219320"/>
                <a:chOff x="4654440" y="5221080"/>
                <a:chExt cx="888840" cy="121932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4698720" y="5221080"/>
                  <a:ext cx="80028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4654440" y="5221080"/>
                  <a:ext cx="8888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5543280" y="5221080"/>
                <a:ext cx="1117800" cy="1219320"/>
                <a:chOff x="5543280" y="5221080"/>
                <a:chExt cx="1117800" cy="121932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5587920" y="5221080"/>
                  <a:ext cx="10285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5543280" y="5221080"/>
                  <a:ext cx="111780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661080" y="5221080"/>
                <a:ext cx="1117440" cy="1219320"/>
                <a:chOff x="6661080" y="5221080"/>
                <a:chExt cx="1117440" cy="121932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05360" y="5221080"/>
                  <a:ext cx="102888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661080" y="5221080"/>
                  <a:ext cx="11174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7778520" y="5221080"/>
                <a:ext cx="1231920" cy="1219320"/>
                <a:chOff x="7778520" y="5221080"/>
                <a:chExt cx="1231920" cy="121932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7823160" y="5221080"/>
                  <a:ext cx="114300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7778520" y="5221080"/>
                  <a:ext cx="12319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8" name=""/>
            <p:cNvSpPr/>
            <p:nvPr/>
          </p:nvSpPr>
          <p:spPr>
            <a:xfrm>
              <a:off x="179280" y="4149720"/>
              <a:ext cx="8835840" cy="2295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ff"/>
                </a:solidFill>
                <a:latin typeface="Arial Black"/>
              </a:rPr>
              <a:t>AREAS DE AT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65280" y="2006640"/>
            <a:ext cx="29671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Orden y Limpieza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Protección de Máquina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Instalaciones Eléctrica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Herramientas Manuale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uperficies de Trabaj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ustancias Inflamable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ustancias Peligrosa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Gases a Presión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Pasillos de Tránsit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045040" y="2006640"/>
            <a:ext cx="364176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Áreas de Apilamiento de Materiale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eñalizaciones y Vías de Escape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Áreas de Almacenamient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Equipos Motorizado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ervicios Higiénicos y Baño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Control y Prevención de Incendio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Iluminación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as de Ventil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Equipos de Protección Personal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90720" y="608760"/>
            <a:ext cx="7543800" cy="2896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ACCIDENTE 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 acontecimiento no dese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que resulta en daño físico a las perso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y/o daño a la propie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6542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914280"/>
            <a:ext cx="7238880" cy="204372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Generalmente involucra un conta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n una fuente de energía supe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 la que el cuerpo o estructura puede soport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0600" y="3274200"/>
            <a:ext cx="6407640" cy="15570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ONTECIMIENTO NO DES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QUE PODRIA DETERIORAR O DETERI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A EFICIENCIA DE LA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MPRESA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838080"/>
            <a:ext cx="2057400" cy="1905120"/>
          </a:xfrm>
          <a:prstGeom prst="ellipse">
            <a:avLst/>
          </a:prstGeom>
          <a:solidFill>
            <a:srgbClr val="000066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22600" y="1599120"/>
            <a:ext cx="18205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CI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08960" y="136800"/>
            <a:ext cx="8343360" cy="1068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ESTUDIO DE LAS PROPORCIONES-F. BI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(Insurance Company of North Amer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32080" y="2665800"/>
            <a:ext cx="9169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LE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3503880"/>
            <a:ext cx="1785600" cy="703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AÑOS A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PIE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33440" y="1903680"/>
            <a:ext cx="9061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SE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60240" y="5028120"/>
            <a:ext cx="171828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INCID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523880"/>
            <a:ext cx="3657600" cy="449604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251460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3429000"/>
            <a:ext cx="1523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4724280"/>
            <a:ext cx="2590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11720" y="2070360"/>
            <a:ext cx="32688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60160" y="2802240"/>
            <a:ext cx="5281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60160" y="3945240"/>
            <a:ext cx="5281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98960" y="5164200"/>
            <a:ext cx="70200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1720" y="3803400"/>
            <a:ext cx="2939040" cy="119124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TAMAÑO DE LA MUES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297 compañí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0.000 trabaj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3.498 accid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4:40:13Z</dcterms:created>
  <dc:creator>Andrés Bassi</dc:creator>
  <dc:description/>
  <dc:language>en-US</dc:language>
  <cp:lastModifiedBy>WinuE</cp:lastModifiedBy>
  <dcterms:modified xsi:type="dcterms:W3CDTF">2009-10-05T01:05:56Z</dcterms:modified>
  <cp:revision>24</cp:revision>
  <dc:subject/>
  <dc:title>Presentación de PowerPoint</dc:title>
</cp:coreProperties>
</file>