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07F-10D8-44AE-B591-07782AE3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C9E-34FA-4502-ADBB-D428166A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261-CE75-49F1-82BA-E1973C9D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FE9-02D1-461D-A886-559ADB29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1D8E-5A22-4FD0-BB8C-B178963D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D65-D8EB-430E-ADFF-C4F58EFA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E36B-0242-4DF8-B1C9-17FAA968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BC48-C4BD-4232-81EC-A6C4CE0F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AEA0-AAEA-4CF7-9E7C-D4A8E28A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D002-B25E-4D72-B9AC-2A824EF4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3BEA-BD2E-4E67-AE80-03E5299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170-BCC0-40C7-B75E-40BDAE41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A4D6-E5BA-4A65-8CC9-522F086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CF79-016C-4B36-874B-BC13C501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F896-6241-497F-A0F5-8E2D34CE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F564-5A74-446A-9BA2-ED3569E7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5BFB-C83B-477C-9CF5-7CEA5CFF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631-DD1B-44B3-A176-71085410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14B-3F7A-4206-8C60-000EF1B5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449-1442-4915-AD45-799BA0CE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2E9-A9FB-4056-8EEA-A711C59A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66F-7114-4903-9565-E12420DE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E5C-3336-470A-A192-7702AE2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052-B760-42E5-B5A6-34137CE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6716-6E1B-4209-861E-18B05DC44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8740-9D2B-4D22-A7DF-5E9371185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817416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del punto de operación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sierra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evi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838080"/>
            <a:ext cx="8153640" cy="4338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de lesión o enfermedad grave que puede resultar en incapacidad temporal o daño a la propiedad , pero menos serio que en la clase “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Piso resbal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dañado en  escal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907920"/>
            <a:ext cx="6983280" cy="378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potencial  de lesiones o enfermedades leves (no incapacitantes), o daño a la propi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Carpintero sin guantes, manipula madera rús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d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ERDIDAS QUE PUED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87680" y="1483200"/>
            <a:ext cx="676440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9960" y="608760"/>
            <a:ext cx="424512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CONTROL DE PE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UN NUEVO ENFOQUE DE LA SEGU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828800"/>
            <a:ext cx="533160" cy="533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9840" y="1904400"/>
            <a:ext cx="6064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COMPROMETIDO CON LOS OBJETIVOS GE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438280"/>
            <a:ext cx="53316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124080"/>
            <a:ext cx="533160" cy="533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733920"/>
            <a:ext cx="533160" cy="5331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343400"/>
            <a:ext cx="533160" cy="533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5029200"/>
            <a:ext cx="533160" cy="533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2590200"/>
            <a:ext cx="437184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AMPLIA COBETURA 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9040" y="3276000"/>
            <a:ext cx="37605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CTUA EN BASE A UN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8320" y="3885480"/>
            <a:ext cx="513360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NTEGRADO AL PROCESO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7240" y="4419000"/>
            <a:ext cx="657072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ORIENTADO A MEJORAR EL CONTROL ADMINISTR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7600" y="5180760"/>
            <a:ext cx="5261760" cy="368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BASA LOS RESULTADOS EN EL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23" name="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32" name="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43" name="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50" name="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57" name="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64" name="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71" name="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78" name="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82" name="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/>
              <a:ahLst/>
              <a:rect l="l" t="t" r="r" b="b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87" name="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302" name="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311" name="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26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30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34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38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50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79" name="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96560" y="2437200"/>
            <a:ext cx="1101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Ñ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0160" y="2437200"/>
            <a:ext cx="1495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3760" y="379800"/>
            <a:ext cx="41065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POSICIONES LEG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480" y="1676520"/>
            <a:ext cx="533520" cy="533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6120" y="1775880"/>
            <a:ext cx="80244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7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9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0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02800"/>
            <a:ext cx="209700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960" y="1631160"/>
            <a:ext cx="5254200" cy="4115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omisión Gobierno de On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 de Wiscons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 Congreso de Seguridad N.S.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Departamento del tra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Se organiza la A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a Apai reconocida por l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OSHA Occupational Safety and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A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02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06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10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14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26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55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78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82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86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90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02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03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31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325440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00040" y="7610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NSEG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76104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/>
            <a:ahLst/>
            <a:rect l="l" t="t" r="r" b="b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49" name="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/>
              <a:ahLst/>
              <a:rect l="l" t="t" r="r" b="b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59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63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67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71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83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12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2496960"/>
            <a:ext cx="5703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PERS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DE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23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27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31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35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47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48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76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689" name="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693" name="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697" name="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01" name="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05" name="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925920" y="533520"/>
            <a:ext cx="71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AS CARACTERÍST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32000" y="24368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l desempeño pasado de una organización tiende a delinear s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ísticas 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619280" y="2289240"/>
            <a:ext cx="62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Si quiere crea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enemigos trate 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cambiar al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85440" y="1065600"/>
            <a:ext cx="19393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y  en 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0840" y="278352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2444760"/>
            <a:ext cx="58341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3.170 Sobre Responsabilidad Patr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4.055 Aumenta 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16.744 de Segur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176120" y="2176560"/>
            <a:ext cx="652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 posible tomar una dec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ógica y acertada, sólo cu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 ha identificado primera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 problema básico 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8480" y="60804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335240" y="2181240"/>
            <a:ext cx="7340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uanto más se aparte un cambio planificado, de las formas aceptadas en el pasado, mayor será la resistencia probablemente de la gente involucrada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34160" y="6192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INCIPIO DE LA RESISTENCIA A L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2200680" y="2176560"/>
            <a:ext cx="4490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problemas y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ccidentes casi nun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son el resultad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a sola cau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23400" y="60804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LAS CAUSAS MULT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212560" y="2130480"/>
            <a:ext cx="4470840" cy="3018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n cualquier grup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currencias,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equeño númer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ausas influirá en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mayor proporción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los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90440" y="474840"/>
            <a:ext cx="66852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INCIPIO DE  LOS POCOS CRI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753" name="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5996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Times New Roman"/>
                </a:rPr>
                <a:t>LAS TRES ETAPAS DEL CONTR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756" name="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757" name="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761" name="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765" name="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773" name="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RE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OST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810" name="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821" name="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8" name="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839" name="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858" name="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68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77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86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464400" y="1687320"/>
            <a:ext cx="6918120" cy="405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UBRIR TODO EL SECTOR O 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USAR LISTAS DE VER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“LO QUE NO SALTA A LA VIS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GISTRAR TODAS LAS DEFICIENCIAS DETECT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TUAR INMEDIATAMENTE ANTE PELIGROS SE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USCAR SIEMPRE LAS CAUSAS BASICAS PARA 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ELIGRO DETEC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897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456480" y="1992600"/>
            <a:ext cx="7560000" cy="344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0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NFORME RESUMEN AL NIVEL SUP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25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116000" y="22050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210320" y="1522800"/>
            <a:ext cx="690300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36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657600" y="2781360"/>
            <a:ext cx="1143000" cy="57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635280" y="4076640"/>
            <a:ext cx="1143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48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962" name="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92720" y="289548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92720" y="419112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76720" y="5734080"/>
            <a:ext cx="473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984" name="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999" name="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42920" y="27082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ller de identificación de riesg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892160" y="1241280"/>
            <a:ext cx="6448680" cy="5578200"/>
            <a:chOff x="1892160" y="1241280"/>
            <a:chExt cx="6448680" cy="5578200"/>
          </a:xfrm>
        </p:grpSpPr>
        <p:sp>
          <p:nvSpPr>
            <p:cNvPr id="1027" name=""/>
            <p:cNvSpPr/>
            <p:nvPr/>
          </p:nvSpPr>
          <p:spPr>
            <a:xfrm>
              <a:off x="1892160" y="1241280"/>
              <a:ext cx="6448680" cy="5578200"/>
            </a:xfrm>
            <a:custGeom>
              <a:avLst/>
              <a:gdLst>
                <a:gd name="textAreaLeft" fmla="*/ 329760 w 6448680"/>
                <a:gd name="textAreaRight" fmla="*/ 6118920 w 6448680"/>
                <a:gd name="textAreaTop" fmla="*/ 329760 h 5578200"/>
                <a:gd name="textAreaBottom" fmla="*/ 524844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694" y="1277"/>
                  </a:lnTo>
                  <a:lnTo>
                    <a:pt x="1277" y="1277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694" y="20323"/>
                  </a:lnTo>
                  <a:lnTo>
                    <a:pt x="23694" y="1277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277" y="20323"/>
                  </a:lnTo>
                  <a:lnTo>
                    <a:pt x="23694" y="20323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277" y="1277"/>
                  </a:lnTo>
                  <a:lnTo>
                    <a:pt x="1277" y="20323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84320" y="1521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31320" y="1462320"/>
              <a:ext cx="3024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Tipos de Accidente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74760" y="2014560"/>
              <a:ext cx="593100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6000" y="1298520"/>
            <a:ext cx="8680320" cy="5083200"/>
          </a:xfrm>
          <a:custGeom>
            <a:avLst/>
            <a:gdLst>
              <a:gd name="textAreaLeft" fmla="*/ 300240 w 8680320"/>
              <a:gd name="textAreaRight" fmla="*/ 8380080 w 868032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607" y="1277"/>
                </a:lnTo>
                <a:lnTo>
                  <a:pt x="1277" y="1277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607" y="20323"/>
                </a:lnTo>
                <a:lnTo>
                  <a:pt x="35607" y="1277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607" y="20323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33880" y="1690560"/>
            <a:ext cx="250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5320" y="207972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064120" y="21747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5080" y="1488960"/>
            <a:ext cx="8623080" cy="5083200"/>
          </a:xfrm>
          <a:custGeom>
            <a:avLst/>
            <a:gdLst>
              <a:gd name="textAreaLeft" fmla="*/ 300240 w 8623080"/>
              <a:gd name="textAreaRight" fmla="*/ 8322840 w 862308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641" h="21600">
                <a:moveTo>
                  <a:pt x="0" y="0"/>
                </a:moveTo>
                <a:lnTo>
                  <a:pt x="36641" y="0"/>
                </a:lnTo>
                <a:lnTo>
                  <a:pt x="36641" y="21600"/>
                </a:lnTo>
                <a:lnTo>
                  <a:pt x="0" y="21600"/>
                </a:lnTo>
                <a:close/>
              </a:path>
              <a:path fill="lightenLess" w="36641" h="21600">
                <a:moveTo>
                  <a:pt x="0" y="0"/>
                </a:moveTo>
                <a:lnTo>
                  <a:pt x="36641" y="0"/>
                </a:lnTo>
                <a:lnTo>
                  <a:pt x="35364" y="1277"/>
                </a:lnTo>
                <a:lnTo>
                  <a:pt x="1277" y="1277"/>
                </a:lnTo>
                <a:close/>
              </a:path>
              <a:path fill="darken" w="36641" h="21600">
                <a:moveTo>
                  <a:pt x="36641" y="0"/>
                </a:moveTo>
                <a:lnTo>
                  <a:pt x="36641" y="21600"/>
                </a:lnTo>
                <a:lnTo>
                  <a:pt x="35364" y="20323"/>
                </a:lnTo>
                <a:lnTo>
                  <a:pt x="35364" y="1277"/>
                </a:lnTo>
                <a:close/>
              </a:path>
              <a:path fill="darkenLess" w="36641" h="21600">
                <a:moveTo>
                  <a:pt x="36641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364" y="20323"/>
                </a:lnTo>
                <a:close/>
              </a:path>
              <a:path fill="lighten" w="36641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54680" y="167148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5320" y="2308320"/>
            <a:ext cx="44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64120" y="2289240"/>
            <a:ext cx="335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468520" y="24703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65280" y="1176480"/>
            <a:ext cx="7121520" cy="5331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82800" y="277812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4724280" y="3705120"/>
            <a:ext cx="4114800" cy="198144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5867280"/>
            <a:ext cx="9143640" cy="533520"/>
            <a:chOff x="0" y="5867280"/>
            <a:chExt cx="9143640" cy="533520"/>
          </a:xfrm>
        </p:grpSpPr>
        <p:sp>
          <p:nvSpPr>
            <p:cNvPr id="1052" name=""/>
            <p:cNvSpPr/>
            <p:nvPr/>
          </p:nvSpPr>
          <p:spPr>
            <a:xfrm>
              <a:off x="0" y="6400800"/>
              <a:ext cx="102384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23840" y="5867280"/>
              <a:ext cx="8119800" cy="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023840" y="5867280"/>
              <a:ext cx="0" cy="53352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867560" cy="10000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3"/>
          <a:stretch/>
        </p:blipFill>
        <p:spPr>
          <a:xfrm>
            <a:off x="1104840" y="2743200"/>
            <a:ext cx="3124440" cy="3254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4"/>
          <a:stretch/>
        </p:blipFill>
        <p:spPr>
          <a:xfrm>
            <a:off x="1104840" y="3352680"/>
            <a:ext cx="3159360" cy="165096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5"/>
          <a:stretch/>
        </p:blipFill>
        <p:spPr>
          <a:xfrm>
            <a:off x="4705200" y="3352680"/>
            <a:ext cx="4133880" cy="233388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1523880" y="457200"/>
            <a:ext cx="71215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CÁLCULO DE LA MAGNITUD DE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0364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5800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 x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64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71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76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83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088" name="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089" name="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094" name="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099" name="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104" name="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0" y="1352520"/>
            <a:ext cx="91440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32000" y="260280"/>
            <a:ext cx="7121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 Black"/>
              </a:rPr>
              <a:t>TRABAJO EN GRUP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54080" y="1442880"/>
            <a:ext cx="8837640" cy="2562480"/>
            <a:chOff x="154080" y="1442880"/>
            <a:chExt cx="8837640" cy="2562480"/>
          </a:xfrm>
        </p:grpSpPr>
        <p:grpSp>
          <p:nvGrpSpPr>
            <p:cNvPr id="1136" name=""/>
            <p:cNvGrpSpPr/>
            <p:nvPr/>
          </p:nvGrpSpPr>
          <p:grpSpPr>
            <a:xfrm>
              <a:off x="158760" y="1446840"/>
              <a:ext cx="8827920" cy="2553480"/>
              <a:chOff x="158760" y="1446840"/>
              <a:chExt cx="8827920" cy="255348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158760" y="1446840"/>
                <a:ext cx="1003320" cy="806400"/>
                <a:chOff x="158760" y="1446840"/>
                <a:chExt cx="1003320" cy="8064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15876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9" name=""/>
                <p:cNvGrpSpPr/>
                <p:nvPr/>
              </p:nvGrpSpPr>
              <p:grpSpPr>
                <a:xfrm>
                  <a:off x="158760" y="1446840"/>
                  <a:ext cx="1003320" cy="806400"/>
                  <a:chOff x="158760" y="1446840"/>
                  <a:chExt cx="1003320" cy="806400"/>
                </a:xfrm>
              </p:grpSpPr>
              <p:sp>
                <p:nvSpPr>
                  <p:cNvPr id="1140" name=""/>
                  <p:cNvSpPr/>
                  <p:nvPr/>
                </p:nvSpPr>
                <p:spPr>
                  <a:xfrm>
                    <a:off x="20304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Lugar 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5876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2" name=""/>
              <p:cNvGrpSpPr/>
              <p:nvPr/>
            </p:nvGrpSpPr>
            <p:grpSpPr>
              <a:xfrm>
                <a:off x="1162080" y="1446840"/>
                <a:ext cx="1003320" cy="806400"/>
                <a:chOff x="1162080" y="1446840"/>
                <a:chExt cx="1003320" cy="80640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16208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1162080" y="1446840"/>
                  <a:ext cx="1003320" cy="806400"/>
                  <a:chOff x="1162080" y="1446840"/>
                  <a:chExt cx="1003320" cy="80640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120636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dición de Riesgo detectad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16208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7" name=""/>
              <p:cNvGrpSpPr/>
              <p:nvPr/>
            </p:nvGrpSpPr>
            <p:grpSpPr>
              <a:xfrm>
                <a:off x="2165400" y="1446840"/>
                <a:ext cx="995400" cy="806400"/>
                <a:chOff x="2165400" y="1446840"/>
                <a:chExt cx="995400" cy="80640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2165400" y="1446840"/>
                  <a:ext cx="9954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9" name=""/>
                <p:cNvGrpSpPr/>
                <p:nvPr/>
              </p:nvGrpSpPr>
              <p:grpSpPr>
                <a:xfrm>
                  <a:off x="2165400" y="1446840"/>
                  <a:ext cx="995400" cy="806400"/>
                  <a:chOff x="2165400" y="1446840"/>
                  <a:chExt cx="995400" cy="80640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2209680" y="1446840"/>
                    <a:ext cx="90648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iesgo Asociad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165400" y="1446840"/>
                    <a:ext cx="9954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2" name=""/>
              <p:cNvGrpSpPr/>
              <p:nvPr/>
            </p:nvGrpSpPr>
            <p:grpSpPr>
              <a:xfrm>
                <a:off x="3160800" y="1446840"/>
                <a:ext cx="1187280" cy="806400"/>
                <a:chOff x="3160800" y="1446840"/>
                <a:chExt cx="1187280" cy="8064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160800" y="1446840"/>
                  <a:ext cx="118728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3160800" y="1446840"/>
                  <a:ext cx="1187280" cy="806400"/>
                  <a:chOff x="3160800" y="1446840"/>
                  <a:chExt cx="1187280" cy="80640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205080" y="1446840"/>
                    <a:ext cx="10987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secuenci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60800" y="1446840"/>
                    <a:ext cx="118728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7" name=""/>
              <p:cNvGrpSpPr/>
              <p:nvPr/>
            </p:nvGrpSpPr>
            <p:grpSpPr>
              <a:xfrm>
                <a:off x="4348080" y="1446840"/>
                <a:ext cx="1187640" cy="806400"/>
                <a:chOff x="4348080" y="1446840"/>
                <a:chExt cx="1187640" cy="80640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348080" y="1446840"/>
                  <a:ext cx="118764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4348080" y="1446840"/>
                  <a:ext cx="1187640" cy="806400"/>
                  <a:chOff x="4348080" y="1446840"/>
                  <a:chExt cx="1187640" cy="80640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392720" y="1446840"/>
                    <a:ext cx="109836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agnitud de Riesg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348080" y="1446840"/>
                    <a:ext cx="118764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5535720" y="1446840"/>
                <a:ext cx="1101600" cy="806400"/>
                <a:chOff x="5535720" y="1446840"/>
                <a:chExt cx="1101600" cy="8064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5535720" y="1446840"/>
                  <a:ext cx="11016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5535720" y="1446840"/>
                  <a:ext cx="1101600" cy="806400"/>
                  <a:chOff x="5535720" y="1446840"/>
                  <a:chExt cx="1101600" cy="80640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5580000" y="1446840"/>
                    <a:ext cx="101304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de Control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535720" y="1446840"/>
                    <a:ext cx="11016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7" name=""/>
              <p:cNvGrpSpPr/>
              <p:nvPr/>
            </p:nvGrpSpPr>
            <p:grpSpPr>
              <a:xfrm>
                <a:off x="6637320" y="1446840"/>
                <a:ext cx="1117800" cy="806400"/>
                <a:chOff x="6637320" y="1446840"/>
                <a:chExt cx="1117800" cy="80640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6637320" y="1446840"/>
                  <a:ext cx="11178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6637320" y="1446840"/>
                  <a:ext cx="1117800" cy="806400"/>
                  <a:chOff x="6637320" y="1446840"/>
                  <a:chExt cx="1117800" cy="80640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6681960" y="1446840"/>
                    <a:ext cx="10285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esponsabl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6637320" y="1446840"/>
                    <a:ext cx="11178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2" name=""/>
              <p:cNvGrpSpPr/>
              <p:nvPr/>
            </p:nvGrpSpPr>
            <p:grpSpPr>
              <a:xfrm>
                <a:off x="7755120" y="1446840"/>
                <a:ext cx="1231560" cy="806400"/>
                <a:chOff x="7755120" y="1446840"/>
                <a:chExt cx="1231560" cy="80640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7755120" y="1446840"/>
                  <a:ext cx="123156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4" name=""/>
                <p:cNvGrpSpPr/>
                <p:nvPr/>
              </p:nvGrpSpPr>
              <p:grpSpPr>
                <a:xfrm>
                  <a:off x="7755120" y="1446840"/>
                  <a:ext cx="1231560" cy="806400"/>
                  <a:chOff x="7755120" y="1446840"/>
                  <a:chExt cx="1231560" cy="80640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7799400" y="1446840"/>
                    <a:ext cx="11430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de Cumplimien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755120" y="1446840"/>
                    <a:ext cx="123156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7" name=""/>
              <p:cNvGrpSpPr/>
              <p:nvPr/>
            </p:nvGrpSpPr>
            <p:grpSpPr>
              <a:xfrm>
                <a:off x="158760" y="2253240"/>
                <a:ext cx="1003320" cy="1747080"/>
                <a:chOff x="158760" y="2253240"/>
                <a:chExt cx="1003320" cy="174708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15876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9" name=""/>
                <p:cNvGrpSpPr/>
                <p:nvPr/>
              </p:nvGrpSpPr>
              <p:grpSpPr>
                <a:xfrm>
                  <a:off x="158760" y="2253240"/>
                  <a:ext cx="1003320" cy="1747080"/>
                  <a:chOff x="158760" y="2253240"/>
                  <a:chExt cx="1003320" cy="174708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20304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Plant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Sección o Dep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Máquina, lugar específico ó puesto de trabaj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3333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876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2" name=""/>
              <p:cNvGrpSpPr/>
              <p:nvPr/>
            </p:nvGrpSpPr>
            <p:grpSpPr>
              <a:xfrm>
                <a:off x="1162080" y="2253240"/>
                <a:ext cx="1003320" cy="1747080"/>
                <a:chOff x="1162080" y="2253240"/>
                <a:chExt cx="1003320" cy="17470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16208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1162080" y="2253240"/>
                  <a:ext cx="1003320" cy="1747080"/>
                  <a:chOff x="1162080" y="2253240"/>
                  <a:chExt cx="1003320" cy="17470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120636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Acción o Condición Insegur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16208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7" name=""/>
              <p:cNvGrpSpPr/>
              <p:nvPr/>
            </p:nvGrpSpPr>
            <p:grpSpPr>
              <a:xfrm>
                <a:off x="2165400" y="2253240"/>
                <a:ext cx="995400" cy="1747080"/>
                <a:chOff x="2165400" y="2253240"/>
                <a:chExt cx="995400" cy="17470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2165400" y="2253240"/>
                  <a:ext cx="9954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9" name=""/>
                <p:cNvGrpSpPr/>
                <p:nvPr/>
              </p:nvGrpSpPr>
              <p:grpSpPr>
                <a:xfrm>
                  <a:off x="2165400" y="2253240"/>
                  <a:ext cx="995400" cy="1747080"/>
                  <a:chOff x="2165400" y="2253240"/>
                  <a:chExt cx="995400" cy="174708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2209680" y="2253240"/>
                    <a:ext cx="90648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accidente o riesgo generado por la condición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165400" y="2253240"/>
                    <a:ext cx="9954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3160800" y="2253240"/>
                <a:ext cx="1187280" cy="1747080"/>
                <a:chOff x="3160800" y="2253240"/>
                <a:chExt cx="1187280" cy="174708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160800" y="2253240"/>
                  <a:ext cx="118728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4" name=""/>
                <p:cNvGrpSpPr/>
                <p:nvPr/>
              </p:nvGrpSpPr>
              <p:grpSpPr>
                <a:xfrm>
                  <a:off x="3160800" y="2253240"/>
                  <a:ext cx="1187280" cy="1747080"/>
                  <a:chOff x="3160800" y="2253240"/>
                  <a:chExt cx="1187280" cy="174708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3205080" y="2253240"/>
                    <a:ext cx="10987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lesiones o enfermedades que la condición puede provocar, pérdidas o daños a la propiedad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160800" y="2253240"/>
                    <a:ext cx="118728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7" name=""/>
              <p:cNvGrpSpPr/>
              <p:nvPr/>
            </p:nvGrpSpPr>
            <p:grpSpPr>
              <a:xfrm>
                <a:off x="4348080" y="2253240"/>
                <a:ext cx="1187640" cy="1747080"/>
                <a:chOff x="4348080" y="2253240"/>
                <a:chExt cx="1187640" cy="17470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4348080" y="2253240"/>
                  <a:ext cx="118764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9" name=""/>
                <p:cNvGrpSpPr/>
                <p:nvPr/>
              </p:nvGrpSpPr>
              <p:grpSpPr>
                <a:xfrm>
                  <a:off x="4348080" y="2253240"/>
                  <a:ext cx="1187640" cy="1747080"/>
                  <a:chOff x="4348080" y="2253240"/>
                  <a:chExt cx="1187640" cy="17470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4392720" y="2253240"/>
                    <a:ext cx="109836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alcular de acuerdo a Criterio de Magnitud de Riesg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348080" y="2253240"/>
                    <a:ext cx="118764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2" name=""/>
              <p:cNvGrpSpPr/>
              <p:nvPr/>
            </p:nvGrpSpPr>
            <p:grpSpPr>
              <a:xfrm>
                <a:off x="5535720" y="2253240"/>
                <a:ext cx="1101600" cy="1747080"/>
                <a:chOff x="5535720" y="2253240"/>
                <a:chExt cx="1101600" cy="174708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5535720" y="2253240"/>
                  <a:ext cx="11016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4" name=""/>
                <p:cNvGrpSpPr/>
                <p:nvPr/>
              </p:nvGrpSpPr>
              <p:grpSpPr>
                <a:xfrm>
                  <a:off x="5535720" y="2253240"/>
                  <a:ext cx="1101600" cy="1747080"/>
                  <a:chOff x="5535720" y="2253240"/>
                  <a:chExt cx="1101600" cy="174708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5580000" y="2253240"/>
                    <a:ext cx="101304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que evitarán que la condición de riesgo se manteng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535720" y="2253240"/>
                    <a:ext cx="11016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7" name=""/>
              <p:cNvGrpSpPr/>
              <p:nvPr/>
            </p:nvGrpSpPr>
            <p:grpSpPr>
              <a:xfrm>
                <a:off x="6637320" y="2253240"/>
                <a:ext cx="1117800" cy="1747080"/>
                <a:chOff x="6637320" y="2253240"/>
                <a:chExt cx="1117800" cy="17470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6637320" y="2253240"/>
                  <a:ext cx="11178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9" name=""/>
                <p:cNvGrpSpPr/>
                <p:nvPr/>
              </p:nvGrpSpPr>
              <p:grpSpPr>
                <a:xfrm>
                  <a:off x="6637320" y="2253240"/>
                  <a:ext cx="1117800" cy="1747080"/>
                  <a:chOff x="6637320" y="2253240"/>
                  <a:chExt cx="1117800" cy="17470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6681960" y="2253240"/>
                    <a:ext cx="10285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ersona que se hará responsable de llevar a cabo la Medida de Control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6637320" y="2253240"/>
                    <a:ext cx="11178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2" name=""/>
              <p:cNvGrpSpPr/>
              <p:nvPr/>
            </p:nvGrpSpPr>
            <p:grpSpPr>
              <a:xfrm>
                <a:off x="7755120" y="2253240"/>
                <a:ext cx="1231560" cy="1747080"/>
                <a:chOff x="7755120" y="2253240"/>
                <a:chExt cx="1231560" cy="17470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7755120" y="2253240"/>
                  <a:ext cx="123156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4" name=""/>
                <p:cNvGrpSpPr/>
                <p:nvPr/>
              </p:nvGrpSpPr>
              <p:grpSpPr>
                <a:xfrm>
                  <a:off x="7755120" y="2253240"/>
                  <a:ext cx="1231560" cy="1747080"/>
                  <a:chOff x="7755120" y="2253240"/>
                  <a:chExt cx="1231560" cy="174708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>
                    <a:off x="7799400" y="2253240"/>
                    <a:ext cx="11430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en el que la medida de control deberá estar implementad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7755120" y="2253240"/>
                    <a:ext cx="123156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7" name=""/>
            <p:cNvSpPr/>
            <p:nvPr/>
          </p:nvSpPr>
          <p:spPr>
            <a:xfrm>
              <a:off x="154080" y="1442880"/>
              <a:ext cx="8837640" cy="256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179280" y="4149720"/>
            <a:ext cx="8835840" cy="2295360"/>
            <a:chOff x="179280" y="4149720"/>
            <a:chExt cx="8835840" cy="2295360"/>
          </a:xfrm>
        </p:grpSpPr>
        <p:grpSp>
          <p:nvGrpSpPr>
            <p:cNvPr id="1219" name=""/>
            <p:cNvGrpSpPr/>
            <p:nvPr/>
          </p:nvGrpSpPr>
          <p:grpSpPr>
            <a:xfrm>
              <a:off x="183960" y="4154400"/>
              <a:ext cx="8826480" cy="2286000"/>
              <a:chOff x="183960" y="4154400"/>
              <a:chExt cx="8826480" cy="228600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183960" y="4154400"/>
                <a:ext cx="1003320" cy="1066680"/>
                <a:chOff x="183960" y="4154400"/>
                <a:chExt cx="1003320" cy="10666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28240" y="4154400"/>
                  <a:ext cx="9144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Bodega de..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83960" y="4154400"/>
                  <a:ext cx="10033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187280" y="4154400"/>
                <a:ext cx="1052640" cy="1066680"/>
                <a:chOff x="1187280" y="4154400"/>
                <a:chExt cx="1052640" cy="10666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31560" y="4154400"/>
                  <a:ext cx="963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Trabajador no utiliza Calzado de Segurida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187280" y="4154400"/>
                  <a:ext cx="10526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239920" y="4154400"/>
                <a:ext cx="1296720" cy="1066680"/>
                <a:chOff x="2239920" y="4154400"/>
                <a:chExt cx="1296720" cy="106668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284200" y="4154400"/>
                  <a:ext cx="1208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aída de objetos, atropellamiento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39920" y="4154400"/>
                  <a:ext cx="12967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3536640" y="4154400"/>
                <a:ext cx="1117800" cy="1066680"/>
                <a:chOff x="3536640" y="4154400"/>
                <a:chExt cx="1117800" cy="106668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358128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53664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654440" y="4154400"/>
                <a:ext cx="888840" cy="1066680"/>
                <a:chOff x="4654440" y="4154400"/>
                <a:chExt cx="888840" cy="10666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698720" y="4154400"/>
                  <a:ext cx="8002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654440" y="4154400"/>
                  <a:ext cx="8888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5543280" y="4154400"/>
                <a:ext cx="1117800" cy="1066680"/>
                <a:chOff x="5543280" y="4154400"/>
                <a:chExt cx="1117800" cy="10666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558792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554328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6661080" y="4154400"/>
                <a:ext cx="1117440" cy="1066680"/>
                <a:chOff x="6661080" y="4154400"/>
                <a:chExt cx="1117440" cy="106668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6705360" y="4154400"/>
                  <a:ext cx="10288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661080" y="4154400"/>
                  <a:ext cx="11174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7778520" y="4154400"/>
                <a:ext cx="1231920" cy="1066680"/>
                <a:chOff x="7778520" y="4154400"/>
                <a:chExt cx="1231920" cy="106668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7823160" y="4154400"/>
                  <a:ext cx="11430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7778520" y="4154400"/>
                  <a:ext cx="12319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3960" y="5221080"/>
                <a:ext cx="1003320" cy="1219320"/>
                <a:chOff x="183960" y="5221080"/>
                <a:chExt cx="1003320" cy="12193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28240" y="5221080"/>
                  <a:ext cx="9144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Pasillo sector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83960" y="5221080"/>
                  <a:ext cx="10033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187280" y="5221080"/>
                <a:ext cx="1052640" cy="1219320"/>
                <a:chOff x="1187280" y="5221080"/>
                <a:chExt cx="1052640" cy="1219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231560" y="5221080"/>
                  <a:ext cx="9637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Alfombra se encuentra suelta y deshilachada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187280" y="5221080"/>
                  <a:ext cx="1052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239920" y="5221080"/>
                <a:ext cx="1296720" cy="1219320"/>
                <a:chOff x="2239920" y="5221080"/>
                <a:chExt cx="1296720" cy="12193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284200" y="5221080"/>
                  <a:ext cx="12081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Sobreesfuerzos por movimiento brusco (torceduras), caíd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239920" y="5221080"/>
                  <a:ext cx="12967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3536640" y="5221080"/>
                <a:ext cx="1117800" cy="1219320"/>
                <a:chOff x="3536640" y="5221080"/>
                <a:chExt cx="1117800" cy="12193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58128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Esguinces, 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53664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4654440" y="5221080"/>
                <a:ext cx="888840" cy="1219320"/>
                <a:chOff x="4654440" y="5221080"/>
                <a:chExt cx="888840" cy="12193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4698720" y="5221080"/>
                  <a:ext cx="8002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54440" y="5221080"/>
                  <a:ext cx="8888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543280" y="5221080"/>
                <a:ext cx="1117800" cy="1219320"/>
                <a:chOff x="5543280" y="5221080"/>
                <a:chExt cx="1117800" cy="12193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58792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54328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661080" y="5221080"/>
                <a:ext cx="1117440" cy="1219320"/>
                <a:chOff x="6661080" y="5221080"/>
                <a:chExt cx="1117440" cy="12193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05360" y="5221080"/>
                  <a:ext cx="10288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661080" y="5221080"/>
                  <a:ext cx="11174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7778520" y="5221080"/>
                <a:ext cx="1231920" cy="1219320"/>
                <a:chOff x="7778520" y="5221080"/>
                <a:chExt cx="1231920" cy="121932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7823160" y="5221080"/>
                  <a:ext cx="11430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778520" y="5221080"/>
                  <a:ext cx="12319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8" name=""/>
            <p:cNvSpPr/>
            <p:nvPr/>
          </p:nvSpPr>
          <p:spPr>
            <a:xfrm>
              <a:off x="179280" y="4149720"/>
              <a:ext cx="8835840" cy="2295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pilamiento de Materi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Áreas de Almacenamien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1720" y="2070360"/>
            <a:ext cx="3268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0160" y="2802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60160" y="3945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98960" y="5164200"/>
            <a:ext cx="7020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720" y="380340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09-10-05T01:05:56Z</dcterms:modified>
  <cp:revision>24</cp:revision>
  <dc:subject/>
  <dc:title>Presentación de PowerPoint</dc:title>
</cp:coreProperties>
</file>