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27.wmf" ContentType="image/x-wmf"/>
  <Override PartName="/ppt/media/image3.wmf" ContentType="image/x-wmf"/>
  <Override PartName="/ppt/media/image26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4.wmf" ContentType="image/x-wmf"/>
  <Override PartName="/ppt/media/image2.wmf" ContentType="image/x-wmf"/>
  <Override PartName="/ppt/media/image2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8899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25287-3A41-4B04-9663-D244235A9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DDB1E-E48C-4BE6-AF7B-1EF9D77D2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A2DBC-D03A-467A-9808-22C091BBE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54FF1-4021-405E-8550-3449AF8BB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2524A-FB22-457D-84D9-CD6EE3F2F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FE863-C364-4043-8000-4DD7DFC01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4B1A6-6548-4E0B-A9F3-1D8E1C88C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AF48E-0F55-43C5-8499-7A3DB30F1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4B434-E052-4666-A1E2-4CA7C81BA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4C456-FF48-4FD7-8B8B-B5B4E87E6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E0A10-3B68-4A9F-8B08-D6FF1E768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4521B-06F0-484E-A0D2-278E28FB2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8B07B-D621-42CB-A0D1-40529CFD9F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533520" y="1143000"/>
          <a:ext cx="8229600" cy="4351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143000"/>
                    <a:ext cx="8229600" cy="435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66600" y="266760"/>
          <a:ext cx="9010800" cy="6324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600" y="266760"/>
                    <a:ext cx="9010800" cy="632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262080" y="171360"/>
          <a:ext cx="8619840" cy="651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2080" y="171360"/>
                    <a:ext cx="8619840" cy="651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380880" y="555480"/>
          <a:ext cx="8458200" cy="579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555480"/>
                    <a:ext cx="8458200" cy="579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228600" y="824040"/>
          <a:ext cx="8686800" cy="5209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824040"/>
                    <a:ext cx="8686800" cy="520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314280" y="609480"/>
          <a:ext cx="8829720" cy="4705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4280" y="609480"/>
                    <a:ext cx="8829720" cy="470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157320" y="466560"/>
          <a:ext cx="8829360" cy="592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320" y="466560"/>
                    <a:ext cx="8829360" cy="592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228600" y="762120"/>
          <a:ext cx="8648640" cy="431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762120"/>
                    <a:ext cx="8648640" cy="43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295200" y="552600"/>
          <a:ext cx="8553600" cy="575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5200" y="552600"/>
                    <a:ext cx="8553600" cy="57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228600" y="504720"/>
          <a:ext cx="8686800" cy="584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504720"/>
                    <a:ext cx="8686800" cy="584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685800" y="1547640"/>
            <a:ext cx="7315200" cy="37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144360" y="628560"/>
          <a:ext cx="8859960" cy="5607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360" y="628560"/>
                    <a:ext cx="8859960" cy="560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"/>
          <p:cNvGraphicFramePr/>
          <p:nvPr/>
        </p:nvGraphicFramePr>
        <p:xfrm>
          <a:off x="304920" y="52560"/>
          <a:ext cx="8534160" cy="67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52560"/>
                    <a:ext cx="8534160" cy="67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"/>
          <p:cNvGraphicFramePr/>
          <p:nvPr/>
        </p:nvGraphicFramePr>
        <p:xfrm>
          <a:off x="0" y="0"/>
          <a:ext cx="9144000" cy="6700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70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" name=""/>
          <p:cNvGraphicFramePr/>
          <p:nvPr/>
        </p:nvGraphicFramePr>
        <p:xfrm>
          <a:off x="228600" y="485640"/>
          <a:ext cx="8686800" cy="588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485640"/>
                    <a:ext cx="8686800" cy="588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4" name=""/>
          <p:cNvGraphicFramePr/>
          <p:nvPr/>
        </p:nvGraphicFramePr>
        <p:xfrm>
          <a:off x="109440" y="528480"/>
          <a:ext cx="8925120" cy="5801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9440" y="528480"/>
                    <a:ext cx="8925120" cy="580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6" name=""/>
          <p:cNvGraphicFramePr/>
          <p:nvPr/>
        </p:nvGraphicFramePr>
        <p:xfrm>
          <a:off x="0" y="0"/>
          <a:ext cx="9144000" cy="639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39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8" name=""/>
          <p:cNvGraphicFramePr/>
          <p:nvPr/>
        </p:nvGraphicFramePr>
        <p:xfrm>
          <a:off x="0" y="762120"/>
          <a:ext cx="8962920" cy="445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762120"/>
                    <a:ext cx="8962920" cy="445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0" name=""/>
          <p:cNvGraphicFramePr/>
          <p:nvPr/>
        </p:nvGraphicFramePr>
        <p:xfrm>
          <a:off x="299880" y="281160"/>
          <a:ext cx="8544240" cy="6295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9880" y="281160"/>
                    <a:ext cx="8544240" cy="629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"/>
          <p:cNvGraphicFramePr/>
          <p:nvPr/>
        </p:nvGraphicFramePr>
        <p:xfrm>
          <a:off x="9360" y="237960"/>
          <a:ext cx="9125280" cy="638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60" y="237960"/>
                    <a:ext cx="9125280" cy="638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109440" y="343080"/>
          <a:ext cx="8925120" cy="617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9440" y="343080"/>
                    <a:ext cx="8925120" cy="617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299880" y="357120"/>
          <a:ext cx="8544240" cy="6143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9880" y="357120"/>
                    <a:ext cx="8544240" cy="614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190440" y="547560"/>
          <a:ext cx="8763120" cy="576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440" y="547560"/>
                    <a:ext cx="8763120" cy="576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290520" y="604800"/>
          <a:ext cx="8562960" cy="564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0520" y="604800"/>
                    <a:ext cx="8562960" cy="564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85840" y="542880"/>
          <a:ext cx="8572320" cy="5772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5840" y="542880"/>
                    <a:ext cx="8572320" cy="577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228600" y="360360"/>
          <a:ext cx="8534520" cy="593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360360"/>
                    <a:ext cx="8534520" cy="593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233280" y="304920"/>
          <a:ext cx="8609040" cy="620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3280" y="304920"/>
                    <a:ext cx="8609040" cy="620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20T00:52:50Z</dcterms:created>
  <dc:creator>mas500_98</dc:creator>
  <dc:description/>
  <dc:language>en-US</dc:language>
  <cp:lastModifiedBy>.</cp:lastModifiedBy>
  <dcterms:modified xsi:type="dcterms:W3CDTF">2008-04-15T13:50:58Z</dcterms:modified>
  <cp:revision>9</cp:revision>
  <dc:subject/>
  <dc:title>Presentación de PowerPoint</dc:title>
</cp:coreProperties>
</file>