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FB3D-3DF6-425E-95D7-E0E6677E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5304-02D8-4368-A933-FCF87112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58D4-B1BB-4647-86C1-BD1085F57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BB14-8122-4558-8E86-E88C68A9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CE8-2C98-4C52-8C7D-1CE3DCDFB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B462-4329-40FB-9DD3-7F183840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DEFE-14B6-486D-B9E6-08F841CB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2715-13D0-4D25-9067-C55389F0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4F77-66AE-4165-BB2B-A8A71305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0347-6D3D-4BF6-B4CF-52DB7FA4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57FD-FB68-44E0-80A4-657F28E7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DDF2-FD41-42A9-854A-3A262EA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086B-9D58-4D7A-B020-FDBB81921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82296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296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600" y="266760"/>
          <a:ext cx="9010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266760"/>
                    <a:ext cx="9010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62080" y="171360"/>
          <a:ext cx="861984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71360"/>
                    <a:ext cx="86198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0880" y="555480"/>
          <a:ext cx="845820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55480"/>
                    <a:ext cx="845820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824040"/>
          <a:ext cx="868680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24040"/>
                    <a:ext cx="86868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14280" y="609480"/>
          <a:ext cx="8829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609480"/>
                    <a:ext cx="8829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7320" y="466560"/>
          <a:ext cx="8829360" cy="592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6560"/>
                    <a:ext cx="882936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762120"/>
          <a:ext cx="864864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4864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95200" y="552600"/>
          <a:ext cx="855360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552600"/>
                    <a:ext cx="855360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504720"/>
          <a:ext cx="868680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4720"/>
                    <a:ext cx="8686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547640"/>
            <a:ext cx="73152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360" y="628560"/>
          <a:ext cx="885996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28560"/>
                    <a:ext cx="885996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04920" y="52560"/>
          <a:ext cx="8534160" cy="67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2560"/>
                    <a:ext cx="85341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7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8600" y="485640"/>
          <a:ext cx="868680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85640"/>
                    <a:ext cx="868680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9440" y="528480"/>
          <a:ext cx="8925120" cy="58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28480"/>
                    <a:ext cx="8925120" cy="58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3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762120"/>
          <a:ext cx="896292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629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281160"/>
          <a:ext cx="8544240" cy="62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81160"/>
                    <a:ext cx="8544240" cy="62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360" y="237960"/>
          <a:ext cx="912528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237960"/>
                    <a:ext cx="912528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9440" y="343080"/>
          <a:ext cx="89251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343080"/>
                    <a:ext cx="8925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9880" y="357120"/>
          <a:ext cx="854424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357120"/>
                    <a:ext cx="854424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440" y="547560"/>
          <a:ext cx="876312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7560"/>
                    <a:ext cx="876312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90520" y="604800"/>
          <a:ext cx="85629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604800"/>
                    <a:ext cx="85629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5840" y="542880"/>
          <a:ext cx="857232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42880"/>
                    <a:ext cx="857232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360360"/>
          <a:ext cx="8534520" cy="59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0360"/>
                    <a:ext cx="853452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33280" y="304920"/>
          <a:ext cx="860904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304920"/>
                    <a:ext cx="860904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0:52:50Z</dcterms:created>
  <dc:creator>mas500_98</dc:creator>
  <dc:description/>
  <dc:language>en-US</dc:language>
  <cp:lastModifiedBy>.</cp:lastModifiedBy>
  <dcterms:modified xsi:type="dcterms:W3CDTF">2008-04-15T13:50:58Z</dcterms:modified>
  <cp:revision>9</cp:revision>
  <dc:subject/>
  <dc:title>Presentación de PowerPoint</dc:title>
</cp:coreProperties>
</file>