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F88-CEEF-479D-AB43-25290A0C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655-A2AE-4247-8DD0-66A55584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411-1CF9-46B7-92BC-950F4940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64D-A36F-4E1A-8A84-EFC2E200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471E-A3C6-40E7-9B7B-FAD87BCC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BA3-FD0F-4EDE-BDD7-664400DE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6345-2116-47EE-AE1F-B8E1F261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62C-28BA-4BA6-AA9C-A2EAF4C1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F7B-B7B1-4239-9763-ABD57B2C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560-431C-4D89-948E-35875B05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03BE-8042-403B-BCD3-FFB6DC62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22FA-3196-48F1-93C4-1B3DFA2D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3EE5-9EA5-4619-B74F-DB02253B7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143000"/>
          <a:ext cx="8229600" cy="43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22960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6600" y="266760"/>
          <a:ext cx="90108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266760"/>
                    <a:ext cx="90108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62080" y="171360"/>
          <a:ext cx="8619840" cy="651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171360"/>
                    <a:ext cx="861984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80880" y="555480"/>
          <a:ext cx="8458200" cy="579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55480"/>
                    <a:ext cx="845820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8600" y="824040"/>
          <a:ext cx="8686800" cy="52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24040"/>
                    <a:ext cx="8686800" cy="52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14280" y="609480"/>
          <a:ext cx="8829720" cy="47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609480"/>
                    <a:ext cx="8829720" cy="47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57320" y="466560"/>
          <a:ext cx="8829360" cy="592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466560"/>
                    <a:ext cx="8829360" cy="592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28600" y="762120"/>
          <a:ext cx="8648640" cy="43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64864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95200" y="552600"/>
          <a:ext cx="8553600" cy="57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552600"/>
                    <a:ext cx="8553600" cy="57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28600" y="504720"/>
          <a:ext cx="8686800" cy="584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04720"/>
                    <a:ext cx="8686800" cy="58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1547640"/>
            <a:ext cx="731520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4360" y="628560"/>
          <a:ext cx="8859960" cy="56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628560"/>
                    <a:ext cx="885996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304920" y="52560"/>
          <a:ext cx="8534160" cy="67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2560"/>
                    <a:ext cx="8534160" cy="67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0"/>
          <a:ext cx="9144000" cy="67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28600" y="485640"/>
          <a:ext cx="8686800" cy="588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85640"/>
                    <a:ext cx="8686800" cy="58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9440" y="528480"/>
          <a:ext cx="8925120" cy="580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440" y="528480"/>
                    <a:ext cx="8925120" cy="58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144000" cy="639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9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762120"/>
          <a:ext cx="8962920" cy="44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896292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281160"/>
          <a:ext cx="8544240" cy="62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81160"/>
                    <a:ext cx="8544240" cy="62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9360" y="237960"/>
          <a:ext cx="9125280" cy="638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237960"/>
                    <a:ext cx="912528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9440" y="343080"/>
          <a:ext cx="892512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440" y="343080"/>
                    <a:ext cx="89251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99880" y="357120"/>
          <a:ext cx="8544240" cy="614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357120"/>
                    <a:ext cx="8544240" cy="614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90440" y="547560"/>
          <a:ext cx="8763120" cy="576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547560"/>
                    <a:ext cx="8763120" cy="57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90520" y="604800"/>
          <a:ext cx="8562960" cy="56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604800"/>
                    <a:ext cx="856296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85840" y="542880"/>
          <a:ext cx="8572320" cy="57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542880"/>
                    <a:ext cx="857232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8600" y="360360"/>
          <a:ext cx="8534520" cy="59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0360"/>
                    <a:ext cx="853452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33280" y="304920"/>
          <a:ext cx="8609040" cy="62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304920"/>
                    <a:ext cx="860904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0T00:52:50Z</dcterms:created>
  <dc:creator>mas500_98</dc:creator>
  <dc:description/>
  <dc:language>en-US</dc:language>
  <cp:lastModifiedBy>.</cp:lastModifiedBy>
  <dcterms:modified xsi:type="dcterms:W3CDTF">2008-04-15T13:50:58Z</dcterms:modified>
  <cp:revision>9</cp:revision>
  <dc:subject/>
  <dc:title>Presentación de PowerPoint</dc:title>
</cp:coreProperties>
</file>