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937-AC4D-42BE-BD53-BEE146EC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EF0-FD61-4A66-BCAB-43EE092B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51E-F55E-4A1C-9753-E3B40D3B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6DD-42F2-47F8-935E-AE1DFBFD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82D-2529-40F7-8D0B-D3E9507D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A71-004A-422D-B95B-5D8F7C62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FBD-2DD6-44AA-8C9D-ED038333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62A-A680-4A22-AE44-C0B78C59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93D-6EF1-4CBC-93CF-A2939657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C91-7AC3-4917-A42F-5310628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0A4-2C0A-4562-98C4-3853692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960-5C0B-4BF1-A83D-8D45E730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056D-F440-44FD-84A2-063B8CA1E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2" name="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6370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Profesionales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2760" y="135576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52520" y="2195640"/>
            <a:ext cx="1622520" cy="622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9920" y="2130480"/>
            <a:ext cx="1406520" cy="609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8840" y="3747960"/>
            <a:ext cx="2392200" cy="1113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3789360"/>
            <a:ext cx="2373120" cy="1079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57" idx="0"/>
          </p:cNvCxnSpPr>
          <p:nvPr/>
        </p:nvCxnSpPr>
        <p:spPr>
          <a:xfrm rot="5400000">
            <a:off x="3715560" y="1312920"/>
            <a:ext cx="231120" cy="1535760"/>
          </a:xfrm>
          <a:prstGeom prst="bentConnector3">
            <a:avLst>
              <a:gd name="adj1" fmla="val 4960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2" name=""/>
          <p:cNvCxnSpPr>
            <a:stCxn id="56" idx="2"/>
            <a:endCxn id="58" idx="0"/>
          </p:cNvCxnSpPr>
          <p:nvPr/>
        </p:nvCxnSpPr>
        <p:spPr>
          <a:xfrm flipH="1" rot="16200000">
            <a:off x="5307480" y="1255320"/>
            <a:ext cx="16596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3" name=""/>
          <p:cNvCxnSpPr>
            <a:stCxn id="57" idx="2"/>
            <a:endCxn id="59" idx="0"/>
          </p:cNvCxnSpPr>
          <p:nvPr/>
        </p:nvCxnSpPr>
        <p:spPr>
          <a:xfrm rot="5400000">
            <a:off x="1793880" y="247860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796000" y="3645000"/>
            <a:ext cx="312408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3058920" y="328464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6" name=""/>
          <p:cNvCxnSpPr/>
          <p:nvPr/>
        </p:nvCxnSpPr>
        <p:spPr>
          <a:xfrm>
            <a:off x="6324120" y="3031920"/>
            <a:ext cx="1335960" cy="35604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67" name=""/>
          <p:cNvSpPr/>
          <p:nvPr/>
        </p:nvSpPr>
        <p:spPr>
          <a:xfrm flipV="1">
            <a:off x="6324480" y="2727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057400"/>
            <a:ext cx="7981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 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 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Sistema de gest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676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l Sistema de Gestión de la SST, deberá considerar, entre otros lo siguientes elementos básic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5146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ada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Contratista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Subcontratista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deberá formular un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Programa de Trabaj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probado por la respectiva Empresa, y en base a las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rectric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a Empresa 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7339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Empresa Principal evalua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periódicamente el desempeño del Sistema de Gestión, en los distintos niveles de la Organización. Ella determinará cuando evaluar por Obra, Faena, y Servic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952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n Base a los resultad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obtenidos de la evaluación,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 generarán mecanism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ara adoptar las medidas preventivas y correctiv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 artículo Nº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, Decreto Supremo Nº 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ligaciones de Contratistas y 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810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umpl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todas las medidas dadas en materias  de Seguridad y de Salud en el trabajo, que indiquen: La Empresa Principal, Comité Paritario, y el Departamento de Prevención de Riesgos de Fa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1240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795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ar facilidad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que las disposiciones de este Reglamento le sean aplic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962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ordin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la Empresa Principal, las actividades de Seguridad y de Salud, para cumplir con este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8006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Inform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Empresa Principal, al Comité Paritario y al Departamento de Prevención de Riesgos de Faena, de las obligaciones, que impone este Regl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SPOSICIONES LEGALES DE PREVENCIÓN DE RIESGOS, PARA SUPERVI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Haber capacitad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y entrenado a sus trabajadores en los métodos de trabajo, correctos y seguros ( Derecho a Saber ), tener por escrito esta activ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Poder demostrar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la entrega , uso y control de los elementos  de protección pers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la capacitación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obre la Ley Nº 16.744, y sus Decretos  Suprem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haber hecho entreg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l Reglamento Interno de Orden, Higiene y Seguridad; haber hecho un seguimiento de éste, a objeto de poder constatar, si los trabajadores tomaron conocimiento de él, y que lo leyer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el Reglamento Intern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e ha aplicado, con las respectivas sanciones, frente a los incumplimientos de es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se ha hech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un seguimiento y control de las medidas de Prevención, indicadas por Comité Paritario, o por el Organismo Administrad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los Accidentes Laborales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 su área de trabajo, él investiga, y se toman medidas de prevención de Riesgos, las cuales se cumpl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ones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981080"/>
            <a:ext cx="8664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omar conoc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odas las medidas de Seguridad y Salud, que se programen y realic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Observar y efectu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recomendaciones a las actividades de Prevención, programadas y en ejecución por parte de la Empresa Principal; las cuales deberán disponibles para los distintos Comites Paritarios existe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Participar en las investigacion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accidentes del trabajo que ocurran; bajo la dirección del Departamento de Prevención de riesgos de Faenas, o del Departamento de Prevención de la Empresa a la cual pertenece el trabaj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124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44640"/>
            <a:ext cx="835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acuerdos adoptados por el Comité Paritario de Faena, en el ejercicio de sus atribucione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deberán ser notific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l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tratistas y Subcontratis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y serán obligatorios para todas las Empresas y sus trabajadores, de la respectiva Obra, Faena, o Servicio. Pudiendo apelar al respectivo Organismo Administrador (artículo Nº 66, Ley Nº 16.744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905120"/>
            <a:ext cx="822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tegr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todos los casos el Comité Paritario de Faena con, al menos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 representant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signe al efecto y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o de sus trabaj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5320"/>
            <a:ext cx="8447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demás, deberá integrar al Comité, al menos, un representant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l Empleado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uno de lo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rabajador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de una de las Empresas Contratistas o Subcontratistas, cuya permanencia en la Obra, Faena, o Servicio sea igual o superior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 30 dí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y que tenga mayor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núme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rabaj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2096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nto la Empresa Principal, como las Empresas Contratistas y Subcontratistas,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deberán otorga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todas las facilidades necesarias a sus trabajadores, para que participen en las actividades del Comité Paritario de Fa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8288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articip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la implementación y aplicación del Sistema de Gestión de la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590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torgar asistencia técn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s Empresas Contratistas y Subcontratistas, cuando no cuenten con Departamento de Prevención de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809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y contro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 Gestión Preventiva de los Departamentos de Prevención de Riesgos, existentes en la Obra, Faena, o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800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Asesor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Paritario de Faena, cuando este lo re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7524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Investigar coordinadam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con los Departamentos y Comités de Faena, los accidentes del trabajo, que ocurran en la Obra, Faena, o Servicio; manteniendo un registro de resultados y del control de las med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1240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Mantener un registro actualiz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s estadísticas de accidentes y enfermedades, ocurridos en la Obra, Faena, o Servicio; debiendo determinar, tasas de accidentabilidad, frecuencia, gravedad y siniestralidad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648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s acciones que deban realizar los respectivos Organismos Administradores, o que hayan sido solicitadas por los Contratistas o Subcontrat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2286000"/>
            <a:ext cx="73915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así como los Contratistas o Subcontratista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estarán obligadas a adopt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poner en práctica las medidas de Prevención, que les indique el Departamento de Prevención de Riesgos en Fae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drán apelar, de acuerdo a lo señalado en el artículo Nº 66 de la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5490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916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268280"/>
            <a:ext cx="856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leador direct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si faltan requisitos de concepto legal o hay mera intermediación de trabajadores, Empresa Principal se considera como empleador directo, sin perjuicio de multas ( de 5 a 100 UT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437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53760" y="5229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93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85920" y="1676520"/>
            <a:ext cx="291456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059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05931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78000" y="1594080"/>
            <a:ext cx="5063040" cy="45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08" y="30"/>
                </a:moveTo>
                <a:arcTo wR="10800" hR="10800" stAng="-5142659" swAng="4741100"/>
                <a:lnTo>
                  <a:pt x="10800" y="10800"/>
                </a:lnTo>
                <a:close/>
              </a:path>
              <a:path fill="none" w="21600" h="21600">
                <a:moveTo>
                  <a:pt x="11608" y="30"/>
                </a:moveTo>
                <a:arcTo wR="10800" hR="10800" stAng="-5142659" swAng="4741100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267080" y="1535040"/>
            <a:ext cx="3809880" cy="441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09" y="23"/>
                </a:moveTo>
                <a:arcTo wR="10800" hR="10800" stAng="-5174003" swAng="9742624"/>
                <a:lnTo>
                  <a:pt x="10800" y="10800"/>
                </a:lnTo>
                <a:close/>
              </a:path>
              <a:path fill="none" w="21600" h="21600">
                <a:moveTo>
                  <a:pt x="11509" y="23"/>
                </a:moveTo>
                <a:arcTo wR="10800" hR="10800" stAng="-5174003" swAng="9742624"/>
              </a:path>
            </a:pathLst>
          </a:custGeom>
          <a:noFill/>
          <a:ln w="38160">
            <a:solidFill>
              <a:srgbClr val="ff3300"/>
            </a:solidFill>
            <a:prstDash val="lgDashDot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7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40240" y="3713760"/>
            <a:ext cx="6725160" cy="18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42" y="235"/>
                </a:moveTo>
                <a:arcTo wR="10800" hR="10800" stAng="-4681117" swAng="3002891"/>
                <a:lnTo>
                  <a:pt x="10800" y="10800"/>
                </a:lnTo>
                <a:close/>
              </a:path>
              <a:path fill="none" w="21600" h="21600">
                <a:moveTo>
                  <a:pt x="13042" y="235"/>
                </a:moveTo>
                <a:arcTo wR="10800" hR="10800" stAng="-4681117" swAng="3002891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09280" y="1565640"/>
            <a:ext cx="2236320" cy="18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02" y="169"/>
                </a:moveTo>
                <a:arcTo wR="10800" hR="10800" stAng="-4791454" swAng="4651526"/>
                <a:lnTo>
                  <a:pt x="10800" y="10800"/>
                </a:lnTo>
                <a:close/>
              </a:path>
              <a:path fill="none" w="21600" h="21600">
                <a:moveTo>
                  <a:pt x="12702" y="169"/>
                </a:moveTo>
                <a:arcTo wR="10800" hR="10800" stAng="-4791454" swAng="4651526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8000" y="1679400"/>
            <a:ext cx="3808440" cy="38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78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78936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WinuE</cp:lastModifiedBy>
  <dcterms:modified xsi:type="dcterms:W3CDTF">2009-08-17T03:06:13Z</dcterms:modified>
  <cp:revision>208</cp:revision>
  <dc:subject/>
  <dc:title>Presentación de PowerPoint</dc:title>
</cp:coreProperties>
</file>