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EEA-4948-4C0A-9CFE-791A6D8B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267-6D23-4206-95A5-CB4F3572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6A0-E26C-4643-B7FB-4FBD05C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235-908A-44A4-8CAE-650CF145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B10-A3D1-4430-B020-009AC8C3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CE0-AA4E-4E70-8C0E-FFF6102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8DC-0B85-479F-B8A7-A6C8E7D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75A-C124-47D3-8147-A09B4BD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BD5-EF0C-428F-8694-A218485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F14-CED4-4B59-A4AC-92B7001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51B-02D8-4583-BCA0-B79F8A6D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4DD-26D4-4635-9C74-8B5E58D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014-1A7A-472C-AB33-DA4B37B8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378936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796000" y="3645000"/>
            <a:ext cx="312408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58920" y="32846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6" name="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7" name="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09-08-17T03:06:13Z</dcterms:modified>
  <cp:revision>208</cp:revision>
  <dc:subject/>
  <dc:title>Presentación de PowerPoint</dc:title>
</cp:coreProperties>
</file>