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8AC-9172-4C1A-870A-BE3A2C8D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65A-02FC-4221-9BF4-AC6BB1B1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CC5-A6C3-451D-94C1-5577E3A1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5C0-E6A9-473E-B770-63677F8C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EF2-DF5A-4B10-94D2-033EB2FA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17A7-02DC-4C3D-9BC4-1D268109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3408-DBD7-4AEE-BFB4-FC363CD8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C433-717C-4BEB-8D13-9A707D7C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259-0FD2-4863-8314-56BA60B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3CD-4486-4CE9-9EBE-C306E043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D484-71D1-470B-9D70-83EACE5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5CE-0B13-4BC8-9FE2-72C1971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D565-D255-40EB-97AE-00F6E07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F17-29EF-4160-8833-4F95224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B16-28C8-446F-8DE5-5F53AB7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CD35-FBBF-401F-B2D7-187B359F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590-CE97-4926-9817-7903DBAC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33D-CD35-418E-999B-7C54D06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D77-F253-43BE-94AB-50546B1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FA3-B6F6-4F44-A870-2DA5B66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983-B7C3-4B28-9564-5CC4CAD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1BC-3931-4F53-A005-E639DB4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A46-EDFE-4A18-A129-6143C19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B71-2795-4515-B6C2-FF9C45E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7978-42B3-4E03-B032-2302A47091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074C-730E-4C0A-9987-D8B9152FE969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AS SEREMIS DE SALUD RESPECTIVA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ás de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médic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 la capacit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técnica a los Comités Paritarios y a la línea de administració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tener los 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404640"/>
            <a:ext cx="352908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ey Nº 16.7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064720" cy="432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el seguro obligatorio contra riesgos de accidentes del trabajo y enfermedades profes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seguro social, terminándose el seguro co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oncepto reparativo de las leyes por un concept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riterio, se indemniza la “ Pérdida de capacidad de ganancia” en lugar de pérdida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WinuE</cp:lastModifiedBy>
  <cp:lastPrinted>1999-08-30T13:50:41Z</cp:lastPrinted>
  <dcterms:modified xsi:type="dcterms:W3CDTF">2008-08-17T23:58:11Z</dcterms:modified>
  <cp:revision>107</cp:revision>
  <dc:subject/>
  <dc:title>CURSO DE ORIENTACION EN</dc:title>
</cp:coreProperties>
</file>