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C3A-3EA9-4830-9D82-F4647834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4B6-9E95-418C-BFD1-869ABD0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191-86E1-486C-B039-72D99E66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746-F39C-4975-852D-60FABFD1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6ED1-3FF5-4F52-962A-A7B683F1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55B1-ED2A-488D-9A96-8EBC285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D81B-2FBB-470E-9A0A-342DDEA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8D64-F6EC-4060-970F-95F8AC70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7BB-352D-41D7-91C8-0EADEDB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213-4CCB-4F65-8253-8542E67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BCE-EDAA-4503-AB95-64F6686B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007-D939-4EF6-BC6F-C95BC413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9FC-B31E-4EB2-95C3-F0746C7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038-1366-4EFC-A01B-C1D4EB6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E9C-8308-4E6E-8D4C-389AEDB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491-1BF9-4DF5-A635-440633C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6FA0-E9EE-4005-9978-C14DA23D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893-0EA6-4A20-B376-94E0C1D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67C-30E4-471D-93F9-7BE6C9D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BE5-FB31-4C81-8B48-5C85146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46F-2522-4118-A54E-4000EE21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A92-76B6-479B-9F3F-45B9DB3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F65-7F9E-4958-90E3-8C18D4AE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9F1-EBE1-4031-9CE2-F534D1A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039C-1C2F-4F90-B005-3D8D15BC6E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9F5-C46D-437B-A2AC-6720C5A3BBD5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AS SEREMIS DE SALUD RESPECTIVA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ás de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médic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 la capacit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técnica a los Comités Paritarios y a la línea de administració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tener los 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404640"/>
            <a:ext cx="352908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ey Nº 16.7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064720" cy="432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el seguro obligatorio contra riesgos de accidentes del trabajo y enfermedades profes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seguro social, terminándose el seguro co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oncepto reparativo de las leyes por un concept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riterio, se indemniza la “ Pérdida de capacidad de ganancia” en lugar de pérdida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WinuE</cp:lastModifiedBy>
  <cp:lastPrinted>1999-08-30T13:50:41Z</cp:lastPrinted>
  <dcterms:modified xsi:type="dcterms:W3CDTF">2008-08-17T23:58:11Z</dcterms:modified>
  <cp:revision>107</cp:revision>
  <dc:subject/>
  <dc:title>CURSO DE ORIENTACION EN</dc:title>
</cp:coreProperties>
</file>