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7E9-599A-4F1C-A8D4-451F3156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D9E-93F8-4734-B802-FD0010D4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9D2-1111-4DDE-8D09-140E033F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3B3-64A7-47F3-96F2-500B78B2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8776-8D78-41A8-9977-FEFE6AC0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510-4A16-40A2-8C02-311818E6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69D2-2C4A-4070-977F-605892D5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575-69F4-4427-8F82-6B0E4766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EC88-5B67-4529-BB9A-B64BD3AD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77E4-EE92-4F32-A666-73FE4E2B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AFE5-518C-4240-B9CF-73CC6DB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6F7-3F44-47B5-93EE-41BDC0D5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3D93-EBAF-47F1-B71E-79B596A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2F48-284C-4AAA-87F8-78ECA1E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D588-3CA1-4362-9C12-E9CEAF10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3559-6350-4E6E-B697-FA87BCB3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6074-138B-4364-B5DB-AE5A2507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EED-3950-4E98-84C1-DA55E1B7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C4D-9CBA-468F-B875-ACE719D9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ACF-F33E-4F60-A92D-5A69E996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0C2-5FEC-4EFA-9795-607FBF9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D0B-2E04-4AE8-A483-7D76D3C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1F3-D926-4D94-962E-7073B30B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2A2-F831-408C-BBDB-5DA83E3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B53-3E25-491C-B6FD-4A6934CB1D2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52AF-66F4-4A4C-941F-60A2E7F2D1F2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420000">
            <a:off x="1221840" y="2977920"/>
            <a:ext cx="6770880" cy="326700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14400"/>
            <a:ext cx="8305560" cy="4114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ISPOSICIONES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LEY 16.7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(1 DE Febrero de 196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GURO SOCIAL OBLIG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OBRE ACCIDENTES DEL TRABAJO 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6629400"/>
            <a:ext cx="8127720" cy="0"/>
          </a:xfrm>
          <a:prstGeom prst="line">
            <a:avLst/>
          </a:prstGeom>
          <a:ln w="255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4267080"/>
            <a:ext cx="777240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10080"/>
            <a:ext cx="784836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257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990720"/>
            <a:ext cx="4495680" cy="2895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800" y="22096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INGENCIAS CUBIERTA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LA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CCIDENTES DEL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600"/>
            <a:ext cx="4343400" cy="76212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066680"/>
            <a:ext cx="495288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9fbb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143000"/>
            <a:ext cx="213336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IDENTE DEL</a:t>
            </a:r>
            <a:r>
              <a:rPr b="1" lang="en-US" sz="2800" spc="-1" strike="noStrike">
                <a:solidFill>
                  <a:srgbClr val="71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TOD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QUE SUFRA UNA PERSONA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US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C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CA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L TRABAJO Y QUE LE PRODUZC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APACIDA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MUER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2133720" cy="53352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57200"/>
            <a:ext cx="480060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225108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ON TAMBIEN CONSIDERAD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CCIDENTES DE DIRIGENTES SINDICALES A CAUSA DE SU COMETIDO GREM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BAJADOR ENVIADO POR LA EMPRESA A CURSOS DE CAPACITAC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67560" y="5181480"/>
            <a:ext cx="1789200" cy="11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CAUSADOS POR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FUERZA MAYOR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EXTRAÑA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 Y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SIN RELACION CON EL TRABAJO DE LA VICTIMA</a:t>
            </a:r>
            <a:r>
              <a:rPr b="1" lang="en-US" sz="29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PRODUCIDOS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INTENCIONALMENTE POR LA VICTIM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4838760"/>
            <a:ext cx="123012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Fuerza may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 la naturalez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smos, Tempestades, Enfermedades, Incendios, Naufragios, Aluv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l homb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Guerras, revoluc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input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o existe culpable, Voluntad del trabajador o empleador no interviene en la ocurrencia del hecho.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previsi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Las partes no pueden prever  la ocurrencia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super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adie podría evitar las causas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668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ACCIDENTE CON CAU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e refiere a la lesion ocurrida debido a una o mas causas, donde tiene en definitiva, efectos más graves que en un cas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Herida leve en un hemofí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nfermedad preexistente (diab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CONCAUSA SOBREVIN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on aquellos acaecidos con posterioridad al accidente, pero en relación con 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rror en intervención quirúr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2590920"/>
            <a:ext cx="8229600" cy="2590560"/>
          </a:xfrm>
          <a:prstGeom prst="roundRect">
            <a:avLst>
              <a:gd name="adj" fmla="val 124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438280"/>
            <a:ext cx="8305560" cy="2590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57b49"/>
              </a:gs>
              <a:gs pos="50000">
                <a:srgbClr val="fefefe"/>
              </a:gs>
              <a:gs pos="100000">
                <a:srgbClr val="f57b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N LOS OCURRIDOS EN EL TRAYECTO DIRECTO ENTRE LA HABITACION Y EL LUGAR DE TRABAJO Y VICE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676520"/>
            <a:ext cx="2044800" cy="520560"/>
          </a:xfrm>
          <a:prstGeom prst="roundRect">
            <a:avLst>
              <a:gd name="adj" fmla="val 49995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523880"/>
            <a:ext cx="2895480" cy="533520"/>
          </a:xfrm>
          <a:prstGeom prst="roundRect">
            <a:avLst>
              <a:gd name="adj" fmla="val 499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447920"/>
            <a:ext cx="3047760" cy="5331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523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 EL TRA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38360" y="5261040"/>
            <a:ext cx="1971720" cy="10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Domicilio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s el asiento legal de una persona. Atiende más a un concepto que a una materialidad. (pluralidad de domicil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Residenci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tiende a un concepto material, donde la persona vive en forma perman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Habitación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Lugar donde la persona reside o perno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Morad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e asemeja a hab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813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Lugar de trabaj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Lugar donde la persona desempeña una función, tomando en cuenta el momento en que se dispone a trabaj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Trayecto direct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Trayecto que no sea desviado ni interrumpido por propósitos  ajenos a la necesidad de dirigirse al lugar de trabajo o hab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4440" y="566640"/>
          <a:ext cx="811512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66640"/>
                    <a:ext cx="81151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838080"/>
            <a:ext cx="8382240" cy="53352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458200" cy="5331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47920"/>
            <a:ext cx="8382240" cy="83808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8458200" cy="83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 EN EL TRAYECT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E DE CARABIN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TIFICADO MEDICO - POSTA -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I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 EMPLEADOR SOLO OTORGA DENUNCIA Y CERTIFICADO HOR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BEN SER PROBADOS POR EL TRABAJADOR (ART. 7º DECRETO 10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828800"/>
            <a:ext cx="8534160" cy="2209680"/>
          </a:xfrm>
          <a:prstGeom prst="roundRect">
            <a:avLst>
              <a:gd name="adj" fmla="val 1249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049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04920"/>
            <a:ext cx="5639040" cy="7617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FERMEDAD PROFESIONAL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REGLAMENTADO DECRETO Nº 109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S LA CAUSADA DE UNA MANERA DIRECTA POR EL EJERCICIO DE LA PROFESION O EL TRABAJO QUE REALICE UNA PERSONA Y QUE LE PRODUZCA INCAPACIDAD O MUE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295280"/>
            <a:ext cx="2355840" cy="527040"/>
          </a:xfrm>
          <a:prstGeom prst="roundRect">
            <a:avLst>
              <a:gd name="adj" fmla="val 49995"/>
            </a:avLst>
          </a:prstGeom>
          <a:solidFill>
            <a:srgbClr val="2800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2952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4114800" cy="23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br>
              <a:rPr sz="3600"/>
            </a:b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ENFERMEDAD 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 u="sng">
                <a:solidFill>
                  <a:srgbClr val="669900"/>
                </a:solidFill>
                <a:uFillTx/>
                <a:latin typeface="Tahoma"/>
              </a:rPr>
              <a:t>Elem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ación directa de causa ef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capacidad o muerte del trabaj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r incluida en Decreto Supremo Nº 109 o prueba conforme al Art. Nº 7 de la L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0464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00"/>
                </a:solidFill>
                <a:uFillTx/>
                <a:latin typeface="Tahoma"/>
              </a:rPr>
              <a:t>Similitudes entre Accidente y Enf. Pro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Relación entre el trabajo y la alteración de la salud, y menoscabo de la capacidad de trabajo o muerte del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stado de necesidad del trabajador yo de sus cargas famili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Estado de necesidad:</a:t>
            </a:r>
            <a:r>
              <a:rPr b="0" lang="es-CL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Hechos que provocan una situación de menor capacidad de ganancia o bien desembolso extraordinario, o amb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12536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6600"/>
                </a:solidFill>
                <a:uFillTx/>
                <a:latin typeface="Tahoma"/>
              </a:rPr>
              <a:t>Di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origen clínico Ej.: trabajador de una mina ( sordo por detonació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stantaneidad y/o acum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usa directa o indirec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ccidente no está reglamentado, es un concep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5715000" cy="228600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143000"/>
            <a:ext cx="5410080" cy="2286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1426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ADMINISTR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SEGU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"/>
            <a:ext cx="403884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886200"/>
            <a:ext cx="754380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105520"/>
            <a:ext cx="7543800" cy="1218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. ORGANISMOS ESTA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I.N.P. - S.N.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. ORGANISMOS PRIV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MUTUALIDA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ADMINISTRACION DELEG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2971800"/>
            <a:ext cx="7162920" cy="1143000"/>
          </a:xfrm>
          <a:prstGeom prst="roundRect">
            <a:avLst>
              <a:gd name="adj" fmla="val 31611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343400"/>
            <a:ext cx="5257800" cy="7621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990720"/>
            <a:ext cx="5715000" cy="685800"/>
          </a:xfrm>
          <a:prstGeom prst="roundRect">
            <a:avLst>
              <a:gd name="adj" fmla="val 2856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990720"/>
            <a:ext cx="5943600" cy="68580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257800"/>
            <a:ext cx="7772400" cy="9907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162920" cy="68580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INANCIAMIENTO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BASICA 0,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ADI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0,0% - 3,4% (DECRETO 1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UL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533520"/>
            <a:ext cx="6400800" cy="838080"/>
          </a:xfrm>
          <a:prstGeom prst="roundRect">
            <a:avLst>
              <a:gd name="adj" fmla="val 28565"/>
            </a:avLst>
          </a:prstGeom>
          <a:solidFill>
            <a:srgbClr val="6e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57200"/>
            <a:ext cx="62485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PRESTACIONES MEDIC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NCION MEDICA, QUIRURGICA Y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SPITALIZ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MENTOS Y PRODUCTOS FARMACEU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SIS Y APARATOS ORTOPEDICOS Y SU REPA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HABILITACION FI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06856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90920" y="5335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80880"/>
            <a:ext cx="5639040" cy="91440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      PRESTACIONES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ECONOM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) SUBSI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) INDEMNIZ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I)PEN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)PENSION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ERVIVEN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6200" y="671400"/>
          <a:ext cx="8391600" cy="55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671400"/>
                    <a:ext cx="83916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67652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I)      SUBSIDI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8954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APAC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GENCIA 52 SEMANAS PRORROGABLES POR OTRAS 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TO: 100% DE LA REMUNERACION PROMEDIO ULTIMOS 3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IDENTE O ENFERMEDAD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YE COTIZACION PREVISIONAL Y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838080"/>
            <a:ext cx="5029200" cy="838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 INDEMNIZACION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ANDO EL TRABAJADOR PIERDE ENTRE EL 15% Y 40% DE SU CAPACIDAD DE GANA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IBE DE 1,5  A 15 SUELDOS BASE QUE CORRESPONDEN AL PROMEDIO REMUNERACION DE LOS 6 MESES ANTERIORES AL ACCIDENTE O ENFERMEDAD PROFESION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657600"/>
            <a:ext cx="8229600" cy="22096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fefefe"/>
              </a:gs>
              <a:gs pos="100000">
                <a:srgbClr val="eaec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971800"/>
            <a:ext cx="822960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DIDA PERMANENTE DE SU CAPACIDAD DE GANA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PERDI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PENSION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18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RE 40% Y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5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GUAL O SUPERIOR A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7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 SU CAPACID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10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N INVALIDEZ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0% SUPLE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E 14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95280"/>
            <a:ext cx="3809880" cy="685800"/>
          </a:xfrm>
          <a:prstGeom prst="ellipse">
            <a:avLst/>
          </a:prstGeom>
          <a:gradFill rotWithShape="0">
            <a:gsLst>
              <a:gs pos="0">
                <a:srgbClr val="f35b1b"/>
              </a:gs>
              <a:gs pos="50000">
                <a:srgbClr val="f9bca3"/>
              </a:gs>
              <a:gs pos="100000">
                <a:srgbClr val="f35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II) P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971800"/>
            <a:ext cx="0" cy="5842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657600"/>
            <a:ext cx="0" cy="21844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4952880" cy="1066680"/>
          </a:xfrm>
          <a:prstGeom prst="ellipse">
            <a:avLst/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) PENSIONE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 SUPERVIVENC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RECHO - HABIENT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7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P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just">
              <a:lnSpc>
                <a:spcPct val="9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IVIENTE Y TODO AQUEL QUE HUBIERE VIVIDO A EXPENSAS DE LA VICTIMA COMO CARGA RECONOCI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 DE RIESGOS PROFESION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(TITULO VII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88520" cy="20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LIGACIONES DEL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VIGILANCIA Y FISCALIZACION DE LA PREVENCION, HIGIENE Y SEGURIDAD DE TODOS LOS SITIOS DE TRABAJO A TRAVES DE LAS SEREMIS DE SALUD RESPECTIVAS. (ART.6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R LAS MEDIDAS DE HIGIENE Y SEGURIDAD EN EL TRABAJO NECESARIAS EN LAS EMPRESAS A TRAVES DE LOS SERVICIOS DE SALUD Y APLICAR SANCIONES POR INCUMPLIMIENTO. (ART.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86104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2276640"/>
            <a:ext cx="5867280" cy="4124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BIR TODAS LAS MEDIDAS DE HIGIENE Y SEGURIDAD EN EL TRABAJO QUE LAS EMPRESAS ADHERIDAS DEBAN IMPLAN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R ALZAS O REBAJAS DE COTIZACION ADICIONAL DIFERENCIADA (TASA DE SINIESTRALIDAD EFECTIVA DECRETO Nº 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476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OS ORGANISM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200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-5414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ANTAR MEDIDAS DE PREVENCIÓN DE RIESGOS QUE INDIQUE EL ORGANISMO ADMINISTRADOR Y/O EL DEPARTAMENTO DE PREVENCION DE RIESGOS Y COMITES PARITAR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Y MANTENER AL DIA REGLAMENTO INTERNO DE HIGIENE Y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EL DEPARTAMENTO DE PREVENCIÓN DE RIESGOS CUANDO CUENTEN CON MAS DE 100 TRABA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9680" y="655308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43828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060640"/>
            <a:ext cx="86421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r comité paritario cuando cuente con más de 25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r a los trabajadores, elementos de protección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 a su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uar exámenes de control médic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57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705720" y="4762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09680" y="3049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9944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o establecido por el reglamento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as normas e instrucciones impartidas por el servicio de salud, organismo administrador, departamento de prevención de riesgos o Comité Paritario de Higiene y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8380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80880"/>
            <a:ext cx="6575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 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2060640"/>
            <a:ext cx="6624720" cy="422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tilizar los elementos de protección personal y/o dispositivos de segur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udir a exámenes médicos de contro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r activamente en el actividades de prevención de riesgos a través del comité parit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0" y="662940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33336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64200" y="2205000"/>
            <a:ext cx="198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8520" y="414360"/>
          <a:ext cx="8886960" cy="60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414360"/>
                    <a:ext cx="88869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333360"/>
            <a:ext cx="4176720" cy="114300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5639040" cy="35812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ar y evaluar riesg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6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ión educativa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moción de la capacitació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esoría técnica a los Comités Paritarios y a la línea de administración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tener los registros estadíst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r sobre riesgos laborales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80880"/>
            <a:ext cx="4191120" cy="990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fefefe"/>
              </a:gs>
              <a:gs pos="100000">
                <a:srgbClr val="00ae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049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CRETO S. Nº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3360"/>
            <a:ext cx="4032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NCIONES DE LOS DEPARTA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 PREVENCION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8414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972040" y="4038480"/>
            <a:ext cx="28846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r e instruir a los trabajadores en la correcta utilización de los elementos de protección pers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r cumplimiento de medidas de higiene y segur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gar causas de accidentes y enfermedades profesi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ir si el accidente o enfermedad profesional se debió a negligencia inexcusable del trabaj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409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04640"/>
            <a:ext cx="335268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890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933560"/>
            <a:ext cx="3816360" cy="6375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25800" cy="220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200400"/>
            <a:ext cx="8713800" cy="322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r la adopción de todas las medidas de higiene y segur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plir funciones o misiones que se les haya encomendado el organismo administr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ver cursos de capacitación para  lo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80880"/>
            <a:ext cx="335304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2286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828800"/>
            <a:ext cx="4232520" cy="6987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364000" y="609480"/>
            <a:ext cx="355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404640"/>
            <a:ext cx="352908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ey Nº 16.7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064720" cy="432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el seguro obligatorio contra riesgos de accidentes del trabajo y enfermedades profes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seguro social, terminándose el seguro comer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oncepto reparativo de las leyes por un concept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riterio, se indemniza la “ Pérdida de capacidad de ganancia” en lugar de pérdida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5760" y="404640"/>
          <a:ext cx="877248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60" y="404640"/>
                    <a:ext cx="87724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7320" y="747720"/>
          <a:ext cx="882936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747720"/>
                    <a:ext cx="8829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a2c1fe"/>
              </a:gs>
              <a:gs pos="50000">
                <a:srgbClr val="fefefe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2000"/>
                </a:solidFill>
                <a:latin typeface="Arial"/>
              </a:rPr>
              <a:t>OBJETIVOS LEY 16.74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EVENCION DE ACCIDENTES 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PRESTACIONES ME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PRESTACIONES ECONO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REHABILIT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REEDUC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4705200"/>
            <a:ext cx="29196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37160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a2c1fe"/>
              </a:gs>
              <a:gs pos="50000">
                <a:srgbClr val="f4f7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0060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BAJADORES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ENTA AJ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IO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UNOS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I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133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712000"/>
                </a:solidFill>
                <a:latin typeface="Arial"/>
              </a:rPr>
              <a:t>PERSONAS PROTEG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00240" y="3656160"/>
            <a:ext cx="2914560" cy="23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0T07:57:52Z</dcterms:created>
  <dc:creator>MUTUAL DE SEGURIDAD C.CH.C.</dc:creator>
  <dc:description/>
  <cp:keywords/>
  <dc:language>en-US</dc:language>
  <cp:lastModifiedBy>WinuE</cp:lastModifiedBy>
  <cp:lastPrinted>1999-08-30T13:50:41Z</cp:lastPrinted>
  <dcterms:modified xsi:type="dcterms:W3CDTF">2008-08-17T23:58:11Z</dcterms:modified>
  <cp:revision>107</cp:revision>
  <dc:subject/>
  <dc:title>CURSO DE ORIENTACION EN</dc:title>
</cp:coreProperties>
</file>