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56F3-B43B-47A0-9349-E913A45F4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F10F-1F2C-4DB9-BE4F-B27AF349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875F-BCD0-4C2A-94D5-4846170C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3241-5544-4FB3-A4D0-A424A771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DB3F-3CA2-4AEA-8ABD-DE28125A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CFC5-31CA-46F1-A152-839B7EDF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1DAC-8D89-4EB5-BFBF-02274427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63E5-2EE9-4BE5-AF1B-9EDE1945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8BE3-377D-476E-9093-2DA67306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15FC-1875-49DA-B827-2E531ADC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9A99-0BF2-487D-A5FD-27A5DC86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B8E3-6972-457E-87AF-753C8957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36F3-9ABD-4651-9375-9F04F2341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LAS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INTRODUC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SEMESTRE PRIMAVERA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Comic Sans MS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roveer al alumno de los fundamentos de los mecanismos asociados con remediación y restauración de suelos y aguas subterráneas, los que le permitan abordar el diagnóstico y solución de problemas complejos, asociados con contaminación de suelos y aguas subterrán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MI 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  9:00 - 12:00  (Cátedra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TEM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INTRODUC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SUELO Y SISTEMAS ACUIF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NSPORTE Y DESTINO DE CONTAMINANTES EN AGUAS SUBTERRAN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MICROBIOLOGIA, METABOLISMO Y BIOQUI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GRADACION DE COMPUESTOS SELECCION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GRADACION Y ATENUACION NA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TAMIENTO IN SI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REMEDIACION EN FASE SO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REMEDIACION EN FASE SOLIDO/LIQU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TAMIENTO BIOLOGICO EN FASE GASE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OTROS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18:12:03Z</dcterms:created>
  <dc:creator>Carlos Espinoza</dc:creator>
  <dc:description/>
  <dc:language>en-US</dc:language>
  <cp:lastModifiedBy>Carlos Espinoza</cp:lastModifiedBy>
  <cp:lastPrinted>2004-08-06T18:14:12Z</cp:lastPrinted>
  <dcterms:modified xsi:type="dcterms:W3CDTF">2009-08-05T07:23:55Z</dcterms:modified>
  <cp:revision>27</cp:revision>
  <dc:subject/>
  <dc:title>CI71M PRINCIPIOS DE REMEDIACION Y RESTAURACION</dc:title>
</cp:coreProperties>
</file>