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25AC-1EEA-4431-9C2F-4F6A7096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772C-037A-4543-860D-8305D08C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C07-79BE-41E7-8965-DA7919EB7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DF29-D213-4799-AECD-788AEC5C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25F-F228-4E56-A2A2-1728F8CD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652C-1E35-4275-9CA9-D3568BE2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0707-903A-4145-9984-2D846397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123-6283-4138-B2EB-1B220F55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437-71B7-476F-9F23-96987DF9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59A6-6ECE-4BDA-96D5-BB4247B4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9E6-9B13-4A48-BFC3-2E687751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C93-D4C2-4589-B19E-E655F9CE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022F-CCF5-4343-A06B-4113810CD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468520" y="5530680"/>
            <a:ext cx="719280" cy="885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5776920"/>
            <a:ext cx="519120" cy="60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00400" y="5867280"/>
            <a:ext cx="30178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PARTAMENTO DE INGENI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762120"/>
            <a:ext cx="6553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CI61Q/CI71M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Comic Sans MS"/>
              </a:rPr>
              <a:t>PRINCIPIOS DE REMEDIACION Y RESTAU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L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SEMESTRE PRIMAVERA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veer al alumno de los fundamentos de los mecanismos asociados con remediación y restauración de suelos y aguas subterráneas, los que le permitan abordar el diagnóstico y solución de problemas complejos, asociados con contaminación de suelos y aguas subterrán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MI 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0000"/>
                </a:solidFill>
                <a:latin typeface="Comic Sans MS"/>
              </a:rPr>
              <a:t>  9:00 - 12:00  (Cátedra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19320" y="837720"/>
            <a:ext cx="7238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Comic Sans MS"/>
              </a:rPr>
              <a:t>TEM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TRODUC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SUELO Y SISTEMAS ACUIF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NSPORTE Y DESTINO DE CONTAMINANTES EN AGUAS SUBTERRAN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MICROBIOLOGIA, METABOLISMO Y BIOQUI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DE COMPUESTOS SELECCIO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GRADACION Y ATENUACION NAT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IN SI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REMEDIACION EN FASE SOLIDO/LIQU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TRATAMIENTO BIOLOGICO EN FASE GASE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3780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OTROS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1143000" cy="6858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0" r="0" b="8276"/>
          <a:stretch/>
        </p:blipFill>
        <p:spPr>
          <a:xfrm>
            <a:off x="228600" y="5791320"/>
            <a:ext cx="719280" cy="885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720" y="3049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"/>
              </a:rPr>
              <a:t>CI61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6T18:12:03Z</dcterms:created>
  <dc:creator>Carlos Espinoza</dc:creator>
  <dc:description/>
  <dc:language>en-US</dc:language>
  <cp:lastModifiedBy>Carlos Espinoza</cp:lastModifiedBy>
  <cp:lastPrinted>2004-08-06T18:14:12Z</cp:lastPrinted>
  <dcterms:modified xsi:type="dcterms:W3CDTF">2009-08-05T07:23:55Z</dcterms:modified>
  <cp:revision>27</cp:revision>
  <dc:subject/>
  <dc:title>CI71M PRINCIPIOS DE REMEDIACION Y RESTAURACION</dc:title>
</cp:coreProperties>
</file>