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28F-4368-4B1B-9531-E3003A83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A37-B92E-414D-8B87-7A5C2CD6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40D-3A0D-4BD8-9A16-C5AB19BF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A1C-EFB8-4604-9C06-B8092BB8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478-1083-4491-A951-373E5E4B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04D-DAA8-49E1-AFF4-894A696D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828-C818-4EFA-998D-11C01D46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4E4-4A8D-4E51-BCF6-4ACB9042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932-0534-414D-AF51-37BA0EF4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549-AA9F-4F1D-9ECA-0FB33E33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260-C818-4888-8FFD-655BCB6A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6DD-A35F-46AB-B8E8-115399E7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A660-344A-40EF-94BE-CE7FF6335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 Espinoza</cp:lastModifiedBy>
  <cp:lastPrinted>2004-08-06T18:14:12Z</cp:lastPrinted>
  <dcterms:modified xsi:type="dcterms:W3CDTF">2009-08-05T07:23:55Z</dcterms:modified>
  <cp:revision>27</cp:revision>
  <dc:subject/>
  <dc:title>CI71M PRINCIPIOS DE REMEDIACION Y RESTAURACION</dc:title>
</cp:coreProperties>
</file>