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B41-375F-4EE0-BC24-B9CA2A77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4BF-D62D-4EA1-B5DB-C564B429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B68-80FE-4DBF-8C3D-5B5E0DAF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9F4-647F-4D8D-B875-10E122CA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6C1-A7B6-474C-9C69-A07976DC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ECC2-D582-4AEA-A5CF-4C1137F9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6E44-0698-4BA7-A6E7-9F63C64C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116-FAB1-4EBC-876B-951F0A23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BDB2-5B7D-45A7-AE34-8699528C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756-B917-489C-BA1B-9E9B927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264-66F1-43C5-AB9E-31346333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BEE-9BC7-4986-80A4-6A952B36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A162-7925-45DD-A41D-D0EBE81B0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urso “ CI 69 E 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86800" y="6021000"/>
            <a:ext cx="1332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5300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rá ser académico de jornada completa o parcial de la Universidad de Chile. Excepcionalmente a propuesta de la Comisión de Titulación podrá ser Experto Ext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Coguía y el Integrante podrán ser académicos o expertos extern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ando el Prof. Guía no sea académico de la Facultad, el Coguía deberá serl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COMEND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egir un Tema acorde con sus intereses o hab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es de decid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) leer sobre el Te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) entender claramente el trabajo a desarrol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ITERIOS PARA AUTORIZAR EL CURSO CI 69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lazo para desarrollar la Memoria es de 1 año calend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. Guía debe debe justificar que el Tema califica para 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otorgar la autorización el Director tiene en consideración los antecedentes académicos del estudiante y la naturaleza d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VIA RA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quellos alumnos que han trabajado en un Temario durante las vacaciones y lo tengan ya muy avanzado podrán optar a la vía rápida. Es decir, hacer 2 semestres en uno so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sto deberán presentar a mas tardar en la 3ª semana lo sigu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) Carta del Prof. Guía ratificando que el alumno tiene un avance tal en su Trabajo, que le permitirá terminarlo durante el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) 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) Breve resumen del avance a la 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PRESENTACION DE TEM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be presentar una versión impresa en Secretaría Doc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lelamente se debe subir al Portal del Departamento. (Al subir indicar nombre del alumno, su sección, nombre del temario, versió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“Memoria” tradicional ha sido reemplazada por un “Trabajo de Titulo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e Trabajo de Titulo corresponde a un proyecto de ingeniería y debe desarrollarse en 2 semest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extensión del Trabajo de Titulo en forma óptima debe ser de unas 50 p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I 69 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urante el desarrollo del semestre los alumnos deberán definir un Temario y encontrar un Profesor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Profesor Guía debe ser un académico de la Facultad. Excepcionalmente podrá ser un profesional externo con amplia experiencia en el 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-512064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31349" t="19734" r="32560" b="15538"/>
          <a:stretch/>
        </p:blipFill>
        <p:spPr>
          <a:xfrm>
            <a:off x="950760" y="0"/>
            <a:ext cx="7242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I 69 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1 CONSTRUCCION Prof. D. Campus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2 ESTRUCTURAS    Prof. M.O. Moroni/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            M. Astr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3 TRANSPORT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Prof. M. Muniz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04 HIDRAULICA/         Prof. Ana M. San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ANITARI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03280" y="189000"/>
            <a:ext cx="730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99960"/>
            <a:ext cx="882036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 AL TRABAJO DE TI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 u="sng">
                <a:solidFill>
                  <a:srgbClr val="000000"/>
                </a:solidFill>
                <a:uFillTx/>
                <a:latin typeface="Arial"/>
              </a:rPr>
              <a:t>COMPROMISO PROFESORES GU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te esta carta, el Profesor firmante se compromete a participar como Profesor Guía del Trabajo de Título más adelante individualiza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LUMNO: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:.................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ONO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CCION: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SECCION CI 69E: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TEMA MEMORIA: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 GUIA:...........................................................  FO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FESORES COMISION: (El Prof. Guía debe indicar posibles Profesores para integrar Comisión de Titulación en este Tem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Alumn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irma Profesor Gu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antiago, 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-522252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44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37400"/>
            <a:ext cx="8640720" cy="60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BAJO DE TITU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MBRE ALUM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UT/Nº MATRICUL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GUI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FESOR CURSO CI 69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ECH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ITULO DEL TEMA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 breve resumen de la propuesta de Trabajo de Título, de no más de 250 palabras, en el que se indique objetivos, metodología a utilizar y resultados esper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INTRODUCCION/MOTIV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una breve introducción respecto del tema en que se enmarca el Trabajo de Título, explicando la motivación para desarrollar el trabajo que se prop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tallar los objetivos generales y específicos propues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esentar brevemente la metodología que se propone utilizar para completar los objetivos antes indica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eñalar los principales resultados que se espera obtener al completar el trabajo propues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(máx. 1 pág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BIBLIOGRAFIA Y REFERE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ncluir una lista con las referencias bibliográficas a ser usadas para el desarrollo del trabajo propu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OCUMENTOS COMPLEMENT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.- Si el tema incluye ensayos de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boratorios se debe adjunt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) Carta Gantt en que se indique el número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ensayos a efectu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) Carta compromiso de quién proporcionará lo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quipos y materiales 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- Si el Tema incluye la utilización de software especial o banco de datos privados se debe presentar Carta compromiso de quién lo proporcionar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ISION DE TITULAC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a Comisión está compuesta de 4 profesores del Departa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reúne para revisar los Temarios presentados y los aprueba u obj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el Temario es aprobado designa la Comisión Examinadora (1 P.G; 1 P.C.G.; 1 P.I.) tomando como base la sugerencia del Prof. Gu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8:32:09Z</dcterms:created>
  <dc:creator>Carlos Aguilera</dc:creator>
  <dc:description/>
  <dc:language>en-US</dc:language>
  <cp:lastModifiedBy>Carlos Aguilera</cp:lastModifiedBy>
  <dcterms:modified xsi:type="dcterms:W3CDTF">2009-08-05T23:43:37Z</dcterms:modified>
  <cp:revision>13</cp:revision>
  <dc:subject/>
  <dc:title>Diapositiva 1</dc:title>
</cp:coreProperties>
</file>