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573-8438-499C-A3ED-73058005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6A8-B12B-4228-A4D5-9858E81D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747-E76E-402C-B0D7-C950EDBD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59A-B777-4894-96EB-CDBD3E11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04B-0A6A-4953-A79C-BAAF627E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E9D-7B29-4E90-8153-C7DBA461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3A6-FFC0-4E51-BDC9-39ACF998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83F-2F04-435A-8A3F-8D58AE58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343-75E6-4734-B192-798BB5D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F96-FDB8-4919-ABDE-8821E804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E52-B7D0-4A4C-9B80-E8C401C4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D88-7645-4972-9A82-AB8E066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093D-55D9-48B1-8A28-27025FBC6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49" t="19734" r="32560" b="15538"/>
          <a:stretch/>
        </p:blipFill>
        <p:spPr>
          <a:xfrm>
            <a:off x="950760" y="0"/>
            <a:ext cx="724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D. Campus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M.O. Moroni/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M. Astr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M. Muniz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Ana M. S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09-08-05T23:43:37Z</dcterms:modified>
  <cp:revision>13</cp:revision>
  <dc:subject/>
  <dc:title>Diapositiva 1</dc:title>
</cp:coreProperties>
</file>