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402F3-D5F8-4D3A-80CB-F45D57C18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79521-19C0-46AC-8FDA-67BCB8454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281FB-4E92-4143-A535-C5C4A3263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4003B-1E20-429C-AB45-7C3E3C581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772F4-37D1-4FD5-B8EF-1BFC3EC4C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F47A6-DAE3-4902-AFE3-5608E580A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9ADF2-40E7-4961-B2D7-EF2E6F6A2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77443-3918-4338-B9E9-E65E7EBAB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8B788-43A7-449B-A6AE-1BA8968B4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5DD57-ADDD-4BA8-B454-84616A51A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BCE4A-B95D-4465-B245-991E3BFCD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ABCF5-BC07-44BD-BFB8-E2A25F1CD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D98D6-12AE-4AA6-ABD6-62C1F152D8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263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urso “ CI 69 E “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686800" y="6021000"/>
            <a:ext cx="133200" cy="1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-5300280"/>
            <a:ext cx="8244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l Prof. Guía deberá ser académico de jornada completa o parcial de la Universidad de Chile. Excepcionalmente a propuesta de la Comisión de Titulación podrá ser Experto Extern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l Prof. Coguía y el Integrante podrán ser académicos o expertos extern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uando el Prof. Guía no sea académico de la Facultad, el Coguía deberá serl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RECOMENDAC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legir un Tema acorde con sus intereses o habilidad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ntes de decidi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) leer sobre el Tema 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b) entender claramente el trabajo a desarroll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RITERIOS PARA AUTORIZAR EL CURSO CI 69 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l plazo para desarrollar la Memoria es de 1 año calenda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l Prof. Guía debe debe justificar que el Tema califica para 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ara otorgar la autorización el Director tiene en consideración los antecedentes académicos del estudiante y la naturaleza del Tem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VIA RAPI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quellos alumnos que han trabajado en un Temario durante las vacaciones y lo tengan ya muy avanzado podrán optar a la vía rápida. Es decir, hacer 2 semestres en uno sol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ara esto deberán presentar a mas tardar en la 3ª semana lo siguient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) Carta del Prof. Guía ratificando que el alumno tiene un avance tal en su Trabajo, que le permitirá terminarlo durante el semest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b) Tema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) Breve resumen del avance a la fec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PRESENTACION DE TEMARI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e debe presentar una versión impresa en Secretaría Doc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aralelamente se debe subir al Portal del Departamento. (Al subir indicar nombre del alumno, su sección, nombre del temario, versión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TRABAJO DE TITU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a “Memoria” tradicional ha sido reemplazada por un “Trabajo de Titulo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ste Trabajo de Titulo corresponde a un proyecto de ingeniería y debe desarrollarse en 2 semestr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a extensión del Trabajo de Titulo en forma óptima debe ser de unas 50 pa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I 69 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Durante el desarrollo del semestre los alumnos deberán definir un Temario y encontrar un Profesor Guí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l Profesor Guía debe ser un académico de la Facultad. Excepcionalmente podrá ser un profesional externo con amplia experiencia en el Tem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7360" y="-5120640"/>
            <a:ext cx="6984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rcRect l="31349" t="19734" r="32560" b="15538"/>
          <a:stretch/>
        </p:blipFill>
        <p:spPr>
          <a:xfrm>
            <a:off x="950760" y="0"/>
            <a:ext cx="7242480" cy="66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CI 69 E</a:t>
            </a:r>
            <a:br>
              <a:rPr sz="4000"/>
            </a:b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SECCIO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01 CONSTRUCCION Prof. D. Campusa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02 ESTRUCTURAS    Prof. M.O. Moroni/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                   M. Astroz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03 TRANSPORTES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   Prof. M. Munizag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04 HIDRAULICA/         Prof. Ana M. Sanch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ANITARIA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-5222520"/>
            <a:ext cx="8244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203280" y="189000"/>
            <a:ext cx="73080" cy="7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4480" bIns="244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9280" y="399960"/>
            <a:ext cx="882036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INTRODUCCION AL TRABAJO DE TITU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 u="sng">
                <a:solidFill>
                  <a:srgbClr val="000000"/>
                </a:solidFill>
                <a:uFillTx/>
                <a:latin typeface="Arial"/>
              </a:rPr>
              <a:t>COMPROMISO PROFESORES GU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Mediante esta carta, el Profesor firmante se compromete a participar como Profesor Guía del Trabajo de Título más adelante individualizad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ALUMNO:...............................................................................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RUT:................................................................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FONO................................................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SECCION:..............................................................................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PROFESOR SECCION CI 69E:..................................................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TEMA MEMORIA:...............................................................................................................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............................................................................................................................................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............................................................................................................................................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PROFESOR GUIA:...........................................................  FONO.....................................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PROFESORES COMISION: (El Prof. Guía debe indicar posibles Profesores para integrar Comisión de Titulación en este Tema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..................................................................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..................................................................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..................................................................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...............................................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.............................................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Firma Alumno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Firma Profesor Gu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Santiago, ................................................................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7360" y="-5222520"/>
            <a:ext cx="6984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440" cy="1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50920" y="437400"/>
            <a:ext cx="8640720" cy="607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TRABAJO DE TITU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NOMBRE ALUMN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RUT/Nº MATRICULA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PROFESOR GUIA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PROFESOR CURSO CI 69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FECHA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TITULO DEL TEMA PROPUES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RESUM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Presentar un breve resumen de la propuesta de Trabajo de Título, de no más de 250 palabras, en el que se indique objetivos, metodología a utilizar y resultados esperado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INTRODUCCION/MOTIVAC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Presentar una breve introducción respecto del tema en que se enmarca el Trabajo de Título, explicando la motivación para desarrollar el trabajo que se propon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(máx. 1 pág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OBJETIV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Detallar los objetivos generales y específicos propuesto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(máx. 1 pág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METODOLOG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Presentar brevemente la metodología que se propone utilizar para completar los objetivos antes indicado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(máx. 1 pág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RESULTADOS ESPERAD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Señalar los principales resultados que se espera obtener al completar el trabajo propuest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(máx. 1 pág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BIBLIOGRAFIA Y REFERENCI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Incluir una lista con las referencias bibliográficas a ser usadas para el desarrollo del trabajo propues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DOCUMENTOS COMPLEMENTARI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1.- Si el tema incluye ensayos de  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aboratorios se debe adjunta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) Carta Gantt en que se indique el número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e ensayos a efectu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b) Carta compromiso de quién proporcionará los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quipos y materiales necesari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2.- Si el Tema incluye la utilización de software especial o banco de datos privados se debe presentar Carta compromiso de quién lo proporcionará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OMISION DE TITULAC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sta Comisión está compuesta de 4 profesores del Departamen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e reúne para revisar los Temarios presentados y los aprueba u objet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i el Temario es aprobado designa la Comisión Examinadora (1 P.G; 1 P.C.G.; 1 P.I.) tomando como base la sugerencia del Prof. Guí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1T18:32:09Z</dcterms:created>
  <dc:creator>Carlos Aguilera</dc:creator>
  <dc:description/>
  <dc:language>en-US</dc:language>
  <cp:lastModifiedBy>Carlos Aguilera</cp:lastModifiedBy>
  <dcterms:modified xsi:type="dcterms:W3CDTF">2009-08-05T23:43:37Z</dcterms:modified>
  <cp:revision>13</cp:revision>
  <dc:subject/>
  <dc:title>Diapositiva 1</dc:title>
</cp:coreProperties>
</file>