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AFD-2E76-4069-A8E1-83D95253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401-C515-421A-9BEC-0FE98993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B73-CF62-44F9-9279-D95E561D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C4F-B89C-4AC3-A0FE-30C2C65C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137-6A81-4028-BC07-3AE1564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571-A021-42E5-AEDA-E8E7FF8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949-A578-4188-8E15-B3190F4B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D48-C3DE-48A4-9F3E-CE040A34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83E-6831-45AB-9F45-EC47B694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F82-B804-442E-9D7D-8E95FDB0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5A3-592C-4C94-B08D-26B9DFE7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CA2-43F1-4E55-8C9E-2196E29F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2CE3-4366-4713-9AD9-D66954D2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49" t="19734" r="32560" b="15538"/>
          <a:stretch/>
        </p:blipFill>
        <p:spPr>
          <a:xfrm>
            <a:off x="950760" y="0"/>
            <a:ext cx="724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D. Campus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M.O. Moroni/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M. Astr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M. Muniz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Ana M. S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09-08-05T23:43:37Z</dcterms:modified>
  <cp:revision>13</cp:revision>
  <dc:subject/>
  <dc:title>Diapositiva 1</dc:title>
</cp:coreProperties>
</file>