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F281-D597-44B8-BB9D-688D0B4AB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D6D9-7EA3-444A-8FEC-C41A8ED8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4A0D-04DB-4A93-88A8-6866FBB43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BA56-C216-4A95-86E9-028753E8C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012C-3DFB-401F-A3CB-67B76DD2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985F-0CF0-4DF3-95D6-56FFE343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5BA0-79B6-4E83-B0A9-17DABBB5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1D2D-9DAE-404B-AAE1-0A614590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CA84-434F-4E1D-9415-CF6A10F5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CE49-7792-4B11-A437-15D8CC08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9404-6082-4519-9FC1-0F19BDC7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5A9A-DE9D-4B96-96B1-43B422EF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E515-D4D3-4D66-A60D-066807310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urso “ CI 69 E 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686800" y="6021000"/>
            <a:ext cx="1332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-530028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. Guía deberá ser académico de jornada completa o parcial de la Universidad de Chile. Excepcionalmente a propuesta de la Comisión de Titulación podrá ser Experto Exter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. Coguía y el Integrante podrán ser académicos o expertos exter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ando el Prof. Guía no sea académico de la Facultad, el Coguía deberá serl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egir un Tema acorde con sus intereses o habilida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ntes de decidi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) leer sobre el Tema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) entender claramente el trabajo a desarrol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RITERIOS PARA AUTORIZAR EL CURSO CI 69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lazo para desarrollar la Memoria es de 1 año calend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. Guía debe debe justificar que el Tema califica para 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 otorgar la autorización el Director tiene en consideración los antecedentes académicos del estudiante y la naturaleza del 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VIA RAP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quellos alumnos que han trabajado en un Temario durante las vacaciones y lo tengan ya muy avanzado podrán optar a la vía rápida. Es decir, hacer 2 semestres en uno so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a esto deberán presentar a mas tardar en la 3ª semana lo sigui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) Carta del Prof. Guía ratificando que el alumno tiene un avance tal en su Trabajo, que le permitirá terminarlo durante el semest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) Tem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) Breve resumen del avance a la f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ESENTACION DE TEM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debe presentar una versión impresa en Secretaría Doc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lelamente se debe subir al Portal del Departamento. (Al subir indicar nombre del alumno, su sección, nombre del temario, versió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BAJO DE TI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“Memoria” tradicional ha sido reemplazada por un “Trabajo de Titulo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e Trabajo de Titulo corresponde a un proyecto de ingeniería y debe desarrollarse en 2 semest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extensión del Trabajo de Titulo en forma óptima debe ser de unas 50 pa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I 69 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urante el desarrollo del semestre los alumnos deberán definir un Temario y encontrar un Profesor Gu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esor Guía debe ser un académico de la Facultad. Excepcionalmente podrá ser un profesional externo con amplia experiencia en el 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7360" y="-512064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31349" t="19734" r="32560" b="15538"/>
          <a:stretch/>
        </p:blipFill>
        <p:spPr>
          <a:xfrm>
            <a:off x="950760" y="0"/>
            <a:ext cx="72424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I 69 E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SEC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1 CONSTRUCCION Prof. D. Campus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2 ESTRUCTURAS    Prof. M.O. Moroni/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       M. Astro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3 TRANSPORTE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Prof. M. Muniza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4 HIDRAULICA/         Prof. Ana M. Sanc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ANITARI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-522252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03280" y="189000"/>
            <a:ext cx="7308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399960"/>
            <a:ext cx="882036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TRODUCCION AL TRABAJO DE TITU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000000"/>
                </a:solidFill>
                <a:uFillTx/>
                <a:latin typeface="Arial"/>
              </a:rPr>
              <a:t>COMPROMISO PROFESORES GU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diante esta carta, el Profesor firmante se compromete a participar como Profesor Guía del Trabajo de Título más adelante individualiz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LUMNO: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UT:................................................................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ONO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CCION: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FESOR SECCION CI 69E: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EMA MEMORIA: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FESOR GUIA:...........................................................  FONO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FESORES COMISION: (El Prof. Guía debe indicar posibles Profesores para integrar Comisión de Titulación en este Tem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irma Alumn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irma Profesor Gu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antiago, 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7360" y="-522252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440" cy="1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437400"/>
            <a:ext cx="8640720" cy="60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RABAJO DE TIT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OMBRE ALUM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UT/Nº MATRICUL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FESOR GUI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FESOR CURSO CI 69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CH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TULO DEL TEMA PROPUE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esentar un breve resumen de la propuesta de Trabajo de Título, de no más de 250 palabras, en el que se indique objetivos, metodología a utilizar y resultados espera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TRODUCCION/MOTIV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esentar una breve introducción respecto del tema en que se enmarca el Trabajo de Título, explicando la motivación para desarrollar el trabajo que se propo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tallar los objetivos generales y específicos propuest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esentar brevemente la metodología que se propone utilizar para completar los objetivos antes indica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ESULTADOS ESPER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ñalar los principales resultados que se espera obtener al completar el trabajo propues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BIBLIOGRAFIA Y REFEREN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cluir una lista con las referencias bibliográficas a ser usadas para el desarrollo del trabajo propue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OCUMENTOS COMPLEMENT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.- Si el tema incluye ensayos de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boratorios se debe adjunt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) Carta Gantt en que se indique el número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 ensayos a efectu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) Carta compromiso de quién proporcionará lo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quipos y materiales neces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.- Si el Tema incluye la utilización de software especial o banco de datos privados se debe presentar Carta compromiso de quién lo proporcionar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ISION DE TITUL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a Comisión está compuesta de 4 profesores del Departam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reúne para revisar los Temarios presentados y los aprueba u obje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el Temario es aprobado designa la Comisión Examinadora (1 P.G; 1 P.C.G.; 1 P.I.) tomando como base la sugerencia del Prof. Gu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8:32:09Z</dcterms:created>
  <dc:creator>Carlos Aguilera</dc:creator>
  <dc:description/>
  <dc:language>en-US</dc:language>
  <cp:lastModifiedBy>Carlos Aguilera</cp:lastModifiedBy>
  <dcterms:modified xsi:type="dcterms:W3CDTF">2009-08-05T23:43:37Z</dcterms:modified>
  <cp:revision>13</cp:revision>
  <dc:subject/>
  <dc:title>Diapositiva 1</dc:title>
</cp:coreProperties>
</file>