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1E45-1F48-4BE2-BFF7-3F749AAB3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59E-DFF9-4CF2-B69C-905DE435E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C9D1E-AE04-489D-A47F-12B9A5061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D543-F2E6-47D7-9250-B5F69065C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8E42-889F-4002-AB75-CEE5AA4A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DBDF3-6224-4833-95BF-3D9EF496F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D941A-1101-48BB-A182-A4CCFC15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1ABB-817A-47BC-B188-76ACAAE7F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8298-997B-4133-8E45-33935FE6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A7CD-FB89-445F-B5D5-6F2C9E826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B20C-C631-468C-9105-D5C6BDA6E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80A9-40DD-41BA-8991-2337BE1A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5A413-FCAB-4FFA-AE40-924BF481A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447040" y="5800680"/>
            <a:ext cx="239760" cy="3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15640" y="333000"/>
            <a:ext cx="6985080" cy="76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TRUCTIBILIDAD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24000" y="1125360"/>
            <a:ext cx="853272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a proporción importante de los problemas que se producen en obra, ocurren porque al diseñar no se ha tomado muy en cuenta el problema de la ejecució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s puntos no definidos en los diseños, se transforman en problemas que debe solucionar el contratista en terreno, a través del profesional a cargo de la obra y que se detectan, casi siempre, justo antes de realizar esa parte específica e inclusive después de realizada. Así, un pequeño error o ambigüedad en el escritorio de un profesional se transforma para otro en una urgencia que puede paralizar una faena, obligar a rehacer trabajo, y producir pérdidas de distinto tipo y magnitud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  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ALISIS DE CONSTRUCTIBI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do a analizar cada uno de los elementos proyectados bajo la óptica del constructor, de tal manera de no tener exceso de costos durante la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31640" y="191628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ORDINACION DE 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01760" y="1542600"/>
            <a:ext cx="69840" cy="158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640" y="475920"/>
            <a:ext cx="8353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De acuerdo a la experiencia un proyecto bien coordinado y completo sólo debiera tener una variación en el costo final de no mas de un 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En cambio uno mal coordinado e incompleto puede tener un sobrecosto de hasta un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r otro lado se estima que la coordinación de un proyecto, incluidos todos los profesionales y especialidades requeridas representa entre un 5% y un 10% del presupuesto tot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88200"/>
            <a:ext cx="75610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60280"/>
            <a:ext cx="8362800" cy="633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USAS QUE MOTIVAN LAS DEFICIENCIAS DE LOS PROYEC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5194440"/>
            <a:ext cx="1540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404280"/>
            <a:ext cx="835344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-5222520"/>
            <a:ext cx="13320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 totalidad de los requisitos no son conocidos desde el comienz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co tiempo para desarrollar el proyec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utina en el pensamiento, facultad creadora amenguada por falta de incentivos intelectuales  y/o profesion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-515880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333360"/>
            <a:ext cx="842472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lta de comunicación entre l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ejuicios, experiencias incorrectas, inclinación a aplicar soluciones ya proba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usencia de un especialista o de una pericia particular en el equipo de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mbios en los programas o en los criterios de trabajo durante el 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-4481280"/>
            <a:ext cx="457200" cy="923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dos los problemas anteriores, pueden ser superados si el mandante, proyectistas y el Coordinador de Proyecto conforman un equipo de trabajo destinado a maximizar la calidad del proyecto, previendo los eventuales problemas, eliminando la posibilidad de errores u omisiones y de esta forma acercarse a una optimización del producto final.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INGENIERIA DE VALOR O ANALISIS 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VALORATIVO </a:t>
            </a:r>
            <a:br>
              <a:rPr sz="3500"/>
            </a:b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3500" spc="-1" strike="noStrike">
                <a:solidFill>
                  <a:srgbClr val="000000"/>
                </a:solidFill>
                <a:latin typeface="Arial"/>
              </a:rPr>
              <a:t>(Value Engineering o Value Analysis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4920" y="2205000"/>
            <a:ext cx="828036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 el Análisis orientado a determinar las funciones esenciales de cada uno de los aspectos del proyecto, identificando aquellos elementos que añaden costos innecesarios o desproporcionados, con el propósito de reducirlos o suprimirlos, sin perjudicar la calidad, utilidad, confiabilidad, seguridad, etc., del proyec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Arquitectura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álculo estructur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s de Instalaciones (A.P., Alcantarillado, Electricidad, Gas, Ascensores, Basuras, Calefacción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yecto de Constru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05816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GENIERIA DE VALO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continuación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777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 vez identificadas las funciones, la metodología consiste en formular “formas alternativas” para alcanzar la misma función a un menor costo, manteniendo o mejorando el rendimiento del proyec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0024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ASES QUE COMPONEN UN PROCESO DE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95280" y="1412640"/>
            <a:ext cx="84247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Información: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Consiste en la recopilación de los antecedentes del Proyecto, estudio de la información técnica, económica y operativa del mism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nálisis Funcional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lica la identificación de las funciones que deben cumplir los principales elementos del Proyecto, determinando su valor y su costo de materializació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Genera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equipo desarrolla un proceso de "brain storming" que permite obtener Ideas Creativas que busquen optimizar las soluciones a implementar, de modo de cumplir con las funciones anteriormente identific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-521928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000" y="333000"/>
            <a:ext cx="828036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valuación y Selección de Ideas Creativ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or medio de la aplicación de métodos de Análisis Multicriterio se evalúan alternativas y su impacto sobre la performance, costos asociados, posibilidad de implementación, incidencia sobre el programa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sarrollo de las Ideas Creativas Seleccionadas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quella ideas que genere el mayor Valor para la Función analizada será desarrollada, determinando sus ventajas comparativas y su análisis de costo a lo largo de la vida útil, llegando a definir la posible economía esperad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ANDO SE RECOMIENDA IMPLEMENTAR EL ANALISIS VALORAT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izar u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rimer estudio de Análisis Valorativ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a vez que se ha finalizado con el desarrollo del Diseño Conceptual. Esto permite identificar y evaluar los posibles Ideas Creativas que permitan incrementar el Valor Funcional del Proyecto, reduciendo los costos de construcción, operación y manten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 la etapa inicial del desarrollo del Diseño e Ingeniería del Proyecto es factible identificar economías y de ser necesario proponer cambios de dirección sin afectar el programa de desarrollo del Diseño. El costo y la dificultad de implementación de Ideas Creativas en esta etapa es mínim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7360" y="-521676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 aconseja ejecutar u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gundo estudio de Análisis Valorativ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una vez que el Diseño y la Ingeniería ha avanzado un 70% en fase de Proyecto Ejecutivo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Arial"/>
              </a:rPr>
              <a:t>BENEFICIOS DE LA APLICACIÓN DEL ANALISIS VALORATIV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DUCCION DEL COSTO TOT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Permite alcanzar economías en el Costo Total del proyecto a lo largo de su vida úti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CREMENTA EL VALOR DEL PROYEC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1337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5943240"/>
            <a:ext cx="82440" cy="18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8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Un ducto de desague cruza el terreno donde debe emplazarse el edif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l diseño contempla una edificación en un solo bloque, para lo cual debe desviarse el duc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de reubicación del ducto según diseño: US$ 4.50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5222520"/>
            <a:ext cx="824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95280" y="0"/>
            <a:ext cx="83534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533600" y="-746280"/>
            <a:ext cx="6076800" cy="835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separó funcionalmente el edificio y se diseñó 2 Bloques, uno a cada l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mantuvo el trazado del ca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alternativa: US$ 150.000.- (de nuevos muros exterio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4.350.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HONORARIOS DE PROYEC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rquitectura: 0.35 a 0.50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álculo : 0.10 a 0.15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Instalaciones: 0.05 a 0.07 UF/m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EÑ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mplejo Hospitalario orientado en forma paralela a la calle principal por lo que resulta perpendicular a las curvas de niv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Costo del Mov. de Tierras y muros de contención: US$ 2.35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YECTO ALTERNATIV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Se rota el emplazamiento colocando la construcción en forma paralela a las curvas de nivel para disminuir movimientos de tierr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osto excavaciones y muros de contención alternativos: US$ 480.000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horro en Inversión: US$ 1.870.000.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549360"/>
            <a:ext cx="8218440" cy="55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96720" y="390600"/>
            <a:ext cx="8352000" cy="60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YECTO DE CONSTRUCC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ción general de la o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 costo fi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s específ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Constructibi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sistemas de control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YOUT DE INSTALACIONES EN OBR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Oficinas Técnicas (Profesional, Jefe de Obra, Capataces, Administrativo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años para el pers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uc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odegas (cemento, fierro, maderas, materiales varios, pañol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Zona de almacenamiento de escomb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irculaciones inter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Ocupación vere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GRAMACION GENERAL DE OB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e malla (camino crítico y holgur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rganización del personal (curva de contratación y despi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minis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 de subcontra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amación diar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UPUESTO DE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bicaciones (Patrones standar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upuesto detallado (Ley de Pare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P.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o de Gastos Gene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tribución de costos por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urva Gasto/Tiempo (curva “S”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STUDIOS ESPECIF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ormigón en obra o premezcl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ldajes a utili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Transporte vertic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ALTURA  OPTIMA  ECONOMICA.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l terre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Costo de construc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recio de ven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Parámetros económ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6T00:16:37Z</dcterms:created>
  <dc:creator>Carlos Aguilera</dc:creator>
  <dc:description/>
  <dc:language>en-US</dc:language>
  <cp:lastModifiedBy>Carlos Aguilera</cp:lastModifiedBy>
  <dcterms:modified xsi:type="dcterms:W3CDTF">2009-08-16T00:50:52Z</dcterms:modified>
  <cp:revision>3</cp:revision>
  <dc:subject/>
  <dc:title>PROYECTOS</dc:title>
</cp:coreProperties>
</file>