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546-1815-45DB-B2E5-0194E8EC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D91-EFC6-4E3A-B8DB-E755F618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DA5-4791-4290-BA59-49F53320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995-31BC-4BEC-8BB1-F597A722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61F-7F29-4455-9989-735E293D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C7E-1ADC-4738-AF73-44473651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1E8-9AEF-4B14-8146-ABB2D7BF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BFE-DE3F-44F7-9580-969AFA4D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46F-1597-42A0-9D4E-42FB1225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6DA-A2D1-4256-822C-C443030A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275-1034-4A71-9654-E158D1B9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8A5-2D8A-429E-8F66-53BB40DF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5F75-AB9D-4F7F-B022-AB4C83F3E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47040" y="5800680"/>
            <a:ext cx="23976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9850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UCTIBILIDAD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32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proporción importante de los problemas que se producen en obra, ocurren porque al diseñar no se ha tomado muy en cuenta el problema de la ejecució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puntos no definidos en los diseños, se transforman en problemas que debe solucionar el contratista en terreno, a través del profesional a cargo de la obra y que se detectan, casi siempre, justo antes de realizar esa parte específica e inclusive después de realizada. Así, un pequeño error o ambigüedad en el escritorio de un profesional se transforma para otro en una urgencia que puede paralizar una faena, obligar a rehacer trabajo, y producir pérdidas de distinto tipo y magnitu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ISIS DE CONSTRUCTIBI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do a analizar cada uno de los elementos proyectados bajo la óptica del constructor, de tal manera de no tener exceso de costos durante la constr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1640" y="191628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ORDINACION DE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0176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475920"/>
            <a:ext cx="8353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 acuerdo a la experiencia un proyecto bien coordinado y completo sólo debiera tener una variación en el costo final de no mas de un 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cambio uno mal coordinado e incompleto puede tener un sobrecosto de hasta un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r otro lado se estima que la coordinación de un proyecto, incluidos todos los profesionales y especialidades requeridas representa entre un 5% y un 10% del presupuesto tot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88200"/>
            <a:ext cx="7561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USAS QUE MOTIVAN LAS DEFICIENCIAS DE LOS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totalidad de los requisitos no son conocidos desde el comien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co tiempo para desarrollar 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utina en el pensamiento, facultad creadora amenguada por falta de incentivos intelectuales  y/o profes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519444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8353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ta de comunicación entre las pa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juicios, experiencias incorrectas, inclinación a aplicar soluciones ya prob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encia de un especialista o de una pericia particular en el equipo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bios en los programas o en los criterios de trabajo durante el dis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-522252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totalidad de los requisitos no son conocidos desde el comien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co tiempo para desarrollar 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tina en el pensamiento, facultad creadora amenguada por falta de incentivos intelectuales  y/o profes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51588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ta de comunicación entre las pa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juicios, experiencias incorrectas, inclinación a aplicar soluciones ya prob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encia de un especialista o de una pericia particular en el equipo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bios en los programas o en los criterios de trabajo durante el dis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481280"/>
            <a:ext cx="4572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os los problemas anteriores, pueden ser superados si el mandante, proyectistas y el Coordinador de Proyecto conforman un equipo de trabajo destinado a maximizar la calidad del proyecto, previendo los eventuales problemas, eliminando la posibilidad de errores u omisiones y de esta forma acercarse a una optimización del producto final.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INGENIERIA DE VALOR O ANALISIS 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VALORATIVO </a:t>
            </a:r>
            <a:br>
              <a:rPr sz="3500"/>
            </a:b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(Value Engineering o Value Analysis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2803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 el Análisis orientado a determinar las funciones esenciales de cada uno de los aspectos del proyecto, identificando aquellos elementos que añaden costos innecesarios o desproporcionados, con el propósito de reducirlos o suprimirlos, sin perjudicar la calidad, utilidad, confiabilidad, seguridad, etc.,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de Arquitectur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de Cálculo estructu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s de Instalaciones (A.P., Alcantarillado, Electricidad, Gas, Ascensores, Basuras, Calefacción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058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GENIERIA DE VAL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continuació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7775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vez identificadas las funciones, la metodología consiste en formular “formas alternativas” para alcanzar la misma función a un menor costo, manteniendo o mejorando el rendimiento d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ES QUE COMPONEN UN PROCESO DE ANALISIS VAL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formación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nsiste en la recopilación de los antecedentes del Proyecto, estudio de la información técnica, económica y operativa del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álisis Funcional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 la identificación de las funciones que deben cumplir los principales elementos del Proyecto, determinando su valor y su costo de materializ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eneración de Ideas Creativa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equipo desarrolla un proceso de "brain storming" que permite obtener Ideas Creativas que busquen optimizar las soluciones a implementar, de modo de cumplir con las funciones anteriormente identific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-5219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valuación y Selección de Ideas Creativa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medio de la aplicación de métodos de Análisis Multicriterio se evalúan alternativas y su impacto sobre la performance, costos asociados, posibilidad de implementación, incidencia sobre el program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rrollo de las Ideas Creativas Seleccionada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quella ideas que genere el mayor Valor para la Función analizada será desarrollada, determinando sus ventajas comparativas y su análisis de costo a lo largo de la vida útil, llegando a definir la posible economía espe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ANDO SE RECOMIENDA IMPLEMENTAR EL ANALISIS VAL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lizar u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er estudio de Análisis Valora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a vez que se ha finalizado con el desarrollo del Diseño Conceptual. Esto permite identificar y evaluar los posibles Ideas Creativas que permitan incrementar el Valor Funcional del Proyecto, reduciendo los costos de construcción, operación y manten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etapa inicial del desarrollo del Diseño e Ingeniería del Proyecto es factible identificar economías y de ser necesario proponer cambios de dirección sin afectar el programa de desarrollo del Diseño. El costo y la dificultad de implementación de Ideas Creativas en esta etapa es míni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7360" y="-52167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aconseja ejecutar u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gundo estudio de Análisis Valorati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a vez que el Diseño y la Ingeniería ha avanzado un 70% en fase de Proyecto Ejecutivo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ENEFICIOS DE LA APLICACIÓN DEL ANALISIS VALORATIV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CION DEL COSTO 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Permite alcanzar economías en el Costo Total del proyecto a lo largo de su vida út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MENTA EL VALOR DEL PROYEC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5943240"/>
            <a:ext cx="824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n ducto de desague cruza el terreno donde debe emplazarse el edif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diseño contempla una edificación en un solo bloque, para lo cual debe desviarse el 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sto de reubicación del ducto según diseño: US$ 4.50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0"/>
            <a:ext cx="83534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33600" y="-746280"/>
            <a:ext cx="6076800" cy="83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 ALTERN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separó funcionalmente el edificio y se diseñó 2 Bloques, uno a cada lado del ca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mantuvo el trazado del ca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sto alternativa: US$ 150.000.- (de nuevos muros exterio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horro en Inversión: US$ 4.35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ONORARIOS DE PROY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quitectura: 0.35 a 0.50 UF/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álculo : 0.10 a 0.15 UF/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stalaciones: 0.05 a 0.07 UF/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720" y="390600"/>
            <a:ext cx="835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lejo Hospitalario orientado en forma paralela a la calle principal por lo que resulta perpendicular a las curvas de ni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sto del Mov. de Tierras y muros de contención: US$ 2.35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6720" y="390600"/>
            <a:ext cx="835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 ALTERN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rota el emplazamiento colocando la construcción en forma paralela a las curvas de nivel para disminuir movimientos de ti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sto excavaciones y muros de contención alternativos: US$ 480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horro en Inversión: US$ 1.870.000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549360"/>
            <a:ext cx="821844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6720" y="390600"/>
            <a:ext cx="835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YECTO DE CONSTRUCC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yout de instalaciones en o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gramación general de la o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upuesto de costo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udio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Construct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eño de sistemas de control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YOUT DE INSTALACIONES EN OB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ficinas Técnicas (Profesional, Jefe de Obra, Capataces, Administrativo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ños para el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u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odegas (cemento, fierro, maderas, materiales varios, pañol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Zona de almacenamiento de escomb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rculaciones inte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Ocupación vere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ACION GENERAL DE O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ción de malla (camino crítico y holgur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ón del personal (curva de contratación y despi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 de sumini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 de subcont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ción d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UPUESTO DE C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bicaciones (Patrones standa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upuesto detallado (Ley de Pare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P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udio de Gastos Gene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tribución de costos por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rva Gasto/Tiempo (curva “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UDIOS ESPECI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rmigón en obra o premezc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ldajes a uti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porte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LTURA  OPTIMA  ECONOMICA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cio del terr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sto de constr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cio de ve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arámetros económ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16:37Z</dcterms:created>
  <dc:creator>Carlos Aguilera</dc:creator>
  <dc:description/>
  <dc:language>en-US</dc:language>
  <cp:lastModifiedBy>Carlos Aguilera</cp:lastModifiedBy>
  <dcterms:modified xsi:type="dcterms:W3CDTF">2009-08-16T00:50:52Z</dcterms:modified>
  <cp:revision>3</cp:revision>
  <dc:subject/>
  <dc:title>PROYECTOS</dc:title>
</cp:coreProperties>
</file>