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42F-90F6-4FAB-85CB-943B68CB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DD6D-BA21-431D-889C-1C17C750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142-561C-4549-A4B5-2DCBB45C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6CE-A66C-454E-B81D-B2140782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CA6-1BDB-4131-AF80-903FA01C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E7FE-CCD1-4AE8-8C36-62236AA4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E20-75FD-4034-9F69-3CF2C8EE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C75-19D5-436E-A3B6-CD39ABBC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8A24-3B34-47AE-BC56-63A17F5A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C09-0D4D-46A2-BBE7-FE1FF75C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88F-C818-4E90-B7E4-4791EC56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E3D-69C7-4584-9DBA-1F17E789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DE0C-9CF1-4BE0-BD88-D738A1952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026560" y="6021000"/>
            <a:ext cx="66024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STO DE RE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aquel que estima el valor de un objeto o propiedad mediante la determinación del costo de fabricar o construir un objeto o una propiedad igual a la que se tasa, o al menos semejante o equivalente, tanto en calidad como en cantid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537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7305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5460" y="3794"/>
                </a:lnTo>
                <a:lnTo>
                  <a:pt x="5460" y="17806"/>
                </a:lnTo>
                <a:lnTo>
                  <a:pt x="3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el mayor precio que en el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mercado lib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staría a pagar un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comprador típic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disponiéndose de un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tiempo razon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ra encontrar dicho compr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aquel que determina el valor del inmueble de acuerdo a su capacidad para producir re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ICULTADES DE APLICAC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COSTO DE REPRODUC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VALOR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VALOR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172360" y="177336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424720" y="314172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28000" y="429264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STO DE RE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ciación (económica, física y func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onía: terreno/construcción/bar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s de programa constr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idades esté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ncias de valo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o de obra y técnicas caídas en desuso (construcciones antigu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85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ficultad para encontrar un patrón de 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racterísticas del patr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aracterísticas generales de la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specificaciones de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superf. terreno y de constr.(relación entre és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mplazamiento de la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aislada o pare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uso po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ondiciones de venta de la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ausales de v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época de la venta (actividad económ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 la vida ú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l valor res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 la tasa de inte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9636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ACTORES DE COMPARACION DE TERREN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NO ESQU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NO FRENTE A AREAS VER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IMPORTANCIA DE CA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DIMEN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UBICACIÓN EN CUL DE S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IRREGULARIDAD TOP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CONDICIONES DE 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TIEMPO TRANSCURR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EN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Valor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sto de   Re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E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ONES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sto de Reproducción,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recio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RCA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MOBIL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164000" y="3979800"/>
            <a:ext cx="608040" cy="2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777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GRAMA DEL CURS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ON  INMOBIL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.- MERCADO INMOBILI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racterísticas generales del merc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de la dema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de la ofe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ctores que afectan la valorización de lo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bienes  raí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.- EL SUELO URB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racterísticas generales de los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ímite urb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y selección de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alores empíricos de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alor máximo a cancelar por un terreno.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.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Ley de Urbanismo y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Co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Ordenanza General de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Co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Ley de Calidad de l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Constr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eptos básicos de urbanis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 volumétrico de un proyecto.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ltura óptima económica d e edific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onorarios de proyec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ARACTERISTICAS GENERALES DEL MERCADO INMOBILIA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a acumul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ANALISIS  DE  LA  DEMAN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asas de interés de largo pl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horro in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nta de los compr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olíticas de Gobi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ANALISIS  DE  LA  OFER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91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ecio de los terre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asas de interés de corto pl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pital propio de las empre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ES QUE AFECTAN EL VALOR DE LOS BIENES RA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 cicl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mento de la pob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ón de servicios públicos urb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icaciones tributarias y reglament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s y planes de desarrollo nacionales y 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449160"/>
            <a:ext cx="647640" cy="67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- CONSTR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contra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constr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miso de 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spección de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epción de o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- FINANC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nanciamiento a la dema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nanciamiento a la ofer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- ANALISIS ECONOMICO/FINANCI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econó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ámetro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de sensi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5193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7.- COMERCIALIZ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udios de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ubl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tención de ve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8.- DESARROLLOS INMOBILI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lo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vivien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ofici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turís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entros comerci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4122360"/>
            <a:ext cx="8244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69908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32720" y="6021000"/>
            <a:ext cx="1540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“tasación” es una </a:t>
            </a:r>
            <a:r>
              <a:rPr b="1" i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opinió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bre el valor de un objeto, </a:t>
            </a:r>
            <a:r>
              <a:rPr b="1" i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basada en cálculos técnico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PTO DE VA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de Mano de O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su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undancia o escas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DE REPRODUCCION O VALOR FI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DE MERCADO O METODO COMPA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4067280" y="213372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7812000" y="299736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5508720" y="458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23:22:15Z</dcterms:created>
  <dc:creator>Carlos Aguilera</dc:creator>
  <dc:description/>
  <dc:language>en-US</dc:language>
  <cp:lastModifiedBy>Carlos Aguilera</cp:lastModifiedBy>
  <dcterms:modified xsi:type="dcterms:W3CDTF">2009-08-17T16:29:14Z</dcterms:modified>
  <cp:revision>2</cp:revision>
  <dc:subject/>
  <dc:title>PROGRAMA DEL CURSO</dc:title>
</cp:coreProperties>
</file>