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92B-083E-4DC2-AED7-40A4F3AD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2C3-6B87-43FB-A94B-896CBCFF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41D-8CBB-4B96-A619-27EFB95D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1B1-3DAC-4950-8FEA-E98D5DBA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470-BBAF-4471-8E02-98AD3541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8DA-043D-42D8-86CF-6CF12FBE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CC3-80F6-430B-BD0F-39D1D730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D69-B34A-4EBC-B888-4BD738A0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38A-94B1-4B16-A999-AA8E6A48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B21-44DC-41D6-9E1C-6C28DB9B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FE8-037B-4E0D-86FA-BDC25923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88E-6267-4E4B-BA1C-2E1E21BA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4DD9-1A31-4F83-AE47-CE2511780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026560" y="6021000"/>
            <a:ext cx="6602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estima el valor de un objeto o propiedad mediante la determinación del costo de fabricar o construir un objeto o una propiedad igual a la que se tasa, o al menos semejante o equivalente, tanto en calidad como en canti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7305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5460" y="3794"/>
                </a:lnTo>
                <a:lnTo>
                  <a:pt x="5460" y="17806"/>
                </a:lnTo>
                <a:lnTo>
                  <a:pt x="3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el mayor precio que en el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mercado lib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staría a pagar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comprador típic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disponiéndose de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tiempo razon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a encontrar dicho compr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determina el valor del inmueble de acuerdo a su capacidad para producir r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ICULTADES DE APLICA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COSTO DE REPRODU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172360" y="1773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720" y="314172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28000" y="429264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ción (económica, física y fun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onía: terreno/construcción/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s de programa constr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idades esté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ias de val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 de obra y técnicas caídas en desuso (construcciones antigu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85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icultad para encontrar un patrón de 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racterísticas del patr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racterísticas generales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specificaciones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superf. terreno y de constr.(relación entre és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mplazamiento de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aislada o par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uso po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ondiciones de venta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usales de v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época de la venta (actividad económ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vida ú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l valor res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tasa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ACTORES DE COMPARACION DE TERREN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ESQU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FRENTE A AREAS VER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MPORTANCIA DE C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DIMEN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UBICACIÓN EN CUL DE S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RREGULARIDAD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CONDICIONES DE 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TIEMPO TRANSCUR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E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Valor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  Re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Reproducción,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ecio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MOBIL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164000" y="3979800"/>
            <a:ext cx="60804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777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L CURS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ON 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.- MERCADO INMOBIL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l merc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dema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ofe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ctores que afectan la valorización de 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bienes  raí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.- EL SUELO URB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 los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ímite urb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y selección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es empíricos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 máximo a cancelar por un terren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.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Urbanismo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Ordenanza General d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Calidad de 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eptos básicos de urban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 volumétrico de un proyect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ltura óptima económica d e edif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onorarios de proyec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ARACTERISTICAS GENERALES DEL MERCADO INMOBILI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a acumul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DEMAN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larg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horro in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nta de los compr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olíticas de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OFER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91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 los terre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cort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pital propio de las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ES QUE AFECTAN EL VALOR DE LOS BIENES RA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cicl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mento de la 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ón de servicios públicos urb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caciones tributarias y reglament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s y planes de desarrollo nacionales y 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449160"/>
            <a:ext cx="64764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STR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contra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constr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miso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spec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epción de o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of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ANALISIS ECONOMICO/FINANCI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econó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ámetr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de sen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5193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7.- COMERCIAL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udio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bl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ención de ve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8.- DESARROLLOS INMOBIL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lo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vivien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ofici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turís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ntros comerci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4122360"/>
            <a:ext cx="824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69908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32720" y="6021000"/>
            <a:ext cx="1540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“tasación” es una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opinió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bre el valor de un objeto,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basada en cálculos técnico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O DE VA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Mano de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su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ndancia o escas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REPRODUCCION O VALOR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MERCADO O METODO COMPA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4067280" y="213372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7812000" y="2997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5508720" y="458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23:22:15Z</dcterms:created>
  <dc:creator>Carlos Aguilera</dc:creator>
  <dc:description/>
  <dc:language>en-US</dc:language>
  <cp:lastModifiedBy>Carlos Aguilera</cp:lastModifiedBy>
  <dcterms:modified xsi:type="dcterms:W3CDTF">2009-08-17T16:29:14Z</dcterms:modified>
  <cp:revision>2</cp:revision>
  <dc:subject/>
  <dc:title>PROGRAMA DEL CURSO</dc:title>
</cp:coreProperties>
</file>