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8CF-AE08-4AFE-9D54-DB0B0E85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0C0-8FC2-4126-BE9D-02878D13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D42-4A76-4D94-A69F-986E7F9A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6C1-F762-4D8D-90BB-F05F29DE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716-EFA2-4424-9D06-FB1043BD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E66-FFBB-42FA-86B3-5CEC42A7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212-99AD-45D0-9B02-5A2663EF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30E-FBD3-493E-B386-6E75394A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56A-C11D-4B71-A9B8-D90588C9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ED2-F75B-4AFE-BB43-BFA61FE0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D09-E5D0-4A2E-B9A8-02A1590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595-F628-4932-A9E1-44CCC746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A63C-6335-43AD-94F4-4B4051349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026560" y="6021000"/>
            <a:ext cx="6602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estima el valor de un objeto o propiedad mediante la determinación del costo de fabricar o construir un objeto o una propiedad igual a la que se tasa, o al menos semejante o equivalente, tanto en calidad como en cant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537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7305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5460" y="3794"/>
                </a:lnTo>
                <a:lnTo>
                  <a:pt x="5460" y="17806"/>
                </a:lnTo>
                <a:lnTo>
                  <a:pt x="37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el mayor precio que en el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mercado lib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staría a pagar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comprador típi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disponiéndose de un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tiempo razon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a encontrar dicho compr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aquel que determina el valor del inmueble de acuerdo a su capacidad para producir r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FICULTADES DE APLICA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COSTO DE REPRODU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ODO DEL 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172360" y="1773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24720" y="314172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28000" y="429264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STO DE REPRODUC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ción (económica, física y fun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onía: terreno/construcción/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s de programa constr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idades esté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cias de val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 de obra y técnicas caídas en desuso (construcciones antigu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85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icultad para encontrar un patrón de 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racterísticas del patr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racterísticas generales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specificacion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superf. terreno y de constr.(relación entre és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emplazamiento de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aislada o pare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uso po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ondiciones de venta de la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causales de v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- época de la venta (actividad económ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vida ú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l valor res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ción de la tasa de inte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ACTORES DE COMPARACION DE TERREN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ESQU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NO FRENTE A AREAS VER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MPORTANCIA DE CA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DIMEN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UBICACIÓN EN CUL DE S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IRREGULARIDAD TOP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CONDICIONES DE V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TIEMPO TRANSCURR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EN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Valor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  Re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ONES: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sto de Reproducción,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eci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MOBIL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164000" y="3979800"/>
            <a:ext cx="60804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777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L CURS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ON 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.- MERCADO INMOBILI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l merc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dema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de la ofe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ctores que afectan la valorización de los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bienes  raí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.- EL SUELO URB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racterísticas generales de los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ímite urb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y selección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es empíricos de terren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lor máximo a cancelar por un terren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.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Urbanismo y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Ordenanza General d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Construc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ón a la Ley de Calidad de 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Constr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eptos básicos de urbanis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álisis  volumétrico de un proyecto.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ltura óptima económica d e edif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onorarios de proyec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ARACTERISTICAS GENERALES DEL MERCADO INMOBILI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a acumul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DEMAN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larg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horro in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nta de los compr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olíticas de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ANALISIS  DE  LA  OFER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91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 los terre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asas de interés de corto pl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pital propio de la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ES QUE AFECTAN EL VALOR DE LOS BIENES RA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cicl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mento de la 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ón de servicios públicos urb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caciones tributarias y reglament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as y planes de desarrollo nacionales y 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449160"/>
            <a:ext cx="64764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STR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contra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constr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iso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spec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cepción de ob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nanciamiento a la of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ANALISIS ECONOMICO/FINANCI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económ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ámetros econó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de 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álisis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51930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7.- COMERCIAL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udio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bl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ención de ve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8.- DESARROLLOS INMOBIL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lo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vivie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de ofici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yectos turís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entros comerci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4122360"/>
            <a:ext cx="824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69908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S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32720" y="6021000"/>
            <a:ext cx="1540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“tasación” es una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opinió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bre el valor de un objeto, </a:t>
            </a:r>
            <a:r>
              <a:rPr b="1" i="1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basada en cálculos técnico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O DE VA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Mano de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undancia o escas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DE REPRODUCCION O VALOR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MERCADO O METODO COMPA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OR D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4067280" y="213372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7812000" y="29973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3794"/>
                </a:moveTo>
                <a:lnTo>
                  <a:pt x="17812" y="10800"/>
                </a:lnTo>
                <a:lnTo>
                  <a:pt x="37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5508720" y="4581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23:22:15Z</dcterms:created>
  <dc:creator>Carlos Aguilera</dc:creator>
  <dc:description/>
  <dc:language>en-US</dc:language>
  <cp:lastModifiedBy>Carlos Aguilera</cp:lastModifiedBy>
  <dcterms:modified xsi:type="dcterms:W3CDTF">2009-08-17T16:29:14Z</dcterms:modified>
  <cp:revision>2</cp:revision>
  <dc:subject/>
  <dc:title>PROGRAMA DEL CURSO</dc:title>
</cp:coreProperties>
</file>