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132B-FB5A-4DB0-86CD-33315006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7E92-BE9C-4152-AAF5-52055A69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9D88-6291-4667-A0CC-7D18D0BA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FE84-79D9-4903-B59D-061B2093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9F52-B696-4BB4-A5F7-64042D9F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74A0-5494-48AF-B65A-046CFCE1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B38D-BFFF-41CD-A7B8-6028B415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10FD-539A-4135-8D40-BA07BA40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8764-F99A-4F9B-B3C7-9EA53EF2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A577-CF23-43B6-B962-E16094EE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EB5E-E43D-4EC5-BE06-136DB6B0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B8BD-459E-46CC-9072-3C66A05A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914E-F0E9-45BB-8D2E-5F8294167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026560" y="6021000"/>
            <a:ext cx="66024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STO DE REPRODU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 aquel que estima el valor de un objeto o propiedad mediante la determinación del costo de fabricar o construir un objeto o una propiedad igual a la que se tasa, o al menos semejante o equivalente, tanto en calidad como en cantid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08720" y="5373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7305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5460" y="3794"/>
                </a:lnTo>
                <a:lnTo>
                  <a:pt x="5460" y="17806"/>
                </a:lnTo>
                <a:lnTo>
                  <a:pt x="37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 DE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 el mayor precio que en el </a:t>
            </a: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mercado lib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staría a pagar un </a:t>
            </a: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comprador típic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disponiéndose de un </a:t>
            </a: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tiempo razonab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ara encontrar dicho compra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436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 DE R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 aquel que determina el valor del inmueble de acuerdo a su capacidad para producir ren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6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ICULTADES DE APLICAC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ODO DEL COSTO DE REPRODUC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ODO DEL VALOR DE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ODO DEL VALOR D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172360" y="177336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424720" y="314172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28000" y="429264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22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STO DE REPRODU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reciación (económica, física y func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onía: terreno/construcción/bar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cias de programa constru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lidades esté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encias de valor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o de obra y técnicas caídas en desuso (construcciones antigu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885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 DE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ficultad para encontrar un patrón de compa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racterísticas del patr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características generales de la 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especificaciones de co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superf. terreno y de constr.(relación entre és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emplazamiento de la co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aislada o pare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uso pot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condiciones de venta de la 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causales de v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época de la venta (actividad económ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 DE R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ción de la vida ú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ción del valor res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ción de la tasa de inter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9636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ACTORES DE COMPARACION DE TERREN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NO ESQU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NO FRENTE A AREAS VER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IMPORTANCIA DE CA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DIMEN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UBICACIÓN EN CUL DE S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IRREGULARIDAD TOP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CONDICIONES DE V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TIEMPO TRANSCURR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EN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Valor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CIO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sto de   Re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E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CIONES: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sto de Reproducción, 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recio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RCA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MOBILI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164000" y="3979800"/>
            <a:ext cx="608040" cy="2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777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GRAMA DEL CURSO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ESTION  INMOBIL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47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1.- MERCADO INMOBILI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racterísticas generales del merc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de la deman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de la ofer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actores que afectan la valorización de los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bienes  raí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.- EL SUELO URB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racterísticas generales de los terren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ímite urba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y selección de terren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alores empíricos de terren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alor máximo a cancelar por un terreno.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.-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ón a la Ley de Urbanismo y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Construc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ón a la Ordenanza General de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Construc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ón a la Ley de Calidad de l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Constr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ceptos básicos de urbanism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 volumétrico de un proyecto.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ltura óptima económica d e edific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onorarios de proyec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ARACTERISTICAS GENERALES DEL MERCADO INMOBILIAR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a acumula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ANALISIS  DE  LA  DEMAND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asas de interés de largo plaz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horro int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nta de los compr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olíticas de Gobi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ANALISIS  DE  LA  OFER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9152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ecio de los terre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asas de interés de corto plaz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pital propio de las empre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CTORES QUE AFECTAN EL VALOR DE LOS BIENES RA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 ciclos econó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mento de la pob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ón de servicios públicos urb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ificaciones tributarias y reglament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s y planes de desarrollo nacionales y reg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-3449160"/>
            <a:ext cx="647640" cy="67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- CONSTRUC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pos de contrato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constr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ermiso de constr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spección de o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epción de o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- FINANCI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inanciamiento a la dema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inanciamiento a la ofer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- ANALISIS ECONOMICO/FINANCI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nálisis económ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arámetros econó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nálisis de sensi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nálisis financier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51930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7.- COMERCIALIZ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udios de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ubli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tención de ve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8.- DESARROLLOS INMOBILI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de lot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de vivien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de ofici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turíst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entros comercia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-4122360"/>
            <a:ext cx="8244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699080" cy="61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S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32720" y="6021000"/>
            <a:ext cx="15408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“tasación” es una </a:t>
            </a:r>
            <a:r>
              <a:rPr b="1" i="1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opinió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obre el valor de un objeto, </a:t>
            </a:r>
            <a:r>
              <a:rPr b="1" i="1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basada en cálculos técnicos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EPTO DE VA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o de Mano de O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or su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undancia o escas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TO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O DE REPRODUCCION O VALOR FI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OR DE MERCADO O METODO COMPA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OR D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4067280" y="213372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" action="ppaction://hlinksldjump"/>
          </p:cNvPr>
          <p:cNvSpPr/>
          <p:nvPr/>
        </p:nvSpPr>
        <p:spPr>
          <a:xfrm>
            <a:off x="7812000" y="299736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3" action="ppaction://hlinksldjump"/>
          </p:cNvPr>
          <p:cNvSpPr/>
          <p:nvPr/>
        </p:nvSpPr>
        <p:spPr>
          <a:xfrm>
            <a:off x="5508720" y="4581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23:22:15Z</dcterms:created>
  <dc:creator>Carlos Aguilera</dc:creator>
  <dc:description/>
  <dc:language>en-US</dc:language>
  <cp:lastModifiedBy>Carlos Aguilera</cp:lastModifiedBy>
  <dcterms:modified xsi:type="dcterms:W3CDTF">2009-08-17T16:29:14Z</dcterms:modified>
  <cp:revision>2</cp:revision>
  <dc:subject/>
  <dc:title>PROGRAMA DEL CURSO</dc:title>
</cp:coreProperties>
</file>