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png" ContentType="image/png"/>
  <Override PartName="/ppt/media/image65.jpeg" ContentType="image/jpeg"/>
  <Override PartName="/ppt/media/image46.jpeg" ContentType="image/jpeg"/>
  <Override PartName="/ppt/media/image15.wmf" ContentType="image/x-wmf"/>
  <Override PartName="/ppt/media/image45.jpeg" ContentType="image/jpeg"/>
  <Override PartName="/ppt/media/image48.png" ContentType="image/png"/>
  <Override PartName="/ppt/media/image70.wmf" ContentType="image/x-wmf"/>
  <Override PartName="/ppt/media/image44.png" ContentType="image/png"/>
  <Override PartName="/ppt/media/image75.jpeg" ContentType="image/jpeg"/>
  <Override PartName="/ppt/media/image42.jpeg" ContentType="image/jpeg"/>
  <Override PartName="/ppt/media/image59.jpeg" ContentType="image/jpeg"/>
  <Override PartName="/ppt/media/image83.png" ContentType="image/png"/>
  <Override PartName="/ppt/media/image43.jpeg" ContentType="image/jpeg"/>
  <Override PartName="/ppt/media/image35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media/image18.wmf" ContentType="image/x-wmf"/>
  <Override PartName="/ppt/media/image50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7.wmf" ContentType="image/x-wmf"/>
  <Override PartName="/ppt/media/image69.wmf" ContentType="image/x-wmf"/>
  <Override PartName="/ppt/media/image21.jpeg" ContentType="image/jpeg"/>
  <Override PartName="/ppt/media/image22.wmf" ContentType="image/x-wmf"/>
  <Override PartName="/ppt/media/image60.jpeg" ContentType="image/jpeg"/>
  <Override PartName="/ppt/media/image64.png" ContentType="image/png"/>
  <Override PartName="/ppt/media/image61.jpeg" ContentType="image/jpeg"/>
  <Override PartName="/ppt/media/image77.png" ContentType="image/png"/>
  <Override PartName="/ppt/media/image4.jpeg" ContentType="image/jpeg"/>
  <Override PartName="/ppt/media/image40.png" ContentType="image/png"/>
  <Override PartName="/ppt/media/image58.jpeg" ContentType="image/jpeg"/>
  <Override PartName="/ppt/media/image73.png" ContentType="image/png"/>
  <Override PartName="/ppt/media/image19.wmf" ContentType="image/x-wmf"/>
  <Override PartName="/ppt/media/image67.jpeg" ContentType="image/jpeg"/>
  <Override PartName="/ppt/media/image5.jpeg" ContentType="image/jpeg"/>
  <Override PartName="/ppt/media/image62.jpeg" ContentType="image/jpeg"/>
  <Override PartName="/ppt/media/image84.png" ContentType="image/png"/>
  <Override PartName="/ppt/media/image85.png" ContentType="image/png"/>
  <Override PartName="/ppt/media/image71.jpeg" ContentType="image/jpeg"/>
  <Override PartName="/ppt/media/image24.wmf" ContentType="image/x-wmf"/>
  <Override PartName="/ppt/media/image66.jpeg" ContentType="image/jpeg"/>
  <Override PartName="/ppt/media/image9.jpeg" ContentType="image/jpeg"/>
  <Override PartName="/ppt/media/image79.wmf" ContentType="image/x-wmf"/>
  <Override PartName="/ppt/media/image74.jpeg" ContentType="image/jpeg"/>
  <Override PartName="/ppt/media/image68.png" ContentType="image/png"/>
  <Override PartName="/ppt/media/image80.png" ContentType="image/png"/>
  <Override PartName="/ppt/media/image38.png" ContentType="image/png"/>
  <Override PartName="/ppt/media/image78.png" ContentType="image/png"/>
  <Override PartName="/ppt/media/image76.jpeg" ContentType="image/jpeg"/>
  <Override PartName="/ppt/media/image63.jpeg" ContentType="image/jpeg"/>
  <Override PartName="/ppt/media/image6.jpeg" ContentType="image/jpeg"/>
  <Override PartName="/ppt/media/image14.wmf" ContentType="image/x-wmf"/>
  <Override PartName="/ppt/media/image57.png" ContentType="image/png"/>
  <Override PartName="/ppt/media/image41.jpeg" ContentType="image/jpeg"/>
  <Override PartName="/ppt/media/image23.wmf" ContentType="image/x-wmf"/>
  <Override PartName="/ppt/media/image51.jpeg" ContentType="image/jpeg"/>
  <Override PartName="/ppt/media/image28.jpeg" ContentType="image/jpeg"/>
  <Override PartName="/ppt/media/image11.jpeg" ContentType="image/jpeg"/>
  <Override PartName="/ppt/media/image27.png" ContentType="image/png"/>
  <Override PartName="/ppt/media/image20.jpeg" ContentType="image/jpeg"/>
  <Override PartName="/ppt/media/image12.wmf" ContentType="image/x-wmf"/>
  <Override PartName="/ppt/media/image81.png" ContentType="image/png"/>
  <Override PartName="/ppt/media/image16.png" ContentType="image/png"/>
  <Override PartName="/ppt/media/image7.jpeg" ContentType="image/jpeg"/>
  <Override PartName="/ppt/media/image36.jpeg" ContentType="image/jpeg"/>
  <Override PartName="/ppt/media/image10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26.png" ContentType="image/png"/>
  <Override PartName="/ppt/media/image39.jpeg" ContentType="image/jpeg"/>
  <Override PartName="/ppt/media/image82.png" ContentType="image/png"/>
  <Override PartName="/ppt/media/image56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01F590-6D3A-423F-844C-51EC472FFDA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0A65A2-AAD1-4010-9D65-BBD6DA6AD63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D08373E-D45E-40C5-94C3-C510EF0EB4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630E3CD-5F71-4572-8797-ADECF07394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D05AA6C-BD8B-41B6-86CF-5A76FFD58F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02B090-C845-44B3-9D81-D8080D3328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A8CAAF-E178-483D-992B-B0FB677B5A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8EA6C99-A423-425F-B639-87C3CE06BC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402CED-E776-4A2F-B40C-E00DF1B752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111CA1-A0B2-4F87-A808-BC9200FACD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C44C7FE-AAD7-4E6E-855B-90F3F466948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799E17-937F-4449-A44F-A382F5FF739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21701F0-898D-45B5-98A1-4653AD23F8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82EB620-6029-4D6E-AE48-89E2052A0B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8871D2-F38F-46E8-8833-C45141F790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8C5537D-0B01-4C73-AEAC-8BD1529E90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1ED116-5DEA-4BDF-9BAB-4FE4B7DDBF0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6C57A4F-930C-4B32-9207-BC5F3C77B6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52C7D0-3A6B-4474-AAC6-9C534EAA09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5F9027-15D9-4A7F-BDD2-658AC5A487C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3240" y="5634720"/>
            <a:ext cx="120024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44ABB6-C362-4A0C-A263-1F698953831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6BF516-BAF9-4973-9AD4-644631209D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BE7-F671-4395-9C21-4DBBA285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A72-17B0-4BA4-BEB2-7915D109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AF5-0DCB-48F0-88B8-8A5DA377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5DD-EB1E-43A5-A89E-B6280C51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A568-3B84-4E5D-8C18-AB33950D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65F8-46F5-46B5-A4D6-A64E7EBF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F4B0-C346-448B-9216-B0B63A20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3A9E-B278-46A7-8433-1932B58E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27B8-DC72-4576-9426-C3FE874F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CA91-DC2C-4E07-A533-F08EC537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7597-7D8C-4E76-98CE-F6E642B4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990-9AAA-4915-831D-62E35D0D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7E05-02CE-4EBA-90C2-A39C9AE1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7256-5A89-4F3D-BA56-0F09D865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E9E2-4E79-4647-AEEC-8B3B91B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9588-B080-4446-8B00-AD71A704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9255-4051-454E-9641-CCD953B6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CCB-BBD1-4A1E-BAAA-9271E61A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EB3-ACD1-4E0C-AEBA-0D6D1BDC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DA8-8BD2-443E-9C91-4699F0F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4E7-2C45-43BB-B12F-9E6239DE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3FA-35A5-4366-8D85-81CBCE9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43F-6A30-4A8D-9234-5B336E1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F42-A36F-4955-88F1-1D6330C7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D04E-1D91-4127-9C8B-C1AC3FEFE8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62004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8400" y="54000"/>
            <a:ext cx="1431720" cy="290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605640" y="0"/>
            <a:ext cx="253836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7110360" y="195120"/>
            <a:ext cx="1782720" cy="13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5496-0E34-4CA7-8DF3-65FCC67E9B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5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3.jpeg"/><Relationship Id="rId4" Type="http://schemas.openxmlformats.org/officeDocument/2006/relationships/image" Target="../media/image55.jpe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jpeg"/><Relationship Id="rId13" Type="http://schemas.openxmlformats.org/officeDocument/2006/relationships/image" Target="../media/image40.pn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3429000" y="1197000"/>
            <a:ext cx="1795320" cy="131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960" y="2522520"/>
            <a:ext cx="50641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epóxica bi-componente para anclajes en diferentes materiales base como hormigón, piedra natural, grout, madera etc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cargas sísmic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Pequeños diámetros de perforac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instalado inclusive bajo agu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 la interper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14" descr=""/>
          <p:cNvPicPr/>
          <p:nvPr/>
        </p:nvPicPr>
        <p:blipFill>
          <a:blip r:embed="rId2"/>
          <a:stretch/>
        </p:blipFill>
        <p:spPr>
          <a:xfrm>
            <a:off x="5597640" y="5065560"/>
            <a:ext cx="1438200" cy="703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"/>
          <p:cNvPicPr/>
          <p:nvPr/>
        </p:nvPicPr>
        <p:blipFill>
          <a:blip r:embed="rId3"/>
          <a:stretch/>
        </p:blipFill>
        <p:spPr>
          <a:xfrm>
            <a:off x="4327560" y="525312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4"/>
          <a:stretch/>
        </p:blipFill>
        <p:spPr>
          <a:xfrm>
            <a:off x="7035840" y="476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"/>
          <p:cNvPicPr/>
          <p:nvPr/>
        </p:nvPicPr>
        <p:blipFill>
          <a:blip r:embed="rId5"/>
          <a:stretch/>
        </p:blipFill>
        <p:spPr>
          <a:xfrm>
            <a:off x="6280200" y="2833560"/>
            <a:ext cx="2394000" cy="1771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2" name="Picture 18" descr=""/>
          <p:cNvPicPr/>
          <p:nvPr/>
        </p:nvPicPr>
        <p:blipFill>
          <a:blip r:embed="rId6"/>
          <a:stretch/>
        </p:blipFill>
        <p:spPr>
          <a:xfrm>
            <a:off x="5299200" y="4764240"/>
            <a:ext cx="1574640" cy="301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6280200" y="654120"/>
            <a:ext cx="2394000" cy="201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251160" y="984240"/>
            <a:ext cx="1795680" cy="1317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5" descr=""/>
          <p:cNvPicPr/>
          <p:nvPr/>
        </p:nvPicPr>
        <p:blipFill>
          <a:blip r:embed="rId2"/>
          <a:stretch/>
        </p:blipFill>
        <p:spPr>
          <a:xfrm>
            <a:off x="5224320" y="136836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3"/>
          <a:stretch/>
        </p:blipFill>
        <p:spPr>
          <a:xfrm>
            <a:off x="7012080" y="98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4"/>
          <a:stretch/>
        </p:blipFill>
        <p:spPr>
          <a:xfrm>
            <a:off x="5224320" y="984240"/>
            <a:ext cx="1575000" cy="30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539720" y="251460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6" descr=""/>
          <p:cNvPicPr/>
          <p:nvPr/>
        </p:nvPicPr>
        <p:blipFill>
          <a:blip r:embed="rId1"/>
          <a:stretch/>
        </p:blipFill>
        <p:spPr>
          <a:xfrm>
            <a:off x="7186680" y="457200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"/>
          <p:cNvPicPr/>
          <p:nvPr/>
        </p:nvPicPr>
        <p:blipFill>
          <a:blip r:embed="rId2"/>
          <a:stretch/>
        </p:blipFill>
        <p:spPr>
          <a:xfrm>
            <a:off x="3206880" y="109872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"/>
          <p:cNvPicPr/>
          <p:nvPr/>
        </p:nvPicPr>
        <p:blipFill>
          <a:blip r:embed="rId3"/>
          <a:stretch/>
        </p:blipFill>
        <p:spPr>
          <a:xfrm>
            <a:off x="6632640" y="723960"/>
            <a:ext cx="1855800" cy="1523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247" name="Picture 20" descr=""/>
          <p:cNvPicPr/>
          <p:nvPr/>
        </p:nvPicPr>
        <p:blipFill>
          <a:blip r:embed="rId4"/>
          <a:stretch/>
        </p:blipFill>
        <p:spPr>
          <a:xfrm>
            <a:off x="6694560" y="2514600"/>
            <a:ext cx="185400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8" name="Picture 21" descr=""/>
          <p:cNvPicPr/>
          <p:nvPr/>
        </p:nvPicPr>
        <p:blipFill>
          <a:blip r:embed="rId5"/>
          <a:stretch/>
        </p:blipFill>
        <p:spPr>
          <a:xfrm>
            <a:off x="6122880" y="5156280"/>
            <a:ext cx="1500120" cy="647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"/>
          <p:cNvPicPr/>
          <p:nvPr/>
        </p:nvPicPr>
        <p:blipFill>
          <a:blip r:embed="rId6"/>
          <a:stretch/>
        </p:blipFill>
        <p:spPr>
          <a:xfrm>
            <a:off x="4518000" y="5270400"/>
            <a:ext cx="1560600" cy="384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3" descr=""/>
          <p:cNvPicPr/>
          <p:nvPr/>
        </p:nvPicPr>
        <p:blipFill>
          <a:blip r:embed="rId7"/>
          <a:stretch/>
        </p:blipFill>
        <p:spPr>
          <a:xfrm>
            <a:off x="5299200" y="476244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8960" y="2281320"/>
            <a:ext cx="5064120" cy="38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Hibrida (metacrilato-cemento) bi-componente para anclajes en diferentes materiales base como hormigón, piedra natural y grou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temperatura (soldadura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6" descr=""/>
          <p:cNvPicPr/>
          <p:nvPr/>
        </p:nvPicPr>
        <p:blipFill>
          <a:blip r:embed="rId1"/>
          <a:stretch/>
        </p:blipFill>
        <p:spPr>
          <a:xfrm>
            <a:off x="7099200" y="88596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"/>
          <p:cNvPicPr/>
          <p:nvPr/>
        </p:nvPicPr>
        <p:blipFill>
          <a:blip r:embed="rId2"/>
          <a:stretch/>
        </p:blipFill>
        <p:spPr>
          <a:xfrm>
            <a:off x="3206880" y="88596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" descr=""/>
          <p:cNvPicPr/>
          <p:nvPr/>
        </p:nvPicPr>
        <p:blipFill>
          <a:blip r:embed="rId3"/>
          <a:stretch/>
        </p:blipFill>
        <p:spPr>
          <a:xfrm>
            <a:off x="5291280" y="1450800"/>
            <a:ext cx="1560240" cy="384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"/>
          <p:cNvPicPr/>
          <p:nvPr/>
        </p:nvPicPr>
        <p:blipFill>
          <a:blip r:embed="rId4"/>
          <a:stretch/>
        </p:blipFill>
        <p:spPr>
          <a:xfrm>
            <a:off x="5291280" y="102060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525680" y="2298600"/>
            <a:ext cx="5573520" cy="417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Object 16" descr=""/>
          <p:cNvPicPr/>
          <p:nvPr/>
        </p:nvPicPr>
        <p:blipFill>
          <a:blip r:embed="rId1"/>
          <a:stretch/>
        </p:blipFill>
        <p:spPr>
          <a:xfrm>
            <a:off x="2679840" y="98280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"/>
          <p:cNvPicPr/>
          <p:nvPr/>
        </p:nvPicPr>
        <p:blipFill>
          <a:blip r:embed="rId2"/>
          <a:stretch/>
        </p:blipFill>
        <p:spPr>
          <a:xfrm>
            <a:off x="6566040" y="2813040"/>
            <a:ext cx="2157120" cy="311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"/>
          <p:cNvPicPr/>
          <p:nvPr/>
        </p:nvPicPr>
        <p:blipFill>
          <a:blip r:embed="rId3"/>
          <a:stretch/>
        </p:blipFill>
        <p:spPr>
          <a:xfrm>
            <a:off x="6238800" y="774720"/>
            <a:ext cx="2484360" cy="1866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extra-fuerte, especialmente diseñado para cargas dinámicas y pes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traordinari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, vibratorias e impac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isa metálica que otorga capacidad al corte adicion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propiado para ser instalado en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hormigón fisura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Fuerza de expansión controlad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Object 16" descr=""/>
          <p:cNvPicPr/>
          <p:nvPr/>
        </p:nvPicPr>
        <p:blipFill>
          <a:blip r:embed="rId1"/>
          <a:stretch/>
        </p:blipFill>
        <p:spPr>
          <a:xfrm>
            <a:off x="6578640" y="65412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879560" y="2359080"/>
            <a:ext cx="5168880" cy="387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13446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KB -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10200" y="654120"/>
            <a:ext cx="2637000" cy="175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022800" y="2505240"/>
            <a:ext cx="2637000" cy="177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8" name="Picture 17" descr=""/>
          <p:cNvPicPr/>
          <p:nvPr/>
        </p:nvPicPr>
        <p:blipFill>
          <a:blip r:embed="rId3"/>
          <a:stretch/>
        </p:blipFill>
        <p:spPr>
          <a:xfrm>
            <a:off x="6022800" y="4359240"/>
            <a:ext cx="2637000" cy="17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18" descr=""/>
          <p:cNvPicPr/>
          <p:nvPr/>
        </p:nvPicPr>
        <p:blipFill>
          <a:blip r:embed="rId4"/>
          <a:stretch/>
        </p:blipFill>
        <p:spPr>
          <a:xfrm>
            <a:off x="2171880" y="1336680"/>
            <a:ext cx="2779560" cy="611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de una sola cuña que actúa como tres independientes que proporcionas resistencias medianas a fuertes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instalado en agujeros sin fon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ntificación de longitud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 rendimiento en perforaciones diamant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4943520" y="1643040"/>
            <a:ext cx="99072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7960" y="13572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6" descr=""/>
          <p:cNvPicPr/>
          <p:nvPr/>
        </p:nvPicPr>
        <p:blipFill>
          <a:blip r:embed="rId1"/>
          <a:stretch/>
        </p:blipFill>
        <p:spPr>
          <a:xfrm>
            <a:off x="2162160" y="1028880"/>
            <a:ext cx="1851120" cy="1315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2"/>
          <a:stretch/>
        </p:blipFill>
        <p:spPr>
          <a:xfrm>
            <a:off x="5921280" y="679320"/>
            <a:ext cx="2818080" cy="1616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"/>
          <p:cNvPicPr/>
          <p:nvPr/>
        </p:nvPicPr>
        <p:blipFill>
          <a:blip r:embed="rId3"/>
          <a:stretch/>
        </p:blipFill>
        <p:spPr>
          <a:xfrm>
            <a:off x="5921280" y="2535120"/>
            <a:ext cx="2808360" cy="16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318960" y="2484360"/>
            <a:ext cx="58183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rosca interna con cono de expansión para ser instalado en hormigó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dad de carga median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oca profundidad de empotramien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alación al ras para insertar varillas rosc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al para instalaciones repetitiv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191120" y="1357200"/>
            <a:ext cx="1092240" cy="652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5921280" y="4395960"/>
            <a:ext cx="280836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76600" y="41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981000"/>
            <a:ext cx="79250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EORIA DE DISEÑO DE ANCL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19280" y="2133720"/>
            <a:ext cx="38559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03440" y="83664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¿Qué es un Ancla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Object 19" descr=""/>
          <p:cNvPicPr/>
          <p:nvPr/>
        </p:nvPicPr>
        <p:blipFill>
          <a:blip r:embed="rId1"/>
          <a:stretch/>
        </p:blipFill>
        <p:spPr>
          <a:xfrm>
            <a:off x="3809880" y="1100160"/>
            <a:ext cx="1524240" cy="465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79532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anclaje es un elemento estructural que tiene la propiedad de fijar un material a otro que hace las veces de 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1814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3526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905120"/>
            <a:ext cx="1523880" cy="152280"/>
          </a:xfrm>
          <a:prstGeom prst="leftArrow">
            <a:avLst>
              <a:gd name="adj1" fmla="val 50000"/>
              <a:gd name="adj2" fmla="val 25017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1600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a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124080"/>
            <a:ext cx="990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029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9120" y="6164280"/>
            <a:ext cx="38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s de funcionamiento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01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diseño tradicional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00" y="5448240"/>
            <a:ext cx="8013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rmAutofit fontScale="94000"/>
          </a:bodyPr>
          <a:p>
            <a:pPr lvl="1" marL="17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lmente, los datos obtenidos por los anclajes HILTI, se ajustan a la norma ETAG (anexo C) y el ACI 318 (apéndice D) para CC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9240" y="2115360"/>
            <a:ext cx="12337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todo Clá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4400" y="2115360"/>
            <a:ext cx="1649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admi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5960" y="1788120"/>
            <a:ext cx="1991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conserv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323080"/>
            <a:ext cx="31528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información del comportamiento en l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6240" y="3018960"/>
            <a:ext cx="22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Estado de arte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840" y="3758400"/>
            <a:ext cx="1838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pacidad del hormig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71000" y="3758400"/>
            <a:ext cx="1541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de ro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87320" y="3361320"/>
            <a:ext cx="20354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bastante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65000" y="4006080"/>
            <a:ext cx="25779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entre modos de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69320" y="4564440"/>
            <a:ext cx="2468160" cy="55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de coeficiente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uridad para tipo de carg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500000">
            <a:off x="4354560" y="239724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220500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0100000">
            <a:off x="4354200" y="200016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40000" y="386064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00068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100000">
            <a:off x="4551120" y="364320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500000">
            <a:off x="4551480" y="434196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7560" y="782640"/>
            <a:ext cx="763596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mplo, Condiciones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nclar soporte tipo bracket para suportación de tubería de 6”  a pilar de hormigón en planta de procesos indust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querimientos del lugar de instalación  (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eselección del anclaje adecuad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ntes de determinar mediante calculo, secciones tipo de acero y empotramientos se debe seleccionar el sistema adecuado.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3040" y="782640"/>
            <a:ext cx="67215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atos Inici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paración entre soportes  4 m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so de la tubería 50 kgf/m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lar de sección 50 x 50 c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igón H30 (4000p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38360" y="2924280"/>
            <a:ext cx="528336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80040" y="0"/>
            <a:ext cx="3063960" cy="546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170000" y="704880"/>
            <a:ext cx="6856560" cy="545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489560" y="2529000"/>
            <a:ext cx="758880" cy="569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89560" y="1725120"/>
            <a:ext cx="0" cy="70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32160" y="1389240"/>
            <a:ext cx="157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, 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= 103,5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14800" y="2427120"/>
            <a:ext cx="1590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T,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= 287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5120" y="754200"/>
            <a:ext cx="68626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lección anclaje adecu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bemos seleccionar un anclaje según la condición requer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424480" y="3679920"/>
            <a:ext cx="3429000" cy="2535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573200" y="4167360"/>
            <a:ext cx="3075120" cy="2047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030480" y="365760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STEMA H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676440"/>
            <a:ext cx="65898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propone analizar para un anclaje del ti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VU + HAS – E Estandar 3/8” x 6.1/2” (EMP = 5 ¼”)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ADH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98480" y="3419640"/>
            <a:ext cx="0" cy="40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79440" y="2252520"/>
            <a:ext cx="7912080" cy="4038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801720" y="4395960"/>
            <a:ext cx="5052960" cy="490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epartamento de Ingenieria, Tel 6553043; 6553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773280" y="1371600"/>
            <a:ext cx="4431960" cy="2514600"/>
            <a:chOff x="773280" y="1371600"/>
            <a:chExt cx="4431960" cy="2514600"/>
          </a:xfrm>
        </p:grpSpPr>
        <p:sp>
          <p:nvSpPr>
            <p:cNvPr id="115" name=""/>
            <p:cNvSpPr/>
            <p:nvPr/>
          </p:nvSpPr>
          <p:spPr>
            <a:xfrm>
              <a:off x="773280" y="1371600"/>
              <a:ext cx="4431960" cy="2438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241280" y="1476360"/>
              <a:ext cx="3753000" cy="24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R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609480" y="4572000"/>
            <a:ext cx="1676520" cy="1416960"/>
            <a:chOff x="609480" y="4572000"/>
            <a:chExt cx="1676520" cy="14169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09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75600" y="5656680"/>
              <a:ext cx="614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KB-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2286000" y="4572000"/>
            <a:ext cx="1781280" cy="1416960"/>
            <a:chOff x="2286000" y="4572000"/>
            <a:chExt cx="1781280" cy="1416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572000"/>
              <a:ext cx="178128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755440" y="5656680"/>
              <a:ext cx="524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4038480" y="4572000"/>
            <a:ext cx="1676520" cy="1416960"/>
            <a:chOff x="4038480" y="4572000"/>
            <a:chExt cx="1676520" cy="141696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4038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68760" y="565668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562720" y="1371600"/>
            <a:ext cx="30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se transfiere al material base mediante la </a:t>
            </a:r>
            <a:r>
              <a:rPr b="0" i="1" lang="es-ES_tradnl" sz="1600" spc="-1" strike="noStrike">
                <a:solidFill>
                  <a:srgbClr val="009999"/>
                </a:solidFill>
                <a:latin typeface="Arial"/>
              </a:rPr>
              <a:t>fric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,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ara crear la fricción, se necesita una fuerza expan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19" descr=""/>
          <p:cNvPicPr/>
          <p:nvPr/>
        </p:nvPicPr>
        <p:blipFill>
          <a:blip r:embed="rId5"/>
          <a:stretch/>
        </p:blipFill>
        <p:spPr>
          <a:xfrm>
            <a:off x="6095880" y="2895480"/>
            <a:ext cx="2743200" cy="299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"/>
          <p:cNvPicPr/>
          <p:nvPr/>
        </p:nvPicPr>
        <p:blipFill>
          <a:blip r:embed="rId6"/>
          <a:stretch/>
        </p:blipFill>
        <p:spPr>
          <a:xfrm>
            <a:off x="660240" y="6458040"/>
            <a:ext cx="1387800" cy="268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73280" y="1600200"/>
            <a:ext cx="51354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9120" y="1828800"/>
            <a:ext cx="5057640" cy="1700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72200" y="1600200"/>
            <a:ext cx="2590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está en equilibrio con las fuerzas de soporte, R, que actúa sobre el material 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914400" y="4572000"/>
            <a:ext cx="1752480" cy="1528200"/>
            <a:chOff x="914400" y="4572000"/>
            <a:chExt cx="1752480" cy="15282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175248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405080" y="576792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9"/>
          <p:cNvGrpSpPr/>
          <p:nvPr/>
        </p:nvGrpSpPr>
        <p:grpSpPr>
          <a:xfrm>
            <a:off x="4419720" y="4495680"/>
            <a:ext cx="1676160" cy="1521720"/>
            <a:chOff x="4419720" y="4495680"/>
            <a:chExt cx="1676160" cy="152172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419720" y="4495680"/>
              <a:ext cx="167616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71440" y="568512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IT HY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7328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880" y="87624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Área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bject 14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00200" cy="1077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76720" y="5715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Object 16" descr=""/>
          <p:cNvPicPr/>
          <p:nvPr/>
        </p:nvPicPr>
        <p:blipFill>
          <a:blip r:embed="rId5"/>
          <a:stretch/>
        </p:blipFill>
        <p:spPr>
          <a:xfrm>
            <a:off x="6324480" y="3200400"/>
            <a:ext cx="26528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73280" y="1447920"/>
            <a:ext cx="492408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447920"/>
            <a:ext cx="2602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roduce una unión adhesiva entre la varilla o barra reforzada y el adhesivo y entre el adhesivo y el material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357640" y="4495680"/>
            <a:ext cx="1833480" cy="1538640"/>
            <a:chOff x="2357640" y="4495680"/>
            <a:chExt cx="1833480" cy="15386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503440" y="4624560"/>
              <a:ext cx="16398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432160" y="4495680"/>
              <a:ext cx="175896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2160" y="5715000"/>
              <a:ext cx="175896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7640" y="5732280"/>
              <a:ext cx="1833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IT RE 500 + Bar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1447920" cy="1067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5715000"/>
            <a:ext cx="152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VU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3280" y="430848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84240" y="1752480"/>
            <a:ext cx="473724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4"/>
          <a:stretch/>
        </p:blipFill>
        <p:spPr>
          <a:xfrm>
            <a:off x="4267080" y="4724280"/>
            <a:ext cx="1393920" cy="1046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7080" y="5715000"/>
            <a:ext cx="2210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IT HY 150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Adh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Object 17" descr=""/>
          <p:cNvPicPr/>
          <p:nvPr/>
        </p:nvPicPr>
        <p:blipFill>
          <a:blip r:embed="rId5"/>
          <a:stretch/>
        </p:blipFill>
        <p:spPr>
          <a:xfrm>
            <a:off x="6019920" y="2971800"/>
            <a:ext cx="2895480" cy="2997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3280" y="603396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ormas de falla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osibles formas de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02920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Hormig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o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bject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650000" cy="374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952880"/>
            <a:ext cx="1905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rte de la bar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952880"/>
            <a:ext cx="19047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acer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95288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hormigó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9200" y="6019920"/>
            <a:ext cx="274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Gama de Anclajes Hilti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8" descr=""/>
          <p:cNvPicPr/>
          <p:nvPr/>
        </p:nvPicPr>
        <p:blipFill>
          <a:blip r:embed="rId1"/>
          <a:stretch/>
        </p:blipFill>
        <p:spPr>
          <a:xfrm>
            <a:off x="7667640" y="1052640"/>
            <a:ext cx="83196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676440" cy="479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"/>
          <p:cNvPicPr/>
          <p:nvPr/>
        </p:nvPicPr>
        <p:blipFill>
          <a:blip r:embed="rId3"/>
          <a:stretch/>
        </p:blipFill>
        <p:spPr>
          <a:xfrm>
            <a:off x="4427640" y="3860640"/>
            <a:ext cx="476280" cy="366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785880" cy="51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1046160" cy="2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"/>
          <p:cNvPicPr/>
          <p:nvPr/>
        </p:nvPicPr>
        <p:blipFill>
          <a:blip r:embed="rId6"/>
          <a:stretch/>
        </p:blipFill>
        <p:spPr>
          <a:xfrm>
            <a:off x="5580000" y="1916280"/>
            <a:ext cx="1008000" cy="257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6019920"/>
            <a:ext cx="7924680" cy="228600"/>
          </a:xfrm>
          <a:prstGeom prst="rightArrow">
            <a:avLst>
              <a:gd name="adj1" fmla="val 50000"/>
              <a:gd name="adj2" fmla="val 710174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595008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360" y="990720"/>
            <a:ext cx="350640" cy="5181480"/>
          </a:xfrm>
          <a:prstGeom prst="upArrow">
            <a:avLst>
              <a:gd name="adj1" fmla="val 40833"/>
              <a:gd name="adj2" fmla="val 348085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14920" y="3756600"/>
            <a:ext cx="12067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31640" y="1038240"/>
            <a:ext cx="2948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ama de Anclajes Hi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1080" y="4149720"/>
            <a:ext cx="106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B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37"/>
          <p:cNvGrpSpPr/>
          <p:nvPr/>
        </p:nvGrpSpPr>
        <p:grpSpPr>
          <a:xfrm>
            <a:off x="5148360" y="2349360"/>
            <a:ext cx="1520640" cy="774720"/>
            <a:chOff x="5148360" y="2349360"/>
            <a:chExt cx="1520640" cy="774720"/>
          </a:xfrm>
        </p:grpSpPr>
        <p:pic>
          <p:nvPicPr>
            <p:cNvPr id="184" name="Picture 38" descr=""/>
            <p:cNvPicPr/>
            <p:nvPr/>
          </p:nvPicPr>
          <p:blipFill>
            <a:blip r:embed="rId7"/>
            <a:stretch/>
          </p:blipFill>
          <p:spPr>
            <a:xfrm>
              <a:off x="5148360" y="2349360"/>
              <a:ext cx="8190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9" descr=""/>
            <p:cNvPicPr/>
            <p:nvPr/>
          </p:nvPicPr>
          <p:blipFill>
            <a:blip r:embed="rId8"/>
            <a:stretch/>
          </p:blipFill>
          <p:spPr>
            <a:xfrm>
              <a:off x="5148360" y="2881440"/>
              <a:ext cx="99360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67360" y="2593800"/>
              <a:ext cx="701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08720" y="148428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V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1773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1341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45"/>
          <p:cNvGrpSpPr/>
          <p:nvPr/>
        </p:nvGrpSpPr>
        <p:grpSpPr>
          <a:xfrm>
            <a:off x="6227640" y="2133720"/>
            <a:ext cx="1428840" cy="782640"/>
            <a:chOff x="6227640" y="2133720"/>
            <a:chExt cx="1428840" cy="782640"/>
          </a:xfrm>
        </p:grpSpPr>
        <p:pic>
          <p:nvPicPr>
            <p:cNvPr id="191" name="Picture 46" descr=""/>
            <p:cNvPicPr/>
            <p:nvPr/>
          </p:nvPicPr>
          <p:blipFill>
            <a:blip r:embed="rId9"/>
            <a:stretch/>
          </p:blipFill>
          <p:spPr>
            <a:xfrm>
              <a:off x="6227640" y="2133720"/>
              <a:ext cx="84636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Object 47" descr=""/>
            <p:cNvPicPr/>
            <p:nvPr/>
          </p:nvPicPr>
          <p:blipFill>
            <a:blip r:embed="rId10"/>
            <a:stretch/>
          </p:blipFill>
          <p:spPr>
            <a:xfrm>
              <a:off x="6227640" y="2809800"/>
              <a:ext cx="84636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021440" y="2416320"/>
              <a:ext cx="6350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Object 50" descr=""/>
          <p:cNvPicPr/>
          <p:nvPr/>
        </p:nvPicPr>
        <p:blipFill>
          <a:blip r:embed="rId11"/>
          <a:stretch/>
        </p:blipFill>
        <p:spPr>
          <a:xfrm>
            <a:off x="1979640" y="4869000"/>
            <a:ext cx="790560" cy="45540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51" descr=""/>
          <p:cNvPicPr/>
          <p:nvPr/>
        </p:nvPicPr>
        <p:blipFill>
          <a:blip r:embed="rId12"/>
          <a:stretch/>
        </p:blipFill>
        <p:spPr>
          <a:xfrm>
            <a:off x="1476360" y="5013360"/>
            <a:ext cx="533520" cy="385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80000" y="3284640"/>
            <a:ext cx="833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B-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2276640"/>
            <a:ext cx="1008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299736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-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364500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7" descr=""/>
          <p:cNvPicPr/>
          <p:nvPr/>
        </p:nvPicPr>
        <p:blipFill>
          <a:blip r:embed="rId13"/>
          <a:stretch/>
        </p:blipFill>
        <p:spPr>
          <a:xfrm>
            <a:off x="971640" y="5516640"/>
            <a:ext cx="436320" cy="50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8" descr=""/>
          <p:cNvPicPr/>
          <p:nvPr/>
        </p:nvPicPr>
        <p:blipFill>
          <a:blip r:embed="rId14"/>
          <a:stretch/>
        </p:blipFill>
        <p:spPr>
          <a:xfrm>
            <a:off x="3851280" y="3500280"/>
            <a:ext cx="1224000" cy="27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9" descr=""/>
          <p:cNvPicPr/>
          <p:nvPr/>
        </p:nvPicPr>
        <p:blipFill>
          <a:blip r:embed="rId15"/>
          <a:stretch/>
        </p:blipFill>
        <p:spPr>
          <a:xfrm>
            <a:off x="1619280" y="5445000"/>
            <a:ext cx="798480" cy="279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411280" y="537372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gg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5805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422100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T-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3" descr=""/>
          <p:cNvPicPr/>
          <p:nvPr/>
        </p:nvPicPr>
        <p:blipFill>
          <a:blip r:embed="rId16"/>
          <a:stretch/>
        </p:blipFill>
        <p:spPr>
          <a:xfrm>
            <a:off x="3578400" y="3860640"/>
            <a:ext cx="849240" cy="387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1731960" y="5751360"/>
            <a:ext cx="679320" cy="19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60520" y="574992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A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3840" y="1204920"/>
            <a:ext cx="295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2" descr=""/>
          <p:cNvPicPr/>
          <p:nvPr/>
        </p:nvPicPr>
        <p:blipFill>
          <a:blip r:embed="rId1"/>
          <a:stretch/>
        </p:blipFill>
        <p:spPr>
          <a:xfrm>
            <a:off x="6235560" y="2822400"/>
            <a:ext cx="2487600" cy="16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4" name="Picture 23" descr=""/>
          <p:cNvPicPr/>
          <p:nvPr/>
        </p:nvPicPr>
        <p:blipFill>
          <a:blip r:embed="rId2"/>
          <a:stretch/>
        </p:blipFill>
        <p:spPr>
          <a:xfrm>
            <a:off x="6235560" y="4578480"/>
            <a:ext cx="1754280" cy="129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137280" y="712800"/>
            <a:ext cx="2662200" cy="1871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8960" y="2281320"/>
            <a:ext cx="58183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mpolla pre-dosificada Metacrilato Uretano de Vinilo (HVU) bi-componente para anclajes en diversas aplicacion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sísmicas y vibratori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os ciclo de hielo y deshiel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temperatu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3840" y="1204920"/>
            <a:ext cx="5041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6616800" y="838080"/>
            <a:ext cx="175392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12800" y="2031840"/>
            <a:ext cx="6048360" cy="439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9:56:05Z</dcterms:created>
  <dc:creator>a.wieser</dc:creator>
  <dc:description/>
  <dc:language>en-US</dc:language>
  <cp:lastModifiedBy>urraher</cp:lastModifiedBy>
  <cp:lastPrinted>2002-08-07T11:29:47Z</cp:lastPrinted>
  <dcterms:modified xsi:type="dcterms:W3CDTF">2009-08-17T21:41:11Z</dcterms:modified>
  <cp:revision>276</cp:revision>
  <dc:subject/>
  <dc:title>Kein Folientitel</dc:title>
</cp:coreProperties>
</file>