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9.png" ContentType="image/png"/>
  <Override PartName="/ppt/media/image65.jpeg" ContentType="image/jpeg"/>
  <Override PartName="/ppt/media/image46.jpeg" ContentType="image/jpeg"/>
  <Override PartName="/ppt/media/image15.wmf" ContentType="image/x-wmf"/>
  <Override PartName="/ppt/media/image45.jpeg" ContentType="image/jpeg"/>
  <Override PartName="/ppt/media/image48.png" ContentType="image/png"/>
  <Override PartName="/ppt/media/image70.wmf" ContentType="image/x-wmf"/>
  <Override PartName="/ppt/media/image44.png" ContentType="image/png"/>
  <Override PartName="/ppt/media/image75.jpeg" ContentType="image/jpeg"/>
  <Override PartName="/ppt/media/image42.jpeg" ContentType="image/jpeg"/>
  <Override PartName="/ppt/media/image59.jpeg" ContentType="image/jpeg"/>
  <Override PartName="/ppt/media/image83.png" ContentType="image/png"/>
  <Override PartName="/ppt/media/image43.jpeg" ContentType="image/jpeg"/>
  <Override PartName="/ppt/media/image35.png" ContentType="image/png"/>
  <Override PartName="/ppt/media/image37.png" ContentType="image/png"/>
  <Override PartName="/ppt/media/image34.jpeg" ContentType="image/jpeg"/>
  <Override PartName="/ppt/media/image3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media/image18.wmf" ContentType="image/x-wmf"/>
  <Override PartName="/ppt/media/image50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7.wmf" ContentType="image/x-wmf"/>
  <Override PartName="/ppt/media/image69.wmf" ContentType="image/x-wmf"/>
  <Override PartName="/ppt/media/image21.jpeg" ContentType="image/jpeg"/>
  <Override PartName="/ppt/media/image22.wmf" ContentType="image/x-wmf"/>
  <Override PartName="/ppt/media/image60.jpeg" ContentType="image/jpeg"/>
  <Override PartName="/ppt/media/image64.png" ContentType="image/png"/>
  <Override PartName="/ppt/media/image61.jpeg" ContentType="image/jpeg"/>
  <Override PartName="/ppt/media/image77.png" ContentType="image/png"/>
  <Override PartName="/ppt/media/image4.jpeg" ContentType="image/jpeg"/>
  <Override PartName="/ppt/media/image40.png" ContentType="image/png"/>
  <Override PartName="/ppt/media/image58.jpeg" ContentType="image/jpeg"/>
  <Override PartName="/ppt/media/image73.png" ContentType="image/png"/>
  <Override PartName="/ppt/media/image19.wmf" ContentType="image/x-wmf"/>
  <Override PartName="/ppt/media/image67.jpeg" ContentType="image/jpeg"/>
  <Override PartName="/ppt/media/image5.jpeg" ContentType="image/jpeg"/>
  <Override PartName="/ppt/media/image62.jpeg" ContentType="image/jpeg"/>
  <Override PartName="/ppt/media/image84.png" ContentType="image/png"/>
  <Override PartName="/ppt/media/image85.png" ContentType="image/png"/>
  <Override PartName="/ppt/media/image71.jpeg" ContentType="image/jpeg"/>
  <Override PartName="/ppt/media/image24.wmf" ContentType="image/x-wmf"/>
  <Override PartName="/ppt/media/image66.jpeg" ContentType="image/jpeg"/>
  <Override PartName="/ppt/media/image9.jpeg" ContentType="image/jpeg"/>
  <Override PartName="/ppt/media/image79.wmf" ContentType="image/x-wmf"/>
  <Override PartName="/ppt/media/image74.jpeg" ContentType="image/jpeg"/>
  <Override PartName="/ppt/media/image68.png" ContentType="image/png"/>
  <Override PartName="/ppt/media/image80.png" ContentType="image/png"/>
  <Override PartName="/ppt/media/image38.png" ContentType="image/png"/>
  <Override PartName="/ppt/media/image78.png" ContentType="image/png"/>
  <Override PartName="/ppt/media/image76.jpeg" ContentType="image/jpeg"/>
  <Override PartName="/ppt/media/image63.jpeg" ContentType="image/jpeg"/>
  <Override PartName="/ppt/media/image6.jpeg" ContentType="image/jpeg"/>
  <Override PartName="/ppt/media/image14.wmf" ContentType="image/x-wmf"/>
  <Override PartName="/ppt/media/image57.png" ContentType="image/png"/>
  <Override PartName="/ppt/media/image41.jpeg" ContentType="image/jpeg"/>
  <Override PartName="/ppt/media/image23.wmf" ContentType="image/x-wmf"/>
  <Override PartName="/ppt/media/image51.jpeg" ContentType="image/jpeg"/>
  <Override PartName="/ppt/media/image28.jpeg" ContentType="image/jpeg"/>
  <Override PartName="/ppt/media/image11.jpeg" ContentType="image/jpeg"/>
  <Override PartName="/ppt/media/image27.png" ContentType="image/png"/>
  <Override PartName="/ppt/media/image20.jpeg" ContentType="image/jpeg"/>
  <Override PartName="/ppt/media/image12.wmf" ContentType="image/x-wmf"/>
  <Override PartName="/ppt/media/image81.png" ContentType="image/png"/>
  <Override PartName="/ppt/media/image16.png" ContentType="image/png"/>
  <Override PartName="/ppt/media/image7.jpeg" ContentType="image/jpeg"/>
  <Override PartName="/ppt/media/image36.jpeg" ContentType="image/jpeg"/>
  <Override PartName="/ppt/media/image10.png" ContentType="image/png"/>
  <Override PartName="/ppt/media/image29.jpeg" ContentType="image/jpeg"/>
  <Override PartName="/ppt/media/image1.png" ContentType="image/png"/>
  <Override PartName="/ppt/media/image52.jpeg" ContentType="image/jpeg"/>
  <Override PartName="/ppt/media/image8.jpeg" ContentType="image/jpeg"/>
  <Override PartName="/ppt/media/image26.png" ContentType="image/png"/>
  <Override PartName="/ppt/media/image39.jpeg" ContentType="image/jpeg"/>
  <Override PartName="/ppt/media/image82.png" ContentType="image/png"/>
  <Override PartName="/ppt/media/image56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6360" y="4718160"/>
            <a:ext cx="533556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FAADDB0-AEC3-4736-8EAB-43A37D65660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2545073-9B73-4B01-A4D2-96E405F7E74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887040" y="4722480"/>
            <a:ext cx="4892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09499C8-093E-4C3B-82B0-BF16B8C049E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6A93A97-D075-445D-B28F-7BA6E338F9C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E1DE127-B636-4A3A-9148-42130EC6106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405AFE5-605C-4BBD-A91F-1783ABF4C13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D44DB4E-FD5C-4D45-B1EE-DF459BBD99D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1B18851-165C-4921-9300-EF4FFD14693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16E0BFB-847E-4316-80D0-4AB07A12231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3E35628-0C71-49C5-B7D1-76BFDC1617E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0EC1701-41ED-46E5-A4A4-FB6219A0AD4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86F0463-63B5-445A-A126-45EA6245B04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87040" y="4722480"/>
            <a:ext cx="4892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91CF721-7D0C-44BF-9ECD-446437C7A6C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CA6EFC2-D846-403E-AF15-D3C7053643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0DE2605-6506-4FA8-9A1B-7721388CD68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87040" y="4722480"/>
            <a:ext cx="4892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3106E3C-E0EB-4B0E-9168-F6F9046C595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157EE05-0FF3-497C-9BDF-170F8D65ACC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180EC51-D548-4DC9-AD23-8856654DB93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40FE0C2-A27C-4D26-89F0-C53E5FBF659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6727D7E-A8E0-4F43-A42C-73E9CC994BF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03240" y="5634720"/>
            <a:ext cx="120024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CC49F63-A877-4ADF-B1CC-AAAC4EA2A3A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CF2D840-2E9E-4CE7-A447-4550E048B34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E69E-380A-4A1C-8325-AD533BE3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88E-425A-4868-BBF5-4A86769F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30C-EF4B-4CFB-BF02-7D776FF9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9A4-B2C0-4010-9E35-4FC04AD2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3EA3-2380-4269-939B-E91CE119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8C8E-FF3E-41F4-A24F-56E2C5F4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22B8-D8F8-4806-912A-B04D8968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8851-F405-4B55-9DEC-4AD6E3B9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D0A9-ABD7-4D31-99A0-B88C3518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99FB-E3ED-4B78-ACC7-07C00C71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8DFE-8216-43CC-B17D-422869A7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279-1B40-4EB9-89E2-554937C7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96BF-422F-4771-B43B-9BAD6631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63A5-8304-45EA-A431-FF4237C9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11CE-8883-4F27-8ED0-FEB7F054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406E-7BA0-458A-9F93-C6AA95B6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A873-CA14-46EC-85D6-68E99590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F2C-D9A0-4EC7-881A-204CDED8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E04-F497-4F57-9E31-6B8FEAD5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1A6-CB12-4461-A36F-2640BFCB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587-BBA9-4669-B88B-F0952C14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3EC-221B-401A-9400-DA1B3AF3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E4F2-51C8-4B2C-A9D7-83AEAC46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385-06F2-46A1-A067-D0EA7F4B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E2C3-0D0E-4906-9BA6-61EDE85A82C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620040" cy="54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8400" y="54000"/>
            <a:ext cx="1431720" cy="2905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605640" y="0"/>
            <a:ext cx="2538360" cy="54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3"/>
          <a:stretch/>
        </p:blipFill>
        <p:spPr>
          <a:xfrm>
            <a:off x="7110360" y="195120"/>
            <a:ext cx="1782720" cy="13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2C5F-C7A9-49D7-B548-858B5260315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5.jpe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3.jpeg"/><Relationship Id="rId4" Type="http://schemas.openxmlformats.org/officeDocument/2006/relationships/image" Target="../media/image55.jpe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image" Target="../media/image35.png"/><Relationship Id="rId9" Type="http://schemas.openxmlformats.org/officeDocument/2006/relationships/image" Target="../media/image36.jpe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jpeg"/><Relationship Id="rId13" Type="http://schemas.openxmlformats.org/officeDocument/2006/relationships/image" Target="../media/image40.pn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4.png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wmf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42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313200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0" y="2421000"/>
            <a:ext cx="2846520" cy="3384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5"/>
          <a:stretch/>
        </p:blipFill>
        <p:spPr>
          <a:xfrm>
            <a:off x="6084720" y="2349360"/>
            <a:ext cx="3059280" cy="114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6"/>
          <a:stretch/>
        </p:blipFill>
        <p:spPr>
          <a:xfrm>
            <a:off x="2843280" y="0"/>
            <a:ext cx="3273480" cy="335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7"/>
          <a:stretch/>
        </p:blipFill>
        <p:spPr>
          <a:xfrm>
            <a:off x="2843280" y="3284640"/>
            <a:ext cx="3271680" cy="252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769000"/>
            <a:ext cx="9144000" cy="10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0" descr=""/>
          <p:cNvPicPr/>
          <p:nvPr/>
        </p:nvPicPr>
        <p:blipFill>
          <a:blip r:embed="rId8"/>
          <a:stretch/>
        </p:blipFill>
        <p:spPr>
          <a:xfrm>
            <a:off x="609480" y="6458040"/>
            <a:ext cx="1387440" cy="268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22360" y="5883120"/>
            <a:ext cx="8578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cho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3429000" y="1197000"/>
            <a:ext cx="1795320" cy="1317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3840" y="1353960"/>
            <a:ext cx="2457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RE-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8960" y="2522520"/>
            <a:ext cx="506412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Resina epóxica bi-componente para anclajes en diferentes materiales base como hormigón, piedra natural, grout, madera etc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empeño de adherencia superio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cargas sísmicas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Pequeños diámetros de perforación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uede ser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instalado inclusive bajo agu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celente resistencia a la interper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14" descr=""/>
          <p:cNvPicPr/>
          <p:nvPr/>
        </p:nvPicPr>
        <p:blipFill>
          <a:blip r:embed="rId2"/>
          <a:stretch/>
        </p:blipFill>
        <p:spPr>
          <a:xfrm>
            <a:off x="5597640" y="5065560"/>
            <a:ext cx="1438200" cy="703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"/>
          <p:cNvPicPr/>
          <p:nvPr/>
        </p:nvPicPr>
        <p:blipFill>
          <a:blip r:embed="rId3"/>
          <a:stretch/>
        </p:blipFill>
        <p:spPr>
          <a:xfrm>
            <a:off x="4327560" y="5253120"/>
            <a:ext cx="1270080" cy="274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"/>
          <p:cNvPicPr/>
          <p:nvPr/>
        </p:nvPicPr>
        <p:blipFill>
          <a:blip r:embed="rId4"/>
          <a:stretch/>
        </p:blipFill>
        <p:spPr>
          <a:xfrm>
            <a:off x="7035840" y="4764240"/>
            <a:ext cx="1920960" cy="120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"/>
          <p:cNvPicPr/>
          <p:nvPr/>
        </p:nvPicPr>
        <p:blipFill>
          <a:blip r:embed="rId5"/>
          <a:stretch/>
        </p:blipFill>
        <p:spPr>
          <a:xfrm>
            <a:off x="6280200" y="2833560"/>
            <a:ext cx="2394000" cy="1771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2" name="Picture 18" descr=""/>
          <p:cNvPicPr/>
          <p:nvPr/>
        </p:nvPicPr>
        <p:blipFill>
          <a:blip r:embed="rId6"/>
          <a:stretch/>
        </p:blipFill>
        <p:spPr>
          <a:xfrm>
            <a:off x="5299200" y="4764240"/>
            <a:ext cx="1574640" cy="3013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6280200" y="654120"/>
            <a:ext cx="2394000" cy="201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3251160" y="984240"/>
            <a:ext cx="1795680" cy="1317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840" y="1353960"/>
            <a:ext cx="2457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RE-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5" descr=""/>
          <p:cNvPicPr/>
          <p:nvPr/>
        </p:nvPicPr>
        <p:blipFill>
          <a:blip r:embed="rId2"/>
          <a:stretch/>
        </p:blipFill>
        <p:spPr>
          <a:xfrm>
            <a:off x="5224320" y="1368360"/>
            <a:ext cx="1270080" cy="274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"/>
          <p:cNvPicPr/>
          <p:nvPr/>
        </p:nvPicPr>
        <p:blipFill>
          <a:blip r:embed="rId3"/>
          <a:stretch/>
        </p:blipFill>
        <p:spPr>
          <a:xfrm>
            <a:off x="7012080" y="984240"/>
            <a:ext cx="1920960" cy="1201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8" descr=""/>
          <p:cNvPicPr/>
          <p:nvPr/>
        </p:nvPicPr>
        <p:blipFill>
          <a:blip r:embed="rId4"/>
          <a:stretch/>
        </p:blipFill>
        <p:spPr>
          <a:xfrm>
            <a:off x="5224320" y="984240"/>
            <a:ext cx="1575000" cy="30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539720" y="2514600"/>
            <a:ext cx="5472360" cy="410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6000" y="692280"/>
            <a:ext cx="2457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HY-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16" descr=""/>
          <p:cNvPicPr/>
          <p:nvPr/>
        </p:nvPicPr>
        <p:blipFill>
          <a:blip r:embed="rId1"/>
          <a:stretch/>
        </p:blipFill>
        <p:spPr>
          <a:xfrm>
            <a:off x="7186680" y="4572000"/>
            <a:ext cx="1957320" cy="1224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" descr=""/>
          <p:cNvPicPr/>
          <p:nvPr/>
        </p:nvPicPr>
        <p:blipFill>
          <a:blip r:embed="rId2"/>
          <a:stretch/>
        </p:blipFill>
        <p:spPr>
          <a:xfrm>
            <a:off x="3206880" y="1098720"/>
            <a:ext cx="1701720" cy="1199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9" descr=""/>
          <p:cNvPicPr/>
          <p:nvPr/>
        </p:nvPicPr>
        <p:blipFill>
          <a:blip r:embed="rId3"/>
          <a:stretch/>
        </p:blipFill>
        <p:spPr>
          <a:xfrm>
            <a:off x="6632640" y="723960"/>
            <a:ext cx="1855800" cy="152388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247" name="Picture 20" descr=""/>
          <p:cNvPicPr/>
          <p:nvPr/>
        </p:nvPicPr>
        <p:blipFill>
          <a:blip r:embed="rId4"/>
          <a:stretch/>
        </p:blipFill>
        <p:spPr>
          <a:xfrm>
            <a:off x="6694560" y="2514600"/>
            <a:ext cx="1854000" cy="20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8" name="Picture 21" descr=""/>
          <p:cNvPicPr/>
          <p:nvPr/>
        </p:nvPicPr>
        <p:blipFill>
          <a:blip r:embed="rId5"/>
          <a:stretch/>
        </p:blipFill>
        <p:spPr>
          <a:xfrm>
            <a:off x="6122880" y="5156280"/>
            <a:ext cx="1500120" cy="647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2" descr=""/>
          <p:cNvPicPr/>
          <p:nvPr/>
        </p:nvPicPr>
        <p:blipFill>
          <a:blip r:embed="rId6"/>
          <a:stretch/>
        </p:blipFill>
        <p:spPr>
          <a:xfrm>
            <a:off x="4518000" y="5270400"/>
            <a:ext cx="1560600" cy="384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3" descr=""/>
          <p:cNvPicPr/>
          <p:nvPr/>
        </p:nvPicPr>
        <p:blipFill>
          <a:blip r:embed="rId7"/>
          <a:stretch/>
        </p:blipFill>
        <p:spPr>
          <a:xfrm>
            <a:off x="5299200" y="4762440"/>
            <a:ext cx="1574640" cy="3016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8960" y="2281320"/>
            <a:ext cx="5064120" cy="38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Resina Hibrida (metacrilato-cemento) bi-componente para anclajes en diferentes materiales base como hormigón, piedra natural y grout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empeño de adherencia superio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sísm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Bajo tiempo de curad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ran resistencia a la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temperatura (soldadura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ena resistencia al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ataque químico y áci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6000" y="692280"/>
            <a:ext cx="2457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HY-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6" descr=""/>
          <p:cNvPicPr/>
          <p:nvPr/>
        </p:nvPicPr>
        <p:blipFill>
          <a:blip r:embed="rId1"/>
          <a:stretch/>
        </p:blipFill>
        <p:spPr>
          <a:xfrm>
            <a:off x="7099200" y="885960"/>
            <a:ext cx="1957320" cy="1224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8" descr=""/>
          <p:cNvPicPr/>
          <p:nvPr/>
        </p:nvPicPr>
        <p:blipFill>
          <a:blip r:embed="rId2"/>
          <a:stretch/>
        </p:blipFill>
        <p:spPr>
          <a:xfrm>
            <a:off x="3206880" y="885960"/>
            <a:ext cx="1701720" cy="1199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" descr=""/>
          <p:cNvPicPr/>
          <p:nvPr/>
        </p:nvPicPr>
        <p:blipFill>
          <a:blip r:embed="rId3"/>
          <a:stretch/>
        </p:blipFill>
        <p:spPr>
          <a:xfrm>
            <a:off x="5291280" y="1450800"/>
            <a:ext cx="1560240" cy="384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3" descr=""/>
          <p:cNvPicPr/>
          <p:nvPr/>
        </p:nvPicPr>
        <p:blipFill>
          <a:blip r:embed="rId4"/>
          <a:stretch/>
        </p:blipFill>
        <p:spPr>
          <a:xfrm>
            <a:off x="5291280" y="1020600"/>
            <a:ext cx="1574640" cy="3016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525680" y="2298600"/>
            <a:ext cx="5573520" cy="417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1360" y="139536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Object 16" descr=""/>
          <p:cNvPicPr/>
          <p:nvPr/>
        </p:nvPicPr>
        <p:blipFill>
          <a:blip r:embed="rId1"/>
          <a:stretch/>
        </p:blipFill>
        <p:spPr>
          <a:xfrm>
            <a:off x="2679840" y="982800"/>
            <a:ext cx="2340000" cy="1520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0" descr=""/>
          <p:cNvPicPr/>
          <p:nvPr/>
        </p:nvPicPr>
        <p:blipFill>
          <a:blip r:embed="rId2"/>
          <a:stretch/>
        </p:blipFill>
        <p:spPr>
          <a:xfrm>
            <a:off x="6566040" y="2813040"/>
            <a:ext cx="2157120" cy="3110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1" descr=""/>
          <p:cNvPicPr/>
          <p:nvPr/>
        </p:nvPicPr>
        <p:blipFill>
          <a:blip r:embed="rId3"/>
          <a:stretch/>
        </p:blipFill>
        <p:spPr>
          <a:xfrm>
            <a:off x="6238800" y="774720"/>
            <a:ext cx="2484360" cy="18669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18960" y="2484360"/>
            <a:ext cx="581832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claje de expansión extra-fuerte, especialmente diseñado para cargas dinámicas y pesad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traordinaria capacidad de carg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sísmicas, vibratorias e impac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misa metálica que otorga capacidad al corte adicion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propiado para ser instalado en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hormigón fisura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Fuerza de expansión controlad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1360" y="139536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Object 16" descr=""/>
          <p:cNvPicPr/>
          <p:nvPr/>
        </p:nvPicPr>
        <p:blipFill>
          <a:blip r:embed="rId1"/>
          <a:stretch/>
        </p:blipFill>
        <p:spPr>
          <a:xfrm>
            <a:off x="6578640" y="654120"/>
            <a:ext cx="2340000" cy="1520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879560" y="2359080"/>
            <a:ext cx="5168880" cy="387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3840" y="134460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KB -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10200" y="654120"/>
            <a:ext cx="2637000" cy="1757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022800" y="2505240"/>
            <a:ext cx="2637000" cy="177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8" name="Picture 17" descr=""/>
          <p:cNvPicPr/>
          <p:nvPr/>
        </p:nvPicPr>
        <p:blipFill>
          <a:blip r:embed="rId3"/>
          <a:stretch/>
        </p:blipFill>
        <p:spPr>
          <a:xfrm>
            <a:off x="6022800" y="4359240"/>
            <a:ext cx="2637000" cy="171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9" name="Picture 18" descr=""/>
          <p:cNvPicPr/>
          <p:nvPr/>
        </p:nvPicPr>
        <p:blipFill>
          <a:blip r:embed="rId4"/>
          <a:stretch/>
        </p:blipFill>
        <p:spPr>
          <a:xfrm>
            <a:off x="2171880" y="1336680"/>
            <a:ext cx="2779560" cy="6112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18960" y="2484360"/>
            <a:ext cx="581832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claje de expansión de una sola cuña que actúa como tres independientes que proporcionas resistencias medianas a fuertes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ena capacidad de carg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estát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uede ser instalado en agujeros sin fon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dentificación de longitud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en rendimiento en perforaciones diamantad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4943520" y="1643040"/>
            <a:ext cx="990720" cy="100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7960" y="135720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16" descr=""/>
          <p:cNvPicPr/>
          <p:nvPr/>
        </p:nvPicPr>
        <p:blipFill>
          <a:blip r:embed="rId1"/>
          <a:stretch/>
        </p:blipFill>
        <p:spPr>
          <a:xfrm>
            <a:off x="2162160" y="1028880"/>
            <a:ext cx="1851120" cy="1315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7" descr=""/>
          <p:cNvPicPr/>
          <p:nvPr/>
        </p:nvPicPr>
        <p:blipFill>
          <a:blip r:embed="rId2"/>
          <a:stretch/>
        </p:blipFill>
        <p:spPr>
          <a:xfrm>
            <a:off x="5921280" y="679320"/>
            <a:ext cx="2818080" cy="1616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"/>
          <p:cNvPicPr/>
          <p:nvPr/>
        </p:nvPicPr>
        <p:blipFill>
          <a:blip r:embed="rId3"/>
          <a:stretch/>
        </p:blipFill>
        <p:spPr>
          <a:xfrm>
            <a:off x="5921280" y="2535120"/>
            <a:ext cx="2808360" cy="165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8" name=""/>
          <p:cNvSpPr/>
          <p:nvPr/>
        </p:nvSpPr>
        <p:spPr>
          <a:xfrm>
            <a:off x="318960" y="2484360"/>
            <a:ext cx="581832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claje de rosca interna con cono de expansión para ser instalado en hormigó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dad de carga median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estát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oca profundidad de empotramien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stalación al ras para insertar varillas roscad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deal para instalaciones repetitiv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4191120" y="1357200"/>
            <a:ext cx="1092240" cy="6526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5"/>
          <a:stretch/>
        </p:blipFill>
        <p:spPr>
          <a:xfrm>
            <a:off x="5921280" y="4395960"/>
            <a:ext cx="2808360" cy="193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822320" y="641520"/>
            <a:ext cx="4775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UMEN DE SELECCIÓN DE ANCL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73160" y="1019160"/>
            <a:ext cx="8545320" cy="566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676600" y="41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981000"/>
            <a:ext cx="79250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TEORIA DE DISEÑO DE ANCL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519280" y="2133720"/>
            <a:ext cx="38559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03440" y="836640"/>
            <a:ext cx="7034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¿Qué es un Ancla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62120" y="582768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Object 19" descr=""/>
          <p:cNvPicPr/>
          <p:nvPr/>
        </p:nvPicPr>
        <p:blipFill>
          <a:blip r:embed="rId1"/>
          <a:stretch/>
        </p:blipFill>
        <p:spPr>
          <a:xfrm>
            <a:off x="3809880" y="1100160"/>
            <a:ext cx="1524240" cy="4657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795320"/>
            <a:ext cx="259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anclaje es un elemento estructural que tiene la propiedad de fijar un material a otro que hace las veces de b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5181480"/>
            <a:ext cx="1523880" cy="152640"/>
          </a:xfrm>
          <a:prstGeom prst="leftArrow">
            <a:avLst>
              <a:gd name="adj1" fmla="val 50000"/>
              <a:gd name="adj2" fmla="val 24958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3352680"/>
            <a:ext cx="1523880" cy="152640"/>
          </a:xfrm>
          <a:prstGeom prst="leftArrow">
            <a:avLst>
              <a:gd name="adj1" fmla="val 50000"/>
              <a:gd name="adj2" fmla="val 24958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1905120"/>
            <a:ext cx="1523880" cy="152280"/>
          </a:xfrm>
          <a:prstGeom prst="leftArrow">
            <a:avLst>
              <a:gd name="adj1" fmla="val 50000"/>
              <a:gd name="adj2" fmla="val 25017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1600200"/>
            <a:ext cx="990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terial a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3124080"/>
            <a:ext cx="990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ncl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5029200"/>
            <a:ext cx="990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terial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9120" y="6164280"/>
            <a:ext cx="38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s de funcionamiento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013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diseño tradicional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0800" y="5448240"/>
            <a:ext cx="8013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rmAutofit fontScale="94000"/>
          </a:bodyPr>
          <a:p>
            <a:pPr lvl="1" marL="17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ualmente, los datos obtenidos por los anclajes HILTI, se ajustan a la norma ETAG (anexo C) y el ACI 318 (apéndice D) para CC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9240" y="2115360"/>
            <a:ext cx="12337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étodo Clás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14400" y="2115360"/>
            <a:ext cx="16498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ones admisi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25960" y="1788120"/>
            <a:ext cx="19911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sultados conserv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323080"/>
            <a:ext cx="315288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 información del comportamiento en l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6240" y="3018960"/>
            <a:ext cx="228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Estado de arte 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840" y="3758400"/>
            <a:ext cx="18388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pacidad del hormig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71000" y="3758400"/>
            <a:ext cx="15415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ones de ro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87320" y="3361320"/>
            <a:ext cx="20354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sultados bastante re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65000" y="4006080"/>
            <a:ext cx="25779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ferenciación entre modos de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69320" y="4564440"/>
            <a:ext cx="2468160" cy="55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ferenciación de coeficientes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guridad para tipo de carg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500000">
            <a:off x="4354560" y="239724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24000" y="220500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20100000">
            <a:off x="4354200" y="2000160"/>
            <a:ext cx="550800" cy="109800"/>
          </a:xfrm>
          <a:prstGeom prst="rightArrow">
            <a:avLst>
              <a:gd name="adj1" fmla="val 50000"/>
              <a:gd name="adj2" fmla="val 12541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40000" y="3860640"/>
            <a:ext cx="550800" cy="109800"/>
          </a:xfrm>
          <a:prstGeom prst="rightArrow">
            <a:avLst>
              <a:gd name="adj1" fmla="val 50000"/>
              <a:gd name="adj2" fmla="val 12541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51480" y="400068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100000">
            <a:off x="4551120" y="3643200"/>
            <a:ext cx="550800" cy="109800"/>
          </a:xfrm>
          <a:prstGeom prst="rightArrow">
            <a:avLst>
              <a:gd name="adj1" fmla="val 50000"/>
              <a:gd name="adj2" fmla="val 12541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500000">
            <a:off x="4551480" y="434196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7560" y="782640"/>
            <a:ext cx="763596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mplo, Condiciones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nclar soporte tipo bracket para suportación de tubería de 6”  a pilar de hormigón en planta de procesos industri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querimientos del lugar de instalación  (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reselección del anclaje adecuado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a vibraciones (tubería flujo a pres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cargas dinám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osible soldadura cerca de la pla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Antes de determinar mediante calculo, secciones tipo de acero y empotramientos se debe seleccionar el sistema adecuado.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3040" y="782640"/>
            <a:ext cx="67215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atos Inici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paración entre soportes  4 m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eso de la tubería 50 kgf/m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ilar de sección 50 x 50 c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migón H30 (4000p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38360" y="2924280"/>
            <a:ext cx="528336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080040" y="0"/>
            <a:ext cx="3063960" cy="546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170000" y="704880"/>
            <a:ext cx="6856560" cy="5457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489560" y="2529000"/>
            <a:ext cx="758880" cy="569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489560" y="1725120"/>
            <a:ext cx="0" cy="70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32160" y="1389240"/>
            <a:ext cx="157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CL" sz="1600" spc="-1" strike="noStrike" baseline="-25000">
                <a:solidFill>
                  <a:srgbClr val="ff0000"/>
                </a:solidFill>
                <a:latin typeface="Arial"/>
              </a:rPr>
              <a:t>, dis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= 103,5 kg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14800" y="2427120"/>
            <a:ext cx="1590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T,</a:t>
            </a:r>
            <a:r>
              <a:rPr b="1" lang="es-CL" sz="1600" spc="-1" strike="noStrike" baseline="-25000">
                <a:solidFill>
                  <a:srgbClr val="ff0000"/>
                </a:solidFill>
                <a:latin typeface="Arial"/>
              </a:rPr>
              <a:t>dis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 = 287 kg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5120" y="754200"/>
            <a:ext cx="68626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lección anclaje adecu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bemos seleccionar un anclaje según la condición requeri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a vibraciones (tubería flujo a pres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cargas dinám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osible soldadura cerca de la pla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424480" y="3679920"/>
            <a:ext cx="3429000" cy="25351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573200" y="4167360"/>
            <a:ext cx="3075120" cy="20476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030480" y="365760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ISTEMA H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9440" y="676440"/>
            <a:ext cx="658980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 propone analizar para un anclaje del tip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VU + HAS – E Estandar 3/8” x 6.1/2” (EMP = 5 ¼”)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ADH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98480" y="3419640"/>
            <a:ext cx="0" cy="40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79440" y="2252520"/>
            <a:ext cx="7912080" cy="4038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801720" y="4395960"/>
            <a:ext cx="5052960" cy="490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822320" y="641520"/>
            <a:ext cx="4775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UMEN DE SELECCIÓN DE ANCL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73160" y="1019160"/>
            <a:ext cx="8545320" cy="566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427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3132000" cy="2448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3"/>
          <a:stretch/>
        </p:blipFill>
        <p:spPr>
          <a:xfrm>
            <a:off x="0" y="2421000"/>
            <a:ext cx="2846520" cy="3384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452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5"/>
          <a:stretch/>
        </p:blipFill>
        <p:spPr>
          <a:xfrm>
            <a:off x="6084720" y="2349360"/>
            <a:ext cx="3059280" cy="1144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6"/>
          <a:stretch/>
        </p:blipFill>
        <p:spPr>
          <a:xfrm>
            <a:off x="2843280" y="0"/>
            <a:ext cx="3273480" cy="3357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7"/>
          <a:stretch/>
        </p:blipFill>
        <p:spPr>
          <a:xfrm>
            <a:off x="2843280" y="3284640"/>
            <a:ext cx="3271680" cy="25207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0" y="5769000"/>
            <a:ext cx="9144000" cy="10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10" descr=""/>
          <p:cNvPicPr/>
          <p:nvPr/>
        </p:nvPicPr>
        <p:blipFill>
          <a:blip r:embed="rId8"/>
          <a:stretch/>
        </p:blipFill>
        <p:spPr>
          <a:xfrm>
            <a:off x="609480" y="6458040"/>
            <a:ext cx="1387440" cy="268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22360" y="5883120"/>
            <a:ext cx="8578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chor Systems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Departamento de Ingenieria, Tel 6553043; 6553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773280" y="1371600"/>
            <a:ext cx="4431960" cy="2514600"/>
            <a:chOff x="773280" y="1371600"/>
            <a:chExt cx="4431960" cy="2514600"/>
          </a:xfrm>
        </p:grpSpPr>
        <p:sp>
          <p:nvSpPr>
            <p:cNvPr id="115" name=""/>
            <p:cNvSpPr/>
            <p:nvPr/>
          </p:nvSpPr>
          <p:spPr>
            <a:xfrm>
              <a:off x="773280" y="1371600"/>
              <a:ext cx="4431960" cy="24382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1241280" y="1476360"/>
              <a:ext cx="3753000" cy="24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609480" y="68580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incipios de Funcionamiento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Narrow"/>
              </a:rPr>
              <a:t>Ro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609480" y="4572000"/>
            <a:ext cx="1676520" cy="1416960"/>
            <a:chOff x="609480" y="4572000"/>
            <a:chExt cx="1676520" cy="141696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09480" y="4572000"/>
              <a:ext cx="16765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75600" y="5656680"/>
              <a:ext cx="614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KB-I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9"/>
          <p:cNvGrpSpPr/>
          <p:nvPr/>
        </p:nvGrpSpPr>
        <p:grpSpPr>
          <a:xfrm>
            <a:off x="2286000" y="4572000"/>
            <a:ext cx="1781280" cy="1416960"/>
            <a:chOff x="2286000" y="4572000"/>
            <a:chExt cx="1781280" cy="141696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2286000" y="4572000"/>
              <a:ext cx="178128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755440" y="5656680"/>
              <a:ext cx="524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2"/>
          <p:cNvGrpSpPr/>
          <p:nvPr/>
        </p:nvGrpSpPr>
        <p:grpSpPr>
          <a:xfrm>
            <a:off x="4038480" y="4572000"/>
            <a:ext cx="1676520" cy="1416960"/>
            <a:chOff x="4038480" y="4572000"/>
            <a:chExt cx="1676520" cy="141696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4038480" y="4572000"/>
              <a:ext cx="16765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568760" y="5656680"/>
              <a:ext cx="54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U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562720" y="1371600"/>
            <a:ext cx="302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La carga tensora, N, se transfiere al material base mediante la </a:t>
            </a:r>
            <a:r>
              <a:rPr b="0" i="1" lang="es-ES_tradnl" sz="1600" spc="-1" strike="noStrike">
                <a:solidFill>
                  <a:srgbClr val="009999"/>
                </a:solidFill>
                <a:latin typeface="Arial"/>
              </a:rPr>
              <a:t>fricción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, 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ara crear la fricción, se necesita una fuerza expan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114800"/>
            <a:ext cx="147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62120" y="582768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19" descr=""/>
          <p:cNvPicPr/>
          <p:nvPr/>
        </p:nvPicPr>
        <p:blipFill>
          <a:blip r:embed="rId5"/>
          <a:stretch/>
        </p:blipFill>
        <p:spPr>
          <a:xfrm>
            <a:off x="6095880" y="2895480"/>
            <a:ext cx="2743200" cy="299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"/>
          <p:cNvPicPr/>
          <p:nvPr/>
        </p:nvPicPr>
        <p:blipFill>
          <a:blip r:embed="rId6"/>
          <a:stretch/>
        </p:blipFill>
        <p:spPr>
          <a:xfrm>
            <a:off x="660240" y="6458040"/>
            <a:ext cx="1387800" cy="268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73280" y="1600200"/>
            <a:ext cx="5135400" cy="2057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89120" y="1828800"/>
            <a:ext cx="5057640" cy="1700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72200" y="1600200"/>
            <a:ext cx="2590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La carga tensora, N, está en equilibrio con las fuerzas de soporte, R, que actúa sobre el material b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914400" y="4572000"/>
            <a:ext cx="1752480" cy="1528200"/>
            <a:chOff x="914400" y="4572000"/>
            <a:chExt cx="1752480" cy="15282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914400" y="4572000"/>
              <a:ext cx="175248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405080" y="5767920"/>
              <a:ext cx="54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9"/>
          <p:cNvGrpSpPr/>
          <p:nvPr/>
        </p:nvGrpSpPr>
        <p:grpSpPr>
          <a:xfrm>
            <a:off x="4419720" y="4495680"/>
            <a:ext cx="1676160" cy="1521720"/>
            <a:chOff x="4419720" y="4495680"/>
            <a:chExt cx="1676160" cy="152172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419720" y="4495680"/>
              <a:ext cx="167616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771440" y="5685120"/>
              <a:ext cx="91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IT HY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73280" y="4114800"/>
            <a:ext cx="147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6880" y="87624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incipios de Funcionamiento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Narrow"/>
              </a:rPr>
              <a:t>Área de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Object 14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00200" cy="1077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76720" y="57150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H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Object 16" descr=""/>
          <p:cNvPicPr/>
          <p:nvPr/>
        </p:nvPicPr>
        <p:blipFill>
          <a:blip r:embed="rId5"/>
          <a:stretch/>
        </p:blipFill>
        <p:spPr>
          <a:xfrm>
            <a:off x="6324480" y="3200400"/>
            <a:ext cx="265284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73280" y="1447920"/>
            <a:ext cx="492408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1447920"/>
            <a:ext cx="26020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roduce una unión adhesiva entre la varilla o barra reforzada y el adhesivo y entre el adhesivo y el material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2357640" y="4495680"/>
            <a:ext cx="1833480" cy="1538640"/>
            <a:chOff x="2357640" y="4495680"/>
            <a:chExt cx="1833480" cy="153864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2503440" y="4624560"/>
              <a:ext cx="163980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432160" y="4495680"/>
              <a:ext cx="1758960" cy="2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2160" y="5715000"/>
              <a:ext cx="1758960" cy="2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57640" y="5732280"/>
              <a:ext cx="1833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IT RE 500 + Bar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1447920" cy="1067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8080" y="5715000"/>
            <a:ext cx="1524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VU +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3280" y="4308480"/>
            <a:ext cx="147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984240" y="1752480"/>
            <a:ext cx="4737240" cy="2057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/>
          <p:cNvPicPr/>
          <p:nvPr/>
        </p:nvPicPr>
        <p:blipFill>
          <a:blip r:embed="rId4"/>
          <a:stretch/>
        </p:blipFill>
        <p:spPr>
          <a:xfrm>
            <a:off x="4267080" y="4724280"/>
            <a:ext cx="1393920" cy="1046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67080" y="5715000"/>
            <a:ext cx="2210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IT HY 150 +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5320" y="68580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incipios de Funcionamiento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Narrow"/>
              </a:rPr>
              <a:t>Adh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Object 17" descr=""/>
          <p:cNvPicPr/>
          <p:nvPr/>
        </p:nvPicPr>
        <p:blipFill>
          <a:blip r:embed="rId5"/>
          <a:stretch/>
        </p:blipFill>
        <p:spPr>
          <a:xfrm>
            <a:off x="6019920" y="2971800"/>
            <a:ext cx="2895480" cy="2997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73280" y="6033960"/>
            <a:ext cx="7034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Formas de falla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68580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osibles formas de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029200"/>
            <a:ext cx="190512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lla del Hormig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o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62120" y="582768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Object 5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650000" cy="3743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952880"/>
            <a:ext cx="1905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rte de la bar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952880"/>
            <a:ext cx="190476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lla del Adh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con el acer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952880"/>
            <a:ext cx="190512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lla del Adh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con el hormigó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9200" y="6019920"/>
            <a:ext cx="274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Gama de Anclajes Hilti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8" descr=""/>
          <p:cNvPicPr/>
          <p:nvPr/>
        </p:nvPicPr>
        <p:blipFill>
          <a:blip r:embed="rId1"/>
          <a:stretch/>
        </p:blipFill>
        <p:spPr>
          <a:xfrm>
            <a:off x="7667640" y="1052640"/>
            <a:ext cx="831960" cy="507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9" descr=""/>
          <p:cNvPicPr/>
          <p:nvPr/>
        </p:nvPicPr>
        <p:blipFill>
          <a:blip r:embed="rId2"/>
          <a:stretch/>
        </p:blipFill>
        <p:spPr>
          <a:xfrm>
            <a:off x="6804000" y="1413000"/>
            <a:ext cx="676440" cy="479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0" descr=""/>
          <p:cNvPicPr/>
          <p:nvPr/>
        </p:nvPicPr>
        <p:blipFill>
          <a:blip r:embed="rId3"/>
          <a:stretch/>
        </p:blipFill>
        <p:spPr>
          <a:xfrm>
            <a:off x="4427640" y="3860640"/>
            <a:ext cx="476280" cy="366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"/>
          <p:cNvPicPr/>
          <p:nvPr/>
        </p:nvPicPr>
        <p:blipFill>
          <a:blip r:embed="rId4"/>
          <a:stretch/>
        </p:blipFill>
        <p:spPr>
          <a:xfrm>
            <a:off x="2771640" y="3716280"/>
            <a:ext cx="785880" cy="51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2" descr=""/>
          <p:cNvPicPr/>
          <p:nvPr/>
        </p:nvPicPr>
        <p:blipFill>
          <a:blip r:embed="rId5"/>
          <a:stretch/>
        </p:blipFill>
        <p:spPr>
          <a:xfrm>
            <a:off x="5580000" y="1700280"/>
            <a:ext cx="1046160" cy="2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"/>
          <p:cNvPicPr/>
          <p:nvPr/>
        </p:nvPicPr>
        <p:blipFill>
          <a:blip r:embed="rId6"/>
          <a:stretch/>
        </p:blipFill>
        <p:spPr>
          <a:xfrm>
            <a:off x="5580000" y="1916280"/>
            <a:ext cx="1008000" cy="257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6019920"/>
            <a:ext cx="7924680" cy="228600"/>
          </a:xfrm>
          <a:prstGeom prst="rightArrow">
            <a:avLst>
              <a:gd name="adj1" fmla="val 50000"/>
              <a:gd name="adj2" fmla="val 710174"/>
            </a:avLst>
          </a:prstGeom>
          <a:solidFill>
            <a:srgbClr val="009999">
              <a:alpha val="50000"/>
            </a:srgbClr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5950080"/>
            <a:ext cx="1371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7360" y="990720"/>
            <a:ext cx="350640" cy="5181480"/>
          </a:xfrm>
          <a:prstGeom prst="upArrow">
            <a:avLst>
              <a:gd name="adj1" fmla="val 40833"/>
              <a:gd name="adj2" fmla="val 348085"/>
            </a:avLst>
          </a:prstGeom>
          <a:solidFill>
            <a:srgbClr val="009999">
              <a:alpha val="50000"/>
            </a:srgbClr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214920" y="3756600"/>
            <a:ext cx="12067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31640" y="1038240"/>
            <a:ext cx="2948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Gama de Anclajes Hi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91080" y="4149720"/>
            <a:ext cx="1060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479736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B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37"/>
          <p:cNvGrpSpPr/>
          <p:nvPr/>
        </p:nvGrpSpPr>
        <p:grpSpPr>
          <a:xfrm>
            <a:off x="5148360" y="2349360"/>
            <a:ext cx="1520640" cy="774720"/>
            <a:chOff x="5148360" y="2349360"/>
            <a:chExt cx="1520640" cy="774720"/>
          </a:xfrm>
        </p:grpSpPr>
        <p:pic>
          <p:nvPicPr>
            <p:cNvPr id="184" name="Picture 38" descr=""/>
            <p:cNvPicPr/>
            <p:nvPr/>
          </p:nvPicPr>
          <p:blipFill>
            <a:blip r:embed="rId7"/>
            <a:stretch/>
          </p:blipFill>
          <p:spPr>
            <a:xfrm>
              <a:off x="5148360" y="2349360"/>
              <a:ext cx="81900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9" descr=""/>
            <p:cNvPicPr/>
            <p:nvPr/>
          </p:nvPicPr>
          <p:blipFill>
            <a:blip r:embed="rId8"/>
            <a:stretch/>
          </p:blipFill>
          <p:spPr>
            <a:xfrm>
              <a:off x="5148360" y="2881440"/>
              <a:ext cx="99360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967360" y="2593800"/>
              <a:ext cx="7016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508720" y="1484280"/>
            <a:ext cx="63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V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1773360"/>
            <a:ext cx="63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28000" y="1341360"/>
            <a:ext cx="63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45"/>
          <p:cNvGrpSpPr/>
          <p:nvPr/>
        </p:nvGrpSpPr>
        <p:grpSpPr>
          <a:xfrm>
            <a:off x="6227640" y="2133720"/>
            <a:ext cx="1428840" cy="782640"/>
            <a:chOff x="6227640" y="2133720"/>
            <a:chExt cx="1428840" cy="782640"/>
          </a:xfrm>
        </p:grpSpPr>
        <p:pic>
          <p:nvPicPr>
            <p:cNvPr id="191" name="Picture 46" descr=""/>
            <p:cNvPicPr/>
            <p:nvPr/>
          </p:nvPicPr>
          <p:blipFill>
            <a:blip r:embed="rId9"/>
            <a:stretch/>
          </p:blipFill>
          <p:spPr>
            <a:xfrm>
              <a:off x="6227640" y="2133720"/>
              <a:ext cx="84636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Object 47" descr=""/>
            <p:cNvPicPr/>
            <p:nvPr/>
          </p:nvPicPr>
          <p:blipFill>
            <a:blip r:embed="rId10"/>
            <a:stretch/>
          </p:blipFill>
          <p:spPr>
            <a:xfrm>
              <a:off x="6227640" y="2809800"/>
              <a:ext cx="846360" cy="1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021440" y="2416320"/>
              <a:ext cx="6350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Object 50" descr=""/>
          <p:cNvPicPr/>
          <p:nvPr/>
        </p:nvPicPr>
        <p:blipFill>
          <a:blip r:embed="rId11"/>
          <a:stretch/>
        </p:blipFill>
        <p:spPr>
          <a:xfrm>
            <a:off x="1979640" y="4869000"/>
            <a:ext cx="790560" cy="455400"/>
          </a:xfrm>
          <a:prstGeom prst="rect">
            <a:avLst/>
          </a:prstGeom>
          <a:ln w="0">
            <a:noFill/>
          </a:ln>
        </p:spPr>
      </p:pic>
      <p:pic>
        <p:nvPicPr>
          <p:cNvPr id="195" name="Object 51" descr=""/>
          <p:cNvPicPr/>
          <p:nvPr/>
        </p:nvPicPr>
        <p:blipFill>
          <a:blip r:embed="rId12"/>
          <a:stretch/>
        </p:blipFill>
        <p:spPr>
          <a:xfrm>
            <a:off x="1476360" y="5013360"/>
            <a:ext cx="533520" cy="385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780000" y="3284640"/>
            <a:ext cx="833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B-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2276640"/>
            <a:ext cx="1008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Y-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2997360"/>
            <a:ext cx="838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E-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364500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479736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7" descr=""/>
          <p:cNvPicPr/>
          <p:nvPr/>
        </p:nvPicPr>
        <p:blipFill>
          <a:blip r:embed="rId13"/>
          <a:stretch/>
        </p:blipFill>
        <p:spPr>
          <a:xfrm>
            <a:off x="971640" y="5516640"/>
            <a:ext cx="436320" cy="504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8" descr=""/>
          <p:cNvPicPr/>
          <p:nvPr/>
        </p:nvPicPr>
        <p:blipFill>
          <a:blip r:embed="rId14"/>
          <a:stretch/>
        </p:blipFill>
        <p:spPr>
          <a:xfrm>
            <a:off x="3851280" y="3500280"/>
            <a:ext cx="1224000" cy="270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9" descr=""/>
          <p:cNvPicPr/>
          <p:nvPr/>
        </p:nvPicPr>
        <p:blipFill>
          <a:blip r:embed="rId15"/>
          <a:stretch/>
        </p:blipFill>
        <p:spPr>
          <a:xfrm>
            <a:off x="1619280" y="5445000"/>
            <a:ext cx="798480" cy="279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411280" y="5373720"/>
            <a:ext cx="7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gg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580536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92360" y="4221000"/>
            <a:ext cx="7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T-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3" descr=""/>
          <p:cNvPicPr/>
          <p:nvPr/>
        </p:nvPicPr>
        <p:blipFill>
          <a:blip r:embed="rId16"/>
          <a:stretch/>
        </p:blipFill>
        <p:spPr>
          <a:xfrm>
            <a:off x="3578400" y="3860640"/>
            <a:ext cx="849240" cy="387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7"/>
          <a:stretch/>
        </p:blipFill>
        <p:spPr>
          <a:xfrm>
            <a:off x="1731960" y="5751360"/>
            <a:ext cx="679320" cy="198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60520" y="574992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A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3840" y="1204920"/>
            <a:ext cx="295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Sistema H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(HVU + 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2" descr=""/>
          <p:cNvPicPr/>
          <p:nvPr/>
        </p:nvPicPr>
        <p:blipFill>
          <a:blip r:embed="rId1"/>
          <a:stretch/>
        </p:blipFill>
        <p:spPr>
          <a:xfrm>
            <a:off x="6235560" y="2822400"/>
            <a:ext cx="2487600" cy="16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4" name="Picture 23" descr=""/>
          <p:cNvPicPr/>
          <p:nvPr/>
        </p:nvPicPr>
        <p:blipFill>
          <a:blip r:embed="rId2"/>
          <a:stretch/>
        </p:blipFill>
        <p:spPr>
          <a:xfrm>
            <a:off x="6235560" y="4578480"/>
            <a:ext cx="1754280" cy="1296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137280" y="712800"/>
            <a:ext cx="2662200" cy="1871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8960" y="2281320"/>
            <a:ext cx="58183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mpolla pre-dosificada Metacrilato Uretano de Vinilo (HVU) bi-componente para anclajes en diversas aplicacion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empeño de adherencia superio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sísmicas y vibratorias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Bajo tiempo de curad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ran resistencia a los ciclo de hielo y deshiel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ran resistencia a la temperatur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celente resistencia al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ataque químico y ácid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3840" y="1204920"/>
            <a:ext cx="5041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Sistema HVA </a:t>
            </a: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(HVU + 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6616800" y="838080"/>
            <a:ext cx="1753920" cy="990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12800" y="2031840"/>
            <a:ext cx="6048360" cy="439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09:56:05Z</dcterms:created>
  <dc:creator>a.wieser</dc:creator>
  <dc:description/>
  <dc:language>en-US</dc:language>
  <cp:lastModifiedBy>urraher</cp:lastModifiedBy>
  <cp:lastPrinted>2002-08-07T11:29:47Z</cp:lastPrinted>
  <dcterms:modified xsi:type="dcterms:W3CDTF">2009-08-17T21:41:11Z</dcterms:modified>
  <cp:revision>276</cp:revision>
  <dc:subject/>
  <dc:title>Kein Folientitel</dc:title>
</cp:coreProperties>
</file>