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54.jpeg" ContentType="image/jpeg"/>
  <Override PartName="/ppt/media/image33.png" ContentType="image/png"/>
  <Override PartName="/ppt/media/image53.jpeg" ContentType="image/jpeg"/>
  <Override PartName="/ppt/media/image49.png" ContentType="image/png"/>
  <Override PartName="/ppt/media/image65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70.wmf" ContentType="image/x-wmf"/>
  <Override PartName="/ppt/media/image44.png" ContentType="image/png"/>
  <Override PartName="/ppt/media/image75.jpeg" ContentType="image/jpeg"/>
  <Override PartName="/ppt/media/image42.jpeg" ContentType="image/jpeg"/>
  <Override PartName="/ppt/media/image59.jpeg" ContentType="image/jpeg"/>
  <Override PartName="/ppt/media/image83.png" ContentType="image/png"/>
  <Override PartName="/ppt/media/image43.jpeg" ContentType="image/jpeg"/>
  <Override PartName="/ppt/media/image35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72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7.wmf" ContentType="image/x-wmf"/>
  <Override PartName="/ppt/media/image69.wmf" ContentType="image/x-wmf"/>
  <Override PartName="/ppt/media/image21.jpeg" ContentType="image/jpeg"/>
  <Override PartName="/ppt/media/image22.wmf" ContentType="image/x-wmf"/>
  <Override PartName="/ppt/media/image60.jpeg" ContentType="image/jpeg"/>
  <Override PartName="/ppt/media/image6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40.png" ContentType="image/png"/>
  <Override PartName="/ppt/media/image58.jpeg" ContentType="image/jpeg"/>
  <Override PartName="/ppt/media/image73.png" ContentType="image/png"/>
  <Override PartName="/ppt/media/image19.wmf" ContentType="image/x-wmf"/>
  <Override PartName="/ppt/media/image67.jpeg" ContentType="image/jpeg"/>
  <Override PartName="/ppt/media/image5.jpeg" ContentType="image/jpeg"/>
  <Override PartName="/ppt/media/image62.jpeg" ContentType="image/jpeg"/>
  <Override PartName="/ppt/media/image84.png" ContentType="image/png"/>
  <Override PartName="/ppt/media/image85.png" ContentType="image/png"/>
  <Override PartName="/ppt/media/image71.jpeg" ContentType="image/jpeg"/>
  <Override PartName="/ppt/media/image24.wmf" ContentType="image/x-wmf"/>
  <Override PartName="/ppt/media/image66.jpeg" ContentType="image/jpeg"/>
  <Override PartName="/ppt/media/image9.jpeg" ContentType="image/jpeg"/>
  <Override PartName="/ppt/media/image79.wmf" ContentType="image/x-wmf"/>
  <Override PartName="/ppt/media/image74.jpeg" ContentType="image/jpeg"/>
  <Override PartName="/ppt/media/image68.png" ContentType="image/png"/>
  <Override PartName="/ppt/media/image80.png" ContentType="image/png"/>
  <Override PartName="/ppt/media/image38.png" ContentType="image/png"/>
  <Override PartName="/ppt/media/image78.png" ContentType="image/png"/>
  <Override PartName="/ppt/media/image76.jpeg" ContentType="image/jpeg"/>
  <Override PartName="/ppt/media/image63.jpeg" ContentType="image/jpeg"/>
  <Override PartName="/ppt/media/image6.jpeg" ContentType="image/jpeg"/>
  <Override PartName="/ppt/media/image14.wmf" ContentType="image/x-wmf"/>
  <Override PartName="/ppt/media/image57.png" ContentType="image/png"/>
  <Override PartName="/ppt/media/image41.jpeg" ContentType="image/jpeg"/>
  <Override PartName="/ppt/media/image23.wmf" ContentType="image/x-wmf"/>
  <Override PartName="/ppt/media/image51.jpeg" ContentType="image/jpeg"/>
  <Override PartName="/ppt/media/image28.jpeg" ContentType="image/jpeg"/>
  <Override PartName="/ppt/media/image11.jpeg" ContentType="image/jpeg"/>
  <Override PartName="/ppt/media/image27.png" ContentType="image/png"/>
  <Override PartName="/ppt/media/image20.jpeg" ContentType="image/jpeg"/>
  <Override PartName="/ppt/media/image12.wmf" ContentType="image/x-wmf"/>
  <Override PartName="/ppt/media/image81.png" ContentType="image/png"/>
  <Override PartName="/ppt/media/image16.png" ContentType="image/png"/>
  <Override PartName="/ppt/media/image7.jpeg" ContentType="image/jpeg"/>
  <Override PartName="/ppt/media/image36.jpeg" ContentType="image/jpeg"/>
  <Override PartName="/ppt/media/image10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82.png" ContentType="image/png"/>
  <Override PartName="/ppt/media/image56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8160"/>
            <a:ext cx="533556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91C5B2-78FC-430A-8410-5D20533599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8630D1-87E7-4BA5-B710-9F471E142A4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46208E-CA42-4FC5-9403-CF01878E9B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85B3A5-3BA6-49A5-B5F4-C7A4EC770E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F317AC-C00D-455D-8F98-41E70DC910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A4A0BC-FEC4-4570-B807-F41947CF924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BD234A-AE83-48E8-941A-27C60ED056A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F159BE-6DE1-4869-A7CD-10B78142D3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271562-FA02-486F-9CE1-94BE2F6B91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901734-4670-4F13-A1A8-141C56C4C0B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AC6F5A-9B70-4D44-A927-C02E3CAAC25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F6D771-3242-4CEA-A281-A2730C2CFC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F942C8-191A-498B-BBE1-600ADC3178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459036-9366-4317-91E9-17DD31EE9B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9A1650-ADF2-4FF9-B9A2-0E421B98E7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861840" y="75096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887040" y="4722480"/>
            <a:ext cx="489276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47FEEE-DF6D-4311-9F8F-B79B0E31AD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474915-4DC7-4CC1-9308-3FB2A74BC6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54801F-926F-424D-BEB9-C999B5DEE8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FC060E-B38B-4893-9DFB-E629719ACD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2880" y="5635440"/>
            <a:ext cx="11970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DBEDE1-5E2F-444C-8F0F-51F84445A0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24000" y="870120"/>
            <a:ext cx="4221000" cy="31654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3240" y="5634720"/>
            <a:ext cx="120024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5DF85F-9BD5-483B-8E92-77ABF268EA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FC9799D-6514-46D9-8CE9-A1D74933B2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840960" y="4780080"/>
            <a:ext cx="4891320" cy="417816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mment for the prese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This is a Hilti HIT-RE 500 training.  Please note that there are  separate Hilti HIT training available - one for Hilti HIT-HY and one for rebar applications (in prepa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your convenience you will always find the presenter comments below each sl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For an effective training please bring the following alo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 fully equipped Hit MD 2000 case as well as a BD 2000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samples of the HIT-RE 500 cartridges (all sizes available) together with the special mix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- all brochures/ promo material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Times New Roman"/>
              </a:rPr>
              <a:t>Welcome to the Hilti HIT-RE 500 system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623880" y="571680"/>
            <a:ext cx="5423040" cy="406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5F8-E9AF-474B-91AC-907ED1DA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E8C-2563-410F-93DA-14154BD9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7B5-D5F6-4F62-BA8E-101DE2EE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1CE-D80A-4774-9BC1-2BB6C4FC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ECDE-497B-41AE-861B-08D75B1C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3734-5274-4EFC-8515-00DCAF4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C14C-CFD8-43AE-9AD9-C5659701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EFF9-6187-4010-A2EA-2262ADC4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93F3-BBDB-4420-B046-B3757CC9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0F06-89BB-49FC-B074-3B86F497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1FE-DC09-4638-8F53-21621A79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A0E-BD88-42AC-A799-4F2090A4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BFB6-CE65-437B-AE87-EC0757D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1E1-4223-480A-82FD-648F4147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879-0658-4285-A945-7E6522B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4275-19A6-4FFA-AF40-46301B22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781-C403-4CF7-B034-B3EF3102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71D-069C-44AC-9EFD-BA6BCBFE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2EE-15D4-491C-9654-694B922E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328-9435-444B-BD68-3BD5790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105-DD61-4DA0-AC4E-E810FBA1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ECA-3F3F-49D1-90F9-F3C7800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7F0-A466-4493-ADD2-F3C7AFA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214-156F-44DA-B1B6-E6611974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093C-3744-491D-9DAA-6033EDD967F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6620040" cy="54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8400" y="54000"/>
            <a:ext cx="1431720" cy="2905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605640" y="0"/>
            <a:ext cx="253836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3"/>
          <a:stretch/>
        </p:blipFill>
        <p:spPr>
          <a:xfrm>
            <a:off x="7110360" y="195120"/>
            <a:ext cx="1782720" cy="13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E932-E598-4034-B8D7-0E25D7BD31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5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3.jpeg"/><Relationship Id="rId4" Type="http://schemas.openxmlformats.org/officeDocument/2006/relationships/image" Target="../media/image55.jpe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jpe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jpeg"/><Relationship Id="rId13" Type="http://schemas.openxmlformats.org/officeDocument/2006/relationships/image" Target="../media/image40.pn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3429000" y="1197000"/>
            <a:ext cx="1795320" cy="1317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60" y="2522520"/>
            <a:ext cx="50641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epóxica bi-componente para anclajes en diferentes materiales base como hormigón, piedra natural, grout, madera etc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cargas sísmic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Pequeños diámetros de perforación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instalado inclusive bajo agua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 la interper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14" descr=""/>
          <p:cNvPicPr/>
          <p:nvPr/>
        </p:nvPicPr>
        <p:blipFill>
          <a:blip r:embed="rId2"/>
          <a:stretch/>
        </p:blipFill>
        <p:spPr>
          <a:xfrm>
            <a:off x="5597640" y="5065560"/>
            <a:ext cx="1438200" cy="703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"/>
          <p:cNvPicPr/>
          <p:nvPr/>
        </p:nvPicPr>
        <p:blipFill>
          <a:blip r:embed="rId3"/>
          <a:stretch/>
        </p:blipFill>
        <p:spPr>
          <a:xfrm>
            <a:off x="4327560" y="525312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4"/>
          <a:stretch/>
        </p:blipFill>
        <p:spPr>
          <a:xfrm>
            <a:off x="7035840" y="476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"/>
          <p:cNvPicPr/>
          <p:nvPr/>
        </p:nvPicPr>
        <p:blipFill>
          <a:blip r:embed="rId5"/>
          <a:stretch/>
        </p:blipFill>
        <p:spPr>
          <a:xfrm>
            <a:off x="6280200" y="2833560"/>
            <a:ext cx="2394000" cy="1771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2" name="Picture 18" descr=""/>
          <p:cNvPicPr/>
          <p:nvPr/>
        </p:nvPicPr>
        <p:blipFill>
          <a:blip r:embed="rId6"/>
          <a:stretch/>
        </p:blipFill>
        <p:spPr>
          <a:xfrm>
            <a:off x="5299200" y="4764240"/>
            <a:ext cx="1574640" cy="301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6280200" y="654120"/>
            <a:ext cx="2394000" cy="201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3251160" y="984240"/>
            <a:ext cx="1795680" cy="13176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840" y="1353960"/>
            <a:ext cx="2457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RE-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5" descr=""/>
          <p:cNvPicPr/>
          <p:nvPr/>
        </p:nvPicPr>
        <p:blipFill>
          <a:blip r:embed="rId2"/>
          <a:stretch/>
        </p:blipFill>
        <p:spPr>
          <a:xfrm>
            <a:off x="5224320" y="1368360"/>
            <a:ext cx="1270080" cy="27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"/>
          <p:cNvPicPr/>
          <p:nvPr/>
        </p:nvPicPr>
        <p:blipFill>
          <a:blip r:embed="rId3"/>
          <a:stretch/>
        </p:blipFill>
        <p:spPr>
          <a:xfrm>
            <a:off x="7012080" y="984240"/>
            <a:ext cx="1920960" cy="1201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8" descr=""/>
          <p:cNvPicPr/>
          <p:nvPr/>
        </p:nvPicPr>
        <p:blipFill>
          <a:blip r:embed="rId4"/>
          <a:stretch/>
        </p:blipFill>
        <p:spPr>
          <a:xfrm>
            <a:off x="5224320" y="984240"/>
            <a:ext cx="1575000" cy="30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539720" y="25146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16" descr=""/>
          <p:cNvPicPr/>
          <p:nvPr/>
        </p:nvPicPr>
        <p:blipFill>
          <a:blip r:embed="rId1"/>
          <a:stretch/>
        </p:blipFill>
        <p:spPr>
          <a:xfrm>
            <a:off x="7186680" y="457200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8" descr=""/>
          <p:cNvPicPr/>
          <p:nvPr/>
        </p:nvPicPr>
        <p:blipFill>
          <a:blip r:embed="rId2"/>
          <a:stretch/>
        </p:blipFill>
        <p:spPr>
          <a:xfrm>
            <a:off x="3206880" y="109872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"/>
          <p:cNvPicPr/>
          <p:nvPr/>
        </p:nvPicPr>
        <p:blipFill>
          <a:blip r:embed="rId3"/>
          <a:stretch/>
        </p:blipFill>
        <p:spPr>
          <a:xfrm>
            <a:off x="6632640" y="723960"/>
            <a:ext cx="1855800" cy="1523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6694560" y="2514600"/>
            <a:ext cx="1854000" cy="20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8" name="Picture 21" descr=""/>
          <p:cNvPicPr/>
          <p:nvPr/>
        </p:nvPicPr>
        <p:blipFill>
          <a:blip r:embed="rId5"/>
          <a:stretch/>
        </p:blipFill>
        <p:spPr>
          <a:xfrm>
            <a:off x="6122880" y="5156280"/>
            <a:ext cx="1500120" cy="6476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2" descr=""/>
          <p:cNvPicPr/>
          <p:nvPr/>
        </p:nvPicPr>
        <p:blipFill>
          <a:blip r:embed="rId6"/>
          <a:stretch/>
        </p:blipFill>
        <p:spPr>
          <a:xfrm>
            <a:off x="4518000" y="5270400"/>
            <a:ext cx="1560600" cy="3841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3" descr=""/>
          <p:cNvPicPr/>
          <p:nvPr/>
        </p:nvPicPr>
        <p:blipFill>
          <a:blip r:embed="rId7"/>
          <a:stretch/>
        </p:blipFill>
        <p:spPr>
          <a:xfrm>
            <a:off x="5299200" y="476244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8960" y="2281320"/>
            <a:ext cx="5064120" cy="38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Resina Hibrida (metacrilato-cemento) bi-componente para anclajes en diferentes materiales base como hormigón, piedra natural y grou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temperatura (soldadura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692280"/>
            <a:ext cx="245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IT HY-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6" descr=""/>
          <p:cNvPicPr/>
          <p:nvPr/>
        </p:nvPicPr>
        <p:blipFill>
          <a:blip r:embed="rId1"/>
          <a:stretch/>
        </p:blipFill>
        <p:spPr>
          <a:xfrm>
            <a:off x="7099200" y="885960"/>
            <a:ext cx="1957320" cy="1224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3206880" y="885960"/>
            <a:ext cx="1701720" cy="1199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" descr=""/>
          <p:cNvPicPr/>
          <p:nvPr/>
        </p:nvPicPr>
        <p:blipFill>
          <a:blip r:embed="rId3"/>
          <a:stretch/>
        </p:blipFill>
        <p:spPr>
          <a:xfrm>
            <a:off x="5291280" y="1450800"/>
            <a:ext cx="1560240" cy="384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" descr=""/>
          <p:cNvPicPr/>
          <p:nvPr/>
        </p:nvPicPr>
        <p:blipFill>
          <a:blip r:embed="rId4"/>
          <a:stretch/>
        </p:blipFill>
        <p:spPr>
          <a:xfrm>
            <a:off x="5291280" y="1020600"/>
            <a:ext cx="1574640" cy="301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25680" y="2298600"/>
            <a:ext cx="5573520" cy="4179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Object 16" descr=""/>
          <p:cNvPicPr/>
          <p:nvPr/>
        </p:nvPicPr>
        <p:blipFill>
          <a:blip r:embed="rId1"/>
          <a:stretch/>
        </p:blipFill>
        <p:spPr>
          <a:xfrm>
            <a:off x="2679840" y="98280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0" descr=""/>
          <p:cNvPicPr/>
          <p:nvPr/>
        </p:nvPicPr>
        <p:blipFill>
          <a:blip r:embed="rId2"/>
          <a:stretch/>
        </p:blipFill>
        <p:spPr>
          <a:xfrm>
            <a:off x="6566040" y="2813040"/>
            <a:ext cx="2157120" cy="311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1" descr=""/>
          <p:cNvPicPr/>
          <p:nvPr/>
        </p:nvPicPr>
        <p:blipFill>
          <a:blip r:embed="rId3"/>
          <a:stretch/>
        </p:blipFill>
        <p:spPr>
          <a:xfrm>
            <a:off x="6238800" y="774720"/>
            <a:ext cx="2484360" cy="18669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extra-fuerte, especialmente diseñado para cargas dinámicas y pes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traordinari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sísmicas, vibratorias e impac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misa metálica que otorga capacidad al corte adicion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propiado para ser instalado en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hormigón fisura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Fuerza de expansión controlad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1360" y="139536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Object 16" descr=""/>
          <p:cNvPicPr/>
          <p:nvPr/>
        </p:nvPicPr>
        <p:blipFill>
          <a:blip r:embed="rId1"/>
          <a:stretch/>
        </p:blipFill>
        <p:spPr>
          <a:xfrm>
            <a:off x="6578640" y="654120"/>
            <a:ext cx="2340000" cy="1520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879560" y="2359080"/>
            <a:ext cx="5168880" cy="3876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3446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KB -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10200" y="654120"/>
            <a:ext cx="2637000" cy="175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022800" y="2505240"/>
            <a:ext cx="2637000" cy="177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78" name="Picture 17" descr=""/>
          <p:cNvPicPr/>
          <p:nvPr/>
        </p:nvPicPr>
        <p:blipFill>
          <a:blip r:embed="rId3"/>
          <a:stretch/>
        </p:blipFill>
        <p:spPr>
          <a:xfrm>
            <a:off x="6022800" y="4359240"/>
            <a:ext cx="2637000" cy="171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9" name="Picture 18" descr=""/>
          <p:cNvPicPr/>
          <p:nvPr/>
        </p:nvPicPr>
        <p:blipFill>
          <a:blip r:embed="rId4"/>
          <a:stretch/>
        </p:blipFill>
        <p:spPr>
          <a:xfrm>
            <a:off x="2171880" y="1336680"/>
            <a:ext cx="2779560" cy="611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18960" y="2484360"/>
            <a:ext cx="5818320" cy="36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expansión de una sola cuña que actúa como tres independientes que proporcionas resistencias medianas a fuertes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a capacidad de carg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uede ser instalado en agujeros sin fond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ntificación de longitud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Buen rendimiento en perforaciones diamant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4943520" y="1643040"/>
            <a:ext cx="990720" cy="100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8880" y="6541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MECA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960" y="1357200"/>
            <a:ext cx="228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H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16" descr=""/>
          <p:cNvPicPr/>
          <p:nvPr/>
        </p:nvPicPr>
        <p:blipFill>
          <a:blip r:embed="rId1"/>
          <a:stretch/>
        </p:blipFill>
        <p:spPr>
          <a:xfrm>
            <a:off x="2162160" y="1028880"/>
            <a:ext cx="1851120" cy="1315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2"/>
          <a:stretch/>
        </p:blipFill>
        <p:spPr>
          <a:xfrm>
            <a:off x="5921280" y="679320"/>
            <a:ext cx="2818080" cy="1616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"/>
          <p:cNvPicPr/>
          <p:nvPr/>
        </p:nvPicPr>
        <p:blipFill>
          <a:blip r:embed="rId3"/>
          <a:stretch/>
        </p:blipFill>
        <p:spPr>
          <a:xfrm>
            <a:off x="5921280" y="2535120"/>
            <a:ext cx="2808360" cy="165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318960" y="2484360"/>
            <a:ext cx="581832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nclaje de rosca interna con cono de expansión para ser instalado en hormigó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dad de carga median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estát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Poca profundidad de empotramient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nstalación al ras para insertar varillas roscad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Ideal para instalaciones repetitiv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191120" y="1357200"/>
            <a:ext cx="1092240" cy="652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5921280" y="4395960"/>
            <a:ext cx="2808360" cy="19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676600" y="41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981000"/>
            <a:ext cx="79250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EORIA DE DISEÑO DE ANCL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519280" y="2133720"/>
            <a:ext cx="38559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3440" y="83664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¿Qué es un Ancla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Object 19" descr=""/>
          <p:cNvPicPr/>
          <p:nvPr/>
        </p:nvPicPr>
        <p:blipFill>
          <a:blip r:embed="rId1"/>
          <a:stretch/>
        </p:blipFill>
        <p:spPr>
          <a:xfrm>
            <a:off x="3809880" y="1100160"/>
            <a:ext cx="1524240" cy="4657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795320"/>
            <a:ext cx="259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 anclaje es un elemento estructural que tiene la propiedad de fijar un material a otro que hace las veces de 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1814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352680"/>
            <a:ext cx="1523880" cy="152640"/>
          </a:xfrm>
          <a:prstGeom prst="leftArrow">
            <a:avLst>
              <a:gd name="adj1" fmla="val 50000"/>
              <a:gd name="adj2" fmla="val 24958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190512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1600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a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124080"/>
            <a:ext cx="9903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c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029200"/>
            <a:ext cx="990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terial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6164280"/>
            <a:ext cx="38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s de funcionamient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013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diseño tradicional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0800" y="5448240"/>
            <a:ext cx="801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rmAutofit fontScale="94000"/>
          </a:bodyPr>
          <a:p>
            <a:pPr lvl="1" marL="17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lmente, los datos obtenidos por los anclajes HILTI, se ajustan a la norma ETAG (anexo C) y el ACI 318 (apéndice D) para CC meth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9240" y="2115360"/>
            <a:ext cx="12337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étodo Clás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14400" y="2115360"/>
            <a:ext cx="1649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admi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25960" y="1788120"/>
            <a:ext cx="19911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conserv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323080"/>
            <a:ext cx="315288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información del comportamiento en l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6240" y="3018960"/>
            <a:ext cx="22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Estado de arte 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840" y="3758400"/>
            <a:ext cx="18388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pacidad del hormig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71000" y="3758400"/>
            <a:ext cx="15415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siones de ro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7320" y="3361320"/>
            <a:ext cx="20354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ultados bastante re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65000" y="4006080"/>
            <a:ext cx="257796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entre modos de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9320" y="4564440"/>
            <a:ext cx="2468160" cy="55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iferenciación de coeficiente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uridad para tipo de carg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500000">
            <a:off x="4354560" y="239724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220500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20100000">
            <a:off x="4354200" y="200016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386064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51480" y="400068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100000">
            <a:off x="4551120" y="3643200"/>
            <a:ext cx="550800" cy="109800"/>
          </a:xfrm>
          <a:prstGeom prst="rightArrow">
            <a:avLst>
              <a:gd name="adj1" fmla="val 50000"/>
              <a:gd name="adj2" fmla="val 12541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500000">
            <a:off x="4551480" y="4341960"/>
            <a:ext cx="550800" cy="109440"/>
          </a:xfrm>
          <a:prstGeom prst="rightArrow">
            <a:avLst>
              <a:gd name="adj1" fmla="val 50000"/>
              <a:gd name="adj2" fmla="val 125822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7560" y="782640"/>
            <a:ext cx="76359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, Condiciones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nclar soporte tipo bracket para suportación de tubería de 6”  a pilar de hormigón en planta de procesos indust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querimientos del lugar de instalación  (</a:t>
            </a: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preselección del anclaje adecuado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00"/>
                </a:solidFill>
                <a:latin typeface="Arial"/>
              </a:rPr>
              <a:t>Antes de determinar mediante calculo, secciones tipo de acero y empotramientos se debe seleccionar el sistema adecuado.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3040" y="782640"/>
            <a:ext cx="6721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Inici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paración entre soportes  4 m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eso de la tubería 50 kgf/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lar de sección 50 x 50 c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igón H30 (4000p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8360" y="2924280"/>
            <a:ext cx="528336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080040" y="0"/>
            <a:ext cx="3063960" cy="546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170000" y="704880"/>
            <a:ext cx="6856560" cy="545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489560" y="2529000"/>
            <a:ext cx="758880" cy="569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4489560" y="1725120"/>
            <a:ext cx="0" cy="70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32160" y="1389240"/>
            <a:ext cx="1578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, 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= 103,5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14800" y="2427120"/>
            <a:ext cx="1590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T,</a:t>
            </a:r>
            <a:r>
              <a:rPr b="1" lang="es-CL" sz="1600" spc="-1" strike="noStrike" baseline="-25000">
                <a:solidFill>
                  <a:srgbClr val="ff0000"/>
                </a:solidFill>
                <a:latin typeface="Arial"/>
              </a:rPr>
              <a:t>dis</a:t>
            </a: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 = 287 k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754200"/>
            <a:ext cx="686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lección anclaje adecu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bemos seleccionar un anclaje según la condición requer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a vibraciones (tubería flujo a pres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istencia cargas dinámic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osible soldadura cerca de la pla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24480" y="3679920"/>
            <a:ext cx="3429000" cy="25351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73200" y="4167360"/>
            <a:ext cx="3075120" cy="20476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30480" y="3657600"/>
            <a:ext cx="30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ISTEMA H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080040" y="0"/>
            <a:ext cx="3063960" cy="434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440" y="676440"/>
            <a:ext cx="6589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propone analizar para un anclaje del tip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VU + HAS – E Estandar 3/8” x 6.1/2” (EMP = 5 ¼”)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Arial"/>
              </a:rPr>
              <a:t>ADH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8480" y="3419640"/>
            <a:ext cx="0" cy="404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79440" y="2252520"/>
            <a:ext cx="7912080" cy="40388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01720" y="4395960"/>
            <a:ext cx="5052960" cy="4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822320" y="641520"/>
            <a:ext cx="4775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SUMEN DE SELECCIÓN DE ANCL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73160" y="1019160"/>
            <a:ext cx="85453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12000" y="0"/>
            <a:ext cx="3132000" cy="2427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3132000" cy="2448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0" y="2421000"/>
            <a:ext cx="2846520" cy="3384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452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5"/>
          <a:stretch/>
        </p:blipFill>
        <p:spPr>
          <a:xfrm>
            <a:off x="6084720" y="2349360"/>
            <a:ext cx="3059280" cy="1144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2843280" y="0"/>
            <a:ext cx="3273480" cy="3357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7"/>
          <a:stretch/>
        </p:blipFill>
        <p:spPr>
          <a:xfrm>
            <a:off x="2843280" y="3284640"/>
            <a:ext cx="3271680" cy="252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5769000"/>
            <a:ext cx="9144000" cy="10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10" descr=""/>
          <p:cNvPicPr/>
          <p:nvPr/>
        </p:nvPicPr>
        <p:blipFill>
          <a:blip r:embed="rId8"/>
          <a:stretch/>
        </p:blipFill>
        <p:spPr>
          <a:xfrm>
            <a:off x="609480" y="6458040"/>
            <a:ext cx="1387440" cy="2682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22360" y="5883120"/>
            <a:ext cx="8578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chor Systems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epartamento de Ingenieria, Tel 6553043; 6553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773280" y="1371600"/>
            <a:ext cx="4431960" cy="2514600"/>
            <a:chOff x="773280" y="1371600"/>
            <a:chExt cx="4431960" cy="2514600"/>
          </a:xfrm>
        </p:grpSpPr>
        <p:sp>
          <p:nvSpPr>
            <p:cNvPr id="115" name=""/>
            <p:cNvSpPr/>
            <p:nvPr/>
          </p:nvSpPr>
          <p:spPr>
            <a:xfrm>
              <a:off x="773280" y="1371600"/>
              <a:ext cx="4431960" cy="24382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1241280" y="1476360"/>
              <a:ext cx="3753000" cy="24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R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6"/>
          <p:cNvGrpSpPr/>
          <p:nvPr/>
        </p:nvGrpSpPr>
        <p:grpSpPr>
          <a:xfrm>
            <a:off x="609480" y="4572000"/>
            <a:ext cx="1676520" cy="1416960"/>
            <a:chOff x="609480" y="4572000"/>
            <a:chExt cx="1676520" cy="141696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75600" y="5656680"/>
              <a:ext cx="614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KB-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2286000" y="4572000"/>
            <a:ext cx="1781280" cy="1416960"/>
            <a:chOff x="2286000" y="4572000"/>
            <a:chExt cx="1781280" cy="1416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572000"/>
              <a:ext cx="178128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755440" y="5656680"/>
              <a:ext cx="524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2"/>
          <p:cNvGrpSpPr/>
          <p:nvPr/>
        </p:nvGrpSpPr>
        <p:grpSpPr>
          <a:xfrm>
            <a:off x="4038480" y="4572000"/>
            <a:ext cx="1676520" cy="1416960"/>
            <a:chOff x="4038480" y="4572000"/>
            <a:chExt cx="1676520" cy="141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4038480" y="4572000"/>
              <a:ext cx="16765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568760" y="565668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U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1371600"/>
            <a:ext cx="302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se transfiere al material base mediante la </a:t>
            </a:r>
            <a:r>
              <a:rPr b="0" i="1" lang="es-ES_tradnl" sz="1600" spc="-1" strike="noStrike">
                <a:solidFill>
                  <a:srgbClr val="009999"/>
                </a:solidFill>
                <a:latin typeface="Arial"/>
              </a:rPr>
              <a:t>fric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,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ara crear la fricción, se necesita una fuerza expans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5"/>
          <a:stretch/>
        </p:blipFill>
        <p:spPr>
          <a:xfrm>
            <a:off x="6095880" y="2895480"/>
            <a:ext cx="2743200" cy="299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"/>
          <p:cNvPicPr/>
          <p:nvPr/>
        </p:nvPicPr>
        <p:blipFill>
          <a:blip r:embed="rId6"/>
          <a:stretch/>
        </p:blipFill>
        <p:spPr>
          <a:xfrm>
            <a:off x="660240" y="6458040"/>
            <a:ext cx="1387800" cy="268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73280" y="1600200"/>
            <a:ext cx="5135400" cy="20574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9120" y="1828800"/>
            <a:ext cx="5057640" cy="1700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72200" y="1600200"/>
            <a:ext cx="2590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La carga tensora, N, está en equilibrio con las fuerzas de soporte, R, que actúa sobre el material 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914400" y="4572000"/>
            <a:ext cx="1752480" cy="1528200"/>
            <a:chOff x="914400" y="4572000"/>
            <a:chExt cx="1752480" cy="15282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0"/>
              <a:ext cx="175248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405080" y="5767920"/>
              <a:ext cx="54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9"/>
          <p:cNvGrpSpPr/>
          <p:nvPr/>
        </p:nvGrpSpPr>
        <p:grpSpPr>
          <a:xfrm>
            <a:off x="4419720" y="4495680"/>
            <a:ext cx="1676160" cy="1521720"/>
            <a:chOff x="4419720" y="4495680"/>
            <a:chExt cx="1676160" cy="15217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419720" y="4495680"/>
              <a:ext cx="167616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771440" y="56851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HIT HY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73280" y="411480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87624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Área de so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Object 14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00200" cy="1077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76720" y="57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Object 16" descr=""/>
          <p:cNvPicPr/>
          <p:nvPr/>
        </p:nvPicPr>
        <p:blipFill>
          <a:blip r:embed="rId5"/>
          <a:stretch/>
        </p:blipFill>
        <p:spPr>
          <a:xfrm>
            <a:off x="6324480" y="3200400"/>
            <a:ext cx="265284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73280" y="1447920"/>
            <a:ext cx="492408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447920"/>
            <a:ext cx="26020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roduce una unión adhesiva entre la varilla o barra reforzada y el adhesivo y entre el adhesivo y el material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2357640" y="4495680"/>
            <a:ext cx="1833480" cy="1538640"/>
            <a:chOff x="2357640" y="4495680"/>
            <a:chExt cx="1833480" cy="15386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503440" y="4624560"/>
              <a:ext cx="16398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32160" y="4495680"/>
              <a:ext cx="1758960" cy="25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2160" y="5715000"/>
              <a:ext cx="1758960" cy="255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7640" y="5732280"/>
              <a:ext cx="1833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IT RE 500 + Bar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1447920" cy="1067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5715000"/>
            <a:ext cx="1524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VU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3280" y="4308480"/>
            <a:ext cx="1477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984240" y="1752480"/>
            <a:ext cx="4737240" cy="205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4"/>
          <a:stretch/>
        </p:blipFill>
        <p:spPr>
          <a:xfrm>
            <a:off x="4267080" y="4724280"/>
            <a:ext cx="1393920" cy="1046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67080" y="5715000"/>
            <a:ext cx="2210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IT HY 150 +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rincipios de Funcionamiento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 Narrow"/>
              </a:rPr>
              <a:t>Ad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Object 17" descr=""/>
          <p:cNvPicPr/>
          <p:nvPr/>
        </p:nvPicPr>
        <p:blipFill>
          <a:blip r:embed="rId5"/>
          <a:stretch/>
        </p:blipFill>
        <p:spPr>
          <a:xfrm>
            <a:off x="6019920" y="2971800"/>
            <a:ext cx="2895480" cy="2997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73280" y="6033960"/>
            <a:ext cx="7034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Formas de falla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685800"/>
            <a:ext cx="703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sibles formas de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02920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Hormig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o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2120" y="582768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Object 5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650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952880"/>
            <a:ext cx="1905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rte de la bar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952880"/>
            <a:ext cx="19047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acer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952880"/>
            <a:ext cx="190512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alla del Adh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con el hormigó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9200" y="6019920"/>
            <a:ext cx="274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Gama de Anclajes Hilti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8" descr=""/>
          <p:cNvPicPr/>
          <p:nvPr/>
        </p:nvPicPr>
        <p:blipFill>
          <a:blip r:embed="rId1"/>
          <a:stretch/>
        </p:blipFill>
        <p:spPr>
          <a:xfrm>
            <a:off x="7667640" y="1052640"/>
            <a:ext cx="83196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676440" cy="479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"/>
          <p:cNvPicPr/>
          <p:nvPr/>
        </p:nvPicPr>
        <p:blipFill>
          <a:blip r:embed="rId3"/>
          <a:stretch/>
        </p:blipFill>
        <p:spPr>
          <a:xfrm>
            <a:off x="4427640" y="3860640"/>
            <a:ext cx="476280" cy="366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785880" cy="51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46160" cy="2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3" descr=""/>
          <p:cNvPicPr/>
          <p:nvPr/>
        </p:nvPicPr>
        <p:blipFill>
          <a:blip r:embed="rId6"/>
          <a:stretch/>
        </p:blipFill>
        <p:spPr>
          <a:xfrm>
            <a:off x="5580000" y="1916280"/>
            <a:ext cx="1008000" cy="257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6019920"/>
            <a:ext cx="7924680" cy="228600"/>
          </a:xfrm>
          <a:prstGeom prst="rightArrow">
            <a:avLst>
              <a:gd name="adj1" fmla="val 50000"/>
              <a:gd name="adj2" fmla="val 710174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9500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7360" y="990720"/>
            <a:ext cx="350640" cy="5181480"/>
          </a:xfrm>
          <a:prstGeom prst="upArrow">
            <a:avLst>
              <a:gd name="adj1" fmla="val 40833"/>
              <a:gd name="adj2" fmla="val 348085"/>
            </a:avLst>
          </a:prstGeom>
          <a:solidFill>
            <a:srgbClr val="009999">
              <a:alpha val="50000"/>
            </a:srgbClr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4920" y="3756600"/>
            <a:ext cx="12067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31640" y="1038240"/>
            <a:ext cx="2948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ama de Anclajes Hi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1080" y="4149720"/>
            <a:ext cx="106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B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37"/>
          <p:cNvGrpSpPr/>
          <p:nvPr/>
        </p:nvGrpSpPr>
        <p:grpSpPr>
          <a:xfrm>
            <a:off x="5148360" y="2349360"/>
            <a:ext cx="1520640" cy="774720"/>
            <a:chOff x="5148360" y="2349360"/>
            <a:chExt cx="1520640" cy="774720"/>
          </a:xfrm>
        </p:grpSpPr>
        <p:pic>
          <p:nvPicPr>
            <p:cNvPr id="184" name="Picture 38" descr=""/>
            <p:cNvPicPr/>
            <p:nvPr/>
          </p:nvPicPr>
          <p:blipFill>
            <a:blip r:embed="rId7"/>
            <a:stretch/>
          </p:blipFill>
          <p:spPr>
            <a:xfrm>
              <a:off x="5148360" y="2349360"/>
              <a:ext cx="81900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9" descr=""/>
            <p:cNvPicPr/>
            <p:nvPr/>
          </p:nvPicPr>
          <p:blipFill>
            <a:blip r:embed="rId8"/>
            <a:stretch/>
          </p:blipFill>
          <p:spPr>
            <a:xfrm>
              <a:off x="5148360" y="2881440"/>
              <a:ext cx="99360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5967360" y="2593800"/>
              <a:ext cx="7016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508720" y="148428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V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3080" y="1773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1341360"/>
            <a:ext cx="633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45"/>
          <p:cNvGrpSpPr/>
          <p:nvPr/>
        </p:nvGrpSpPr>
        <p:grpSpPr>
          <a:xfrm>
            <a:off x="6227640" y="2133720"/>
            <a:ext cx="1428840" cy="782640"/>
            <a:chOff x="6227640" y="2133720"/>
            <a:chExt cx="1428840" cy="782640"/>
          </a:xfrm>
        </p:grpSpPr>
        <p:pic>
          <p:nvPicPr>
            <p:cNvPr id="191" name="Picture 46" descr=""/>
            <p:cNvPicPr/>
            <p:nvPr/>
          </p:nvPicPr>
          <p:blipFill>
            <a:blip r:embed="rId9"/>
            <a:stretch/>
          </p:blipFill>
          <p:spPr>
            <a:xfrm>
              <a:off x="6227640" y="2133720"/>
              <a:ext cx="84636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Object 47" descr=""/>
            <p:cNvPicPr/>
            <p:nvPr/>
          </p:nvPicPr>
          <p:blipFill>
            <a:blip r:embed="rId10"/>
            <a:stretch/>
          </p:blipFill>
          <p:spPr>
            <a:xfrm>
              <a:off x="6227640" y="2809800"/>
              <a:ext cx="846360" cy="1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1440" y="2416320"/>
              <a:ext cx="6350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Object 50" descr=""/>
          <p:cNvPicPr/>
          <p:nvPr/>
        </p:nvPicPr>
        <p:blipFill>
          <a:blip r:embed="rId11"/>
          <a:stretch/>
        </p:blipFill>
        <p:spPr>
          <a:xfrm>
            <a:off x="1979640" y="4869000"/>
            <a:ext cx="790560" cy="4554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51" descr=""/>
          <p:cNvPicPr/>
          <p:nvPr/>
        </p:nvPicPr>
        <p:blipFill>
          <a:blip r:embed="rId12"/>
          <a:stretch/>
        </p:blipFill>
        <p:spPr>
          <a:xfrm>
            <a:off x="1476360" y="5013360"/>
            <a:ext cx="53352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3284640"/>
            <a:ext cx="83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B-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2276640"/>
            <a:ext cx="1008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-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43640" y="2997360"/>
            <a:ext cx="8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-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64500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797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"/>
          <p:cNvPicPr/>
          <p:nvPr/>
        </p:nvPicPr>
        <p:blipFill>
          <a:blip r:embed="rId13"/>
          <a:stretch/>
        </p:blipFill>
        <p:spPr>
          <a:xfrm>
            <a:off x="971640" y="5516640"/>
            <a:ext cx="436320" cy="504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8" descr=""/>
          <p:cNvPicPr/>
          <p:nvPr/>
        </p:nvPicPr>
        <p:blipFill>
          <a:blip r:embed="rId14"/>
          <a:stretch/>
        </p:blipFill>
        <p:spPr>
          <a:xfrm>
            <a:off x="3851280" y="3500280"/>
            <a:ext cx="1224000" cy="270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9" descr=""/>
          <p:cNvPicPr/>
          <p:nvPr/>
        </p:nvPicPr>
        <p:blipFill>
          <a:blip r:embed="rId15"/>
          <a:stretch/>
        </p:blipFill>
        <p:spPr>
          <a:xfrm>
            <a:off x="1619280" y="5445000"/>
            <a:ext cx="798480" cy="279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411280" y="537372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ogg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87280" y="580536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2360" y="4221000"/>
            <a:ext cx="7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IT-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3" descr=""/>
          <p:cNvPicPr/>
          <p:nvPr/>
        </p:nvPicPr>
        <p:blipFill>
          <a:blip r:embed="rId16"/>
          <a:stretch/>
        </p:blipFill>
        <p:spPr>
          <a:xfrm>
            <a:off x="3578400" y="3860640"/>
            <a:ext cx="849240" cy="387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1731960" y="5751360"/>
            <a:ext cx="679320" cy="19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60520" y="5749920"/>
            <a:ext cx="6159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A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3840" y="1204920"/>
            <a:ext cx="295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2" descr=""/>
          <p:cNvPicPr/>
          <p:nvPr/>
        </p:nvPicPr>
        <p:blipFill>
          <a:blip r:embed="rId1"/>
          <a:stretch/>
        </p:blipFill>
        <p:spPr>
          <a:xfrm>
            <a:off x="6235560" y="2822400"/>
            <a:ext cx="2487600" cy="165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4" name="Picture 23" descr=""/>
          <p:cNvPicPr/>
          <p:nvPr/>
        </p:nvPicPr>
        <p:blipFill>
          <a:blip r:embed="rId2"/>
          <a:stretch/>
        </p:blipFill>
        <p:spPr>
          <a:xfrm>
            <a:off x="6235560" y="4578480"/>
            <a:ext cx="1754280" cy="129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37280" y="712800"/>
            <a:ext cx="2662200" cy="1871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8960" y="2281320"/>
            <a:ext cx="58183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Descripción del Producto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Ampolla pre-dosificada Metacrilato Uretano de Vinilo (HVU) bi-componente para anclajes en diversas aplicacion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3300"/>
                </a:solidFill>
                <a:latin typeface="Arial"/>
              </a:rPr>
              <a:t>Ventajas: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Desempeño de adherencia superio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apacitado para soportar cargas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sísmicas y vibratorias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Bajo tiempo de curado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os ciclo de hielo y deshiel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Gran resistencia a la temperatu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Excelente resistencia al </a:t>
            </a:r>
            <a:r>
              <a:rPr b="0" lang="es-ES_tradnl" sz="1700" spc="-1" strike="noStrike" u="sng">
                <a:solidFill>
                  <a:srgbClr val="000000"/>
                </a:solidFill>
                <a:uFillTx/>
                <a:latin typeface="Arial"/>
              </a:rPr>
              <a:t>ataque químico y áci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55520" y="838080"/>
            <a:ext cx="73152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7800" y="654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ANCLAJE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3840" y="1204920"/>
            <a:ext cx="5041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Black"/>
              </a:rPr>
              <a:t>Sistema HVA </a:t>
            </a:r>
            <a:r>
              <a:rPr b="1" lang="es-ES_tradnl" sz="2000" spc="-1" strike="noStrike">
                <a:solidFill>
                  <a:srgbClr val="000000"/>
                </a:solidFill>
                <a:latin typeface="Arial Black"/>
              </a:rPr>
              <a:t>(HVU + H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6616800" y="838080"/>
            <a:ext cx="175392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12800" y="2031840"/>
            <a:ext cx="6048360" cy="439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7T09:56:05Z</dcterms:created>
  <dc:creator>a.wieser</dc:creator>
  <dc:description/>
  <dc:language>en-US</dc:language>
  <cp:lastModifiedBy>urraher</cp:lastModifiedBy>
  <cp:lastPrinted>2002-08-07T11:29:47Z</cp:lastPrinted>
  <dcterms:modified xsi:type="dcterms:W3CDTF">2009-08-17T21:41:11Z</dcterms:modified>
  <cp:revision>276</cp:revision>
  <dc:subject/>
  <dc:title>Kein Folientitel</dc:title>
</cp:coreProperties>
</file>