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55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49.png" ContentType="image/png"/>
  <Override PartName="/ppt/media/image65.jpeg" ContentType="image/jpeg"/>
  <Override PartName="/ppt/media/image46.jpeg" ContentType="image/jpeg"/>
  <Override PartName="/ppt/media/image15.wmf" ContentType="image/x-wmf"/>
  <Override PartName="/ppt/media/image45.jpeg" ContentType="image/jpeg"/>
  <Override PartName="/ppt/media/image48.png" ContentType="image/png"/>
  <Override PartName="/ppt/media/image70.wmf" ContentType="image/x-wmf"/>
  <Override PartName="/ppt/media/image44.png" ContentType="image/png"/>
  <Override PartName="/ppt/media/image75.jpeg" ContentType="image/jpeg"/>
  <Override PartName="/ppt/media/image42.jpeg" ContentType="image/jpeg"/>
  <Override PartName="/ppt/media/image59.jpeg" ContentType="image/jpeg"/>
  <Override PartName="/ppt/media/image83.png" ContentType="image/png"/>
  <Override PartName="/ppt/media/image43.jpeg" ContentType="image/jpeg"/>
  <Override PartName="/ppt/media/image35.png" ContentType="image/png"/>
  <Override PartName="/ppt/media/image37.png" ContentType="image/png"/>
  <Override PartName="/ppt/media/image34.jpeg" ContentType="image/jpeg"/>
  <Override PartName="/ppt/media/image32.jpeg" ContentType="image/jpeg"/>
  <Override PartName="/ppt/media/image47.wmf" ContentType="image/x-wmf"/>
  <Override PartName="/ppt/media/image31.jpeg" ContentType="image/jpeg"/>
  <Override PartName="/ppt/media/image30.jpeg" ContentType="image/jpeg"/>
  <Override PartName="/ppt/media/image18.wmf" ContentType="image/x-wmf"/>
  <Override PartName="/ppt/media/image50.jpeg" ContentType="image/jpeg"/>
  <Override PartName="/ppt/media/image72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17.wmf" ContentType="image/x-wmf"/>
  <Override PartName="/ppt/media/image69.wmf" ContentType="image/x-wmf"/>
  <Override PartName="/ppt/media/image21.jpeg" ContentType="image/jpeg"/>
  <Override PartName="/ppt/media/image22.wmf" ContentType="image/x-wmf"/>
  <Override PartName="/ppt/media/image60.jpeg" ContentType="image/jpeg"/>
  <Override PartName="/ppt/media/image64.png" ContentType="image/png"/>
  <Override PartName="/ppt/media/image61.jpeg" ContentType="image/jpeg"/>
  <Override PartName="/ppt/media/image77.png" ContentType="image/png"/>
  <Override PartName="/ppt/media/image4.jpeg" ContentType="image/jpeg"/>
  <Override PartName="/ppt/media/image40.png" ContentType="image/png"/>
  <Override PartName="/ppt/media/image58.jpeg" ContentType="image/jpeg"/>
  <Override PartName="/ppt/media/image73.png" ContentType="image/png"/>
  <Override PartName="/ppt/media/image19.wmf" ContentType="image/x-wmf"/>
  <Override PartName="/ppt/media/image67.jpeg" ContentType="image/jpeg"/>
  <Override PartName="/ppt/media/image5.jpeg" ContentType="image/jpeg"/>
  <Override PartName="/ppt/media/image62.jpeg" ContentType="image/jpeg"/>
  <Override PartName="/ppt/media/image84.png" ContentType="image/png"/>
  <Override PartName="/ppt/media/image85.png" ContentType="image/png"/>
  <Override PartName="/ppt/media/image71.jpeg" ContentType="image/jpeg"/>
  <Override PartName="/ppt/media/image24.wmf" ContentType="image/x-wmf"/>
  <Override PartName="/ppt/media/image66.jpeg" ContentType="image/jpeg"/>
  <Override PartName="/ppt/media/image9.jpeg" ContentType="image/jpeg"/>
  <Override PartName="/ppt/media/image79.wmf" ContentType="image/x-wmf"/>
  <Override PartName="/ppt/media/image74.jpeg" ContentType="image/jpeg"/>
  <Override PartName="/ppt/media/image68.png" ContentType="image/png"/>
  <Override PartName="/ppt/media/image80.png" ContentType="image/png"/>
  <Override PartName="/ppt/media/image38.png" ContentType="image/png"/>
  <Override PartName="/ppt/media/image78.png" ContentType="image/png"/>
  <Override PartName="/ppt/media/image76.jpeg" ContentType="image/jpeg"/>
  <Override PartName="/ppt/media/image63.jpeg" ContentType="image/jpeg"/>
  <Override PartName="/ppt/media/image6.jpeg" ContentType="image/jpeg"/>
  <Override PartName="/ppt/media/image14.wmf" ContentType="image/x-wmf"/>
  <Override PartName="/ppt/media/image57.png" ContentType="image/png"/>
  <Override PartName="/ppt/media/image41.jpeg" ContentType="image/jpeg"/>
  <Override PartName="/ppt/media/image23.wmf" ContentType="image/x-wmf"/>
  <Override PartName="/ppt/media/image51.jpeg" ContentType="image/jpeg"/>
  <Override PartName="/ppt/media/image28.jpeg" ContentType="image/jpeg"/>
  <Override PartName="/ppt/media/image11.jpeg" ContentType="image/jpeg"/>
  <Override PartName="/ppt/media/image27.png" ContentType="image/png"/>
  <Override PartName="/ppt/media/image20.jpeg" ContentType="image/jpeg"/>
  <Override PartName="/ppt/media/image12.wmf" ContentType="image/x-wmf"/>
  <Override PartName="/ppt/media/image81.png" ContentType="image/png"/>
  <Override PartName="/ppt/media/image16.png" ContentType="image/png"/>
  <Override PartName="/ppt/media/image7.jpeg" ContentType="image/jpeg"/>
  <Override PartName="/ppt/media/image36.jpeg" ContentType="image/jpeg"/>
  <Override PartName="/ppt/media/image10.png" ContentType="image/png"/>
  <Override PartName="/ppt/media/image29.jpeg" ContentType="image/jpeg"/>
  <Override PartName="/ppt/media/image1.png" ContentType="image/png"/>
  <Override PartName="/ppt/media/image52.jpeg" ContentType="image/jpeg"/>
  <Override PartName="/ppt/media/image8.jpeg" ContentType="image/jpeg"/>
  <Override PartName="/ppt/media/image26.png" ContentType="image/png"/>
  <Override PartName="/ppt/media/image39.jpeg" ContentType="image/jpeg"/>
  <Override PartName="/ppt/media/image82.png" ContentType="image/png"/>
  <Override PartName="/ppt/media/image56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66360" y="4718160"/>
            <a:ext cx="533556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D06FA2F-14E7-4AE9-BC93-8FC9E57128B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1867447-8547-4281-8BDF-7EF3375634F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887040" y="4722480"/>
            <a:ext cx="489276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313A224-93AD-4C72-9355-90955CD704F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AEBABCC-500E-4F02-8AFE-4FE5D50327A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75812CC-978B-4C42-898A-CCF73275426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8C0B08B-0FAC-4579-A0F0-7D8A2398FA1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D81EC6C-FC3D-46B7-9CBE-117B64EA429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51731DD-00EA-434C-8CEC-374D23543D7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02E6C1F-CF14-45BE-8C7C-E5DE468CF0B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A93F3CE-FA26-4416-BF4D-B76BB64932D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829613E-EAB1-4D01-8BA6-8B2AA48873B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000EE1F-6567-4341-B611-15F380C56E6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887040" y="4722480"/>
            <a:ext cx="489276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17C159B-D170-4649-A91F-D32243A6E78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24000" y="87012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02880" y="5635440"/>
            <a:ext cx="11970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7E2C831-A473-4D71-A468-B135056E2A2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CFE905A-EEFC-4591-9F2D-19595986148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87040" y="4722480"/>
            <a:ext cx="489276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2D2AC24-6CD9-4E73-8BEC-BA759A8D12E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24000" y="87012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02880" y="5635440"/>
            <a:ext cx="11970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6A60C3D-EFEB-4846-99A0-C6F72070AD7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24000" y="87012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02880" y="5635440"/>
            <a:ext cx="11970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2152AFC-7738-4264-9F9E-2FB9060ECF8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24000" y="87012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02880" y="5635440"/>
            <a:ext cx="11970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B7CECAB-B6B3-46DF-8176-4E44F50119A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24000" y="87012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02880" y="5635440"/>
            <a:ext cx="11970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9CFF0D6-AB01-4157-AE05-68B3761DCF7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24000" y="87012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03240" y="5634720"/>
            <a:ext cx="120024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C9DD322-C56A-42C8-9A2E-5D4F3E55398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6F06620-2B92-4F9F-8DF8-D57729B1145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60B3-4E2E-4B74-972C-17F5B280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3F1C-5F56-4827-8197-4FA92A8F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BA65-CFD0-4CED-A344-6B05EF81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6E12-4F44-47FE-B50B-ECD7ABD2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7E30-A431-4E2F-971F-44E2C8F9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8B3F-FE8D-400E-81CA-203E5D26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16E9-4693-4F50-820C-ADCC720C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CCCC-4B26-405C-8455-A8210694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9DF8-DE90-4643-99B0-AE05304F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EE82-9A06-4649-895A-8E866E24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A8B5-CD30-4232-9904-C20CC04F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E828-E74E-4D54-B99E-36995389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E7AF-1430-4641-B384-65308AE8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1009-9B9B-4C14-8A05-EA81396E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4F1B-619C-45E2-AC4F-1525819B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BDA0-19C4-49AB-8C30-AE86429D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5C86-C379-47CA-85E8-C227AA31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F671-E9D9-4622-BFBF-0BE2686C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747D-D608-43DA-90E3-CC5EB30A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9AF4-1ACC-42E2-81E7-10C47025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F62-10BE-42A0-85C7-8B112161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9270-F6FB-488D-88CB-BE86DF88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0C4C-B357-4D5B-854A-ED6EA744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E3E1-FBE7-424F-ABF0-9CA229D5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7D2D-310F-42A5-9C93-827C0FAEF76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620040" cy="54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68400" y="54000"/>
            <a:ext cx="1431720" cy="2905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605640" y="0"/>
            <a:ext cx="2538360" cy="54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3"/>
          <a:stretch/>
        </p:blipFill>
        <p:spPr>
          <a:xfrm>
            <a:off x="7110360" y="195120"/>
            <a:ext cx="1782720" cy="13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43D4-7119-4C60-8125-35A9782FC13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5.jpe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3.jpeg"/><Relationship Id="rId4" Type="http://schemas.openxmlformats.org/officeDocument/2006/relationships/image" Target="../media/image55.jpeg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png"/><Relationship Id="rId7" Type="http://schemas.openxmlformats.org/officeDocument/2006/relationships/image" Target="../media/image34.jpeg"/><Relationship Id="rId8" Type="http://schemas.openxmlformats.org/officeDocument/2006/relationships/image" Target="../media/image35.png"/><Relationship Id="rId9" Type="http://schemas.openxmlformats.org/officeDocument/2006/relationships/image" Target="../media/image36.jpe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jpeg"/><Relationship Id="rId13" Type="http://schemas.openxmlformats.org/officeDocument/2006/relationships/image" Target="../media/image40.png"/><Relationship Id="rId14" Type="http://schemas.openxmlformats.org/officeDocument/2006/relationships/image" Target="../media/image41.jpeg"/><Relationship Id="rId15" Type="http://schemas.openxmlformats.org/officeDocument/2006/relationships/image" Target="../media/image42.jpeg"/><Relationship Id="rId16" Type="http://schemas.openxmlformats.org/officeDocument/2006/relationships/image" Target="../media/image43.jpeg"/><Relationship Id="rId17" Type="http://schemas.openxmlformats.org/officeDocument/2006/relationships/image" Target="../media/image44.png"/><Relationship Id="rId18" Type="http://schemas.openxmlformats.org/officeDocument/2006/relationships/slideLayout" Target="../slideLayouts/slideLayout3.xml"/><Relationship Id="rId1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wmf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6012000" y="0"/>
            <a:ext cx="3132000" cy="2427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6012000" y="3429000"/>
            <a:ext cx="3132000" cy="244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0" y="2421000"/>
            <a:ext cx="2846520" cy="3384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4"/>
          <a:stretch/>
        </p:blipFill>
        <p:spPr>
          <a:xfrm>
            <a:off x="0" y="0"/>
            <a:ext cx="2987640" cy="245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5"/>
          <a:stretch/>
        </p:blipFill>
        <p:spPr>
          <a:xfrm>
            <a:off x="6084720" y="2349360"/>
            <a:ext cx="3059280" cy="114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6"/>
          <a:stretch/>
        </p:blipFill>
        <p:spPr>
          <a:xfrm>
            <a:off x="2843280" y="0"/>
            <a:ext cx="3273480" cy="3357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7"/>
          <a:stretch/>
        </p:blipFill>
        <p:spPr>
          <a:xfrm>
            <a:off x="2843280" y="3284640"/>
            <a:ext cx="3271680" cy="2520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5769000"/>
            <a:ext cx="9144000" cy="109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0" descr=""/>
          <p:cNvPicPr/>
          <p:nvPr/>
        </p:nvPicPr>
        <p:blipFill>
          <a:blip r:embed="rId8"/>
          <a:stretch/>
        </p:blipFill>
        <p:spPr>
          <a:xfrm>
            <a:off x="609480" y="6458040"/>
            <a:ext cx="1387440" cy="268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22360" y="5883120"/>
            <a:ext cx="85788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ncho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3429000" y="1197000"/>
            <a:ext cx="1795320" cy="1317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17800" y="6541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QUI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3840" y="1353960"/>
            <a:ext cx="2457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IT RE-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8960" y="2522520"/>
            <a:ext cx="5064120" cy="36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Descripción del Producto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Resina epóxica bi-componente para anclajes en diferentes materiales base como hormigón, piedra natural, grout, madera etc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Ventajas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Desempeño de adherencia superior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do para soportar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cargas sísmicas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Pequeños diámetros de perforación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uede ser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instalado inclusive bajo agua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xcelente resistencia a la interperi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14" descr=""/>
          <p:cNvPicPr/>
          <p:nvPr/>
        </p:nvPicPr>
        <p:blipFill>
          <a:blip r:embed="rId2"/>
          <a:stretch/>
        </p:blipFill>
        <p:spPr>
          <a:xfrm>
            <a:off x="5597640" y="5065560"/>
            <a:ext cx="1438200" cy="703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5" descr=""/>
          <p:cNvPicPr/>
          <p:nvPr/>
        </p:nvPicPr>
        <p:blipFill>
          <a:blip r:embed="rId3"/>
          <a:stretch/>
        </p:blipFill>
        <p:spPr>
          <a:xfrm>
            <a:off x="4327560" y="5253120"/>
            <a:ext cx="1270080" cy="274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"/>
          <p:cNvPicPr/>
          <p:nvPr/>
        </p:nvPicPr>
        <p:blipFill>
          <a:blip r:embed="rId4"/>
          <a:stretch/>
        </p:blipFill>
        <p:spPr>
          <a:xfrm>
            <a:off x="7035840" y="4764240"/>
            <a:ext cx="1920960" cy="1201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"/>
          <p:cNvPicPr/>
          <p:nvPr/>
        </p:nvPicPr>
        <p:blipFill>
          <a:blip r:embed="rId5"/>
          <a:stretch/>
        </p:blipFill>
        <p:spPr>
          <a:xfrm>
            <a:off x="6280200" y="2833560"/>
            <a:ext cx="2394000" cy="1771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2" name="Picture 18" descr=""/>
          <p:cNvPicPr/>
          <p:nvPr/>
        </p:nvPicPr>
        <p:blipFill>
          <a:blip r:embed="rId6"/>
          <a:stretch/>
        </p:blipFill>
        <p:spPr>
          <a:xfrm>
            <a:off x="5299200" y="4764240"/>
            <a:ext cx="1574640" cy="3013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6280200" y="654120"/>
            <a:ext cx="2394000" cy="201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3251160" y="984240"/>
            <a:ext cx="1795680" cy="13176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17800" y="6541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QUI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3840" y="1353960"/>
            <a:ext cx="2457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IT RE-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15" descr=""/>
          <p:cNvPicPr/>
          <p:nvPr/>
        </p:nvPicPr>
        <p:blipFill>
          <a:blip r:embed="rId2"/>
          <a:stretch/>
        </p:blipFill>
        <p:spPr>
          <a:xfrm>
            <a:off x="5224320" y="1368360"/>
            <a:ext cx="1270080" cy="274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"/>
          <p:cNvPicPr/>
          <p:nvPr/>
        </p:nvPicPr>
        <p:blipFill>
          <a:blip r:embed="rId3"/>
          <a:stretch/>
        </p:blipFill>
        <p:spPr>
          <a:xfrm>
            <a:off x="7012080" y="984240"/>
            <a:ext cx="1920960" cy="1201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8" descr=""/>
          <p:cNvPicPr/>
          <p:nvPr/>
        </p:nvPicPr>
        <p:blipFill>
          <a:blip r:embed="rId4"/>
          <a:stretch/>
        </p:blipFill>
        <p:spPr>
          <a:xfrm>
            <a:off x="5224320" y="984240"/>
            <a:ext cx="1575000" cy="30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539720" y="2514600"/>
            <a:ext cx="5472360" cy="410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" dur="1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6000" y="692280"/>
            <a:ext cx="2457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IT HY-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16" descr=""/>
          <p:cNvPicPr/>
          <p:nvPr/>
        </p:nvPicPr>
        <p:blipFill>
          <a:blip r:embed="rId1"/>
          <a:stretch/>
        </p:blipFill>
        <p:spPr>
          <a:xfrm>
            <a:off x="7186680" y="4572000"/>
            <a:ext cx="1957320" cy="1224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8" descr=""/>
          <p:cNvPicPr/>
          <p:nvPr/>
        </p:nvPicPr>
        <p:blipFill>
          <a:blip r:embed="rId2"/>
          <a:stretch/>
        </p:blipFill>
        <p:spPr>
          <a:xfrm>
            <a:off x="3206880" y="1098720"/>
            <a:ext cx="1701720" cy="1199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9" descr=""/>
          <p:cNvPicPr/>
          <p:nvPr/>
        </p:nvPicPr>
        <p:blipFill>
          <a:blip r:embed="rId3"/>
          <a:stretch/>
        </p:blipFill>
        <p:spPr>
          <a:xfrm>
            <a:off x="6632640" y="723960"/>
            <a:ext cx="1855800" cy="152388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pic>
        <p:nvPicPr>
          <p:cNvPr id="247" name="Picture 20" descr=""/>
          <p:cNvPicPr/>
          <p:nvPr/>
        </p:nvPicPr>
        <p:blipFill>
          <a:blip r:embed="rId4"/>
          <a:stretch/>
        </p:blipFill>
        <p:spPr>
          <a:xfrm>
            <a:off x="6694560" y="2514600"/>
            <a:ext cx="1854000" cy="2057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8" name="Picture 21" descr=""/>
          <p:cNvPicPr/>
          <p:nvPr/>
        </p:nvPicPr>
        <p:blipFill>
          <a:blip r:embed="rId5"/>
          <a:stretch/>
        </p:blipFill>
        <p:spPr>
          <a:xfrm>
            <a:off x="6122880" y="5156280"/>
            <a:ext cx="1500120" cy="6476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2" descr=""/>
          <p:cNvPicPr/>
          <p:nvPr/>
        </p:nvPicPr>
        <p:blipFill>
          <a:blip r:embed="rId6"/>
          <a:stretch/>
        </p:blipFill>
        <p:spPr>
          <a:xfrm>
            <a:off x="4518000" y="5270400"/>
            <a:ext cx="1560600" cy="3841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3" descr=""/>
          <p:cNvPicPr/>
          <p:nvPr/>
        </p:nvPicPr>
        <p:blipFill>
          <a:blip r:embed="rId7"/>
          <a:stretch/>
        </p:blipFill>
        <p:spPr>
          <a:xfrm>
            <a:off x="5299200" y="4762440"/>
            <a:ext cx="1574640" cy="3016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17800" y="6541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QUI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8960" y="2281320"/>
            <a:ext cx="5064120" cy="38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Descripción del Producto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Resina Hibrida (metacrilato-cemento) bi-componente para anclajes en diferentes materiales base como hormigón, piedra natural y grout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Ventajas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Desempeño de adherencia superior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do para soportar cargas sísmic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Bajo tiempo de curado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Gran resistencia a la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temperatura (soldadura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Buena resistencia al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ataque químico y ácid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6000" y="692280"/>
            <a:ext cx="2457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IT HY-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16" descr=""/>
          <p:cNvPicPr/>
          <p:nvPr/>
        </p:nvPicPr>
        <p:blipFill>
          <a:blip r:embed="rId1"/>
          <a:stretch/>
        </p:blipFill>
        <p:spPr>
          <a:xfrm>
            <a:off x="7099200" y="885960"/>
            <a:ext cx="1957320" cy="1224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8" descr=""/>
          <p:cNvPicPr/>
          <p:nvPr/>
        </p:nvPicPr>
        <p:blipFill>
          <a:blip r:embed="rId2"/>
          <a:stretch/>
        </p:blipFill>
        <p:spPr>
          <a:xfrm>
            <a:off x="3206880" y="885960"/>
            <a:ext cx="1701720" cy="1199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2" descr=""/>
          <p:cNvPicPr/>
          <p:nvPr/>
        </p:nvPicPr>
        <p:blipFill>
          <a:blip r:embed="rId3"/>
          <a:stretch/>
        </p:blipFill>
        <p:spPr>
          <a:xfrm>
            <a:off x="5291280" y="1450800"/>
            <a:ext cx="1560240" cy="3844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3" descr=""/>
          <p:cNvPicPr/>
          <p:nvPr/>
        </p:nvPicPr>
        <p:blipFill>
          <a:blip r:embed="rId4"/>
          <a:stretch/>
        </p:blipFill>
        <p:spPr>
          <a:xfrm>
            <a:off x="5291280" y="1020600"/>
            <a:ext cx="1574640" cy="3016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17800" y="6541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QUI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1525680" y="2298600"/>
            <a:ext cx="5573520" cy="4179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8880" y="65412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MECA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1360" y="1395360"/>
            <a:ext cx="228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Object 16" descr=""/>
          <p:cNvPicPr/>
          <p:nvPr/>
        </p:nvPicPr>
        <p:blipFill>
          <a:blip r:embed="rId1"/>
          <a:stretch/>
        </p:blipFill>
        <p:spPr>
          <a:xfrm>
            <a:off x="2679840" y="982800"/>
            <a:ext cx="2340000" cy="1520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0" descr=""/>
          <p:cNvPicPr/>
          <p:nvPr/>
        </p:nvPicPr>
        <p:blipFill>
          <a:blip r:embed="rId2"/>
          <a:stretch/>
        </p:blipFill>
        <p:spPr>
          <a:xfrm>
            <a:off x="6566040" y="2813040"/>
            <a:ext cx="2157120" cy="3110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1" descr=""/>
          <p:cNvPicPr/>
          <p:nvPr/>
        </p:nvPicPr>
        <p:blipFill>
          <a:blip r:embed="rId3"/>
          <a:stretch/>
        </p:blipFill>
        <p:spPr>
          <a:xfrm>
            <a:off x="6238800" y="774720"/>
            <a:ext cx="2484360" cy="18669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18960" y="2484360"/>
            <a:ext cx="5818320" cy="36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Descripción del Producto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nclaje de expansión extra-fuerte, especialmente diseñado para cargas dinámicas y pesad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Ventajas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xtraordinaria capacidad de carg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do para soportar cargas sísmicas, vibratorias e impact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misa metálica que otorga capacidad al corte adicional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propiado para ser instalado en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hormigón fisurad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Fuerza de expansión controlad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8880" y="65412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MECA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11360" y="1395360"/>
            <a:ext cx="228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Object 16" descr=""/>
          <p:cNvPicPr/>
          <p:nvPr/>
        </p:nvPicPr>
        <p:blipFill>
          <a:blip r:embed="rId1"/>
          <a:stretch/>
        </p:blipFill>
        <p:spPr>
          <a:xfrm>
            <a:off x="6578640" y="654120"/>
            <a:ext cx="2340000" cy="1520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879560" y="2359080"/>
            <a:ext cx="5168880" cy="3876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8880" y="65412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MECA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3840" y="1344600"/>
            <a:ext cx="228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KB - 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010200" y="654120"/>
            <a:ext cx="2637000" cy="1757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6022800" y="2505240"/>
            <a:ext cx="2637000" cy="1774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78" name="Picture 17" descr=""/>
          <p:cNvPicPr/>
          <p:nvPr/>
        </p:nvPicPr>
        <p:blipFill>
          <a:blip r:embed="rId3"/>
          <a:stretch/>
        </p:blipFill>
        <p:spPr>
          <a:xfrm>
            <a:off x="6022800" y="4359240"/>
            <a:ext cx="2637000" cy="171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9" name="Picture 18" descr=""/>
          <p:cNvPicPr/>
          <p:nvPr/>
        </p:nvPicPr>
        <p:blipFill>
          <a:blip r:embed="rId4"/>
          <a:stretch/>
        </p:blipFill>
        <p:spPr>
          <a:xfrm>
            <a:off x="2171880" y="1336680"/>
            <a:ext cx="2779560" cy="6112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18960" y="2484360"/>
            <a:ext cx="5818320" cy="36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Descripción del Producto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nclaje de expansión de una sola cuña que actúa como tres independientes que proporcionas resistencias medianas a fuertes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Ventajas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Buena capacidad de carg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do para soportar cargas estátic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uede ser instalado en agujeros sin fond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dentificación de longitude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Buen rendimiento en perforaciones diamantad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4943520" y="1643040"/>
            <a:ext cx="990720" cy="100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8880" y="65412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MECA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7960" y="1357200"/>
            <a:ext cx="228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16" descr=""/>
          <p:cNvPicPr/>
          <p:nvPr/>
        </p:nvPicPr>
        <p:blipFill>
          <a:blip r:embed="rId1"/>
          <a:stretch/>
        </p:blipFill>
        <p:spPr>
          <a:xfrm>
            <a:off x="2162160" y="1028880"/>
            <a:ext cx="1851120" cy="1315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7" descr=""/>
          <p:cNvPicPr/>
          <p:nvPr/>
        </p:nvPicPr>
        <p:blipFill>
          <a:blip r:embed="rId2"/>
          <a:stretch/>
        </p:blipFill>
        <p:spPr>
          <a:xfrm>
            <a:off x="5921280" y="679320"/>
            <a:ext cx="2818080" cy="16160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8" descr=""/>
          <p:cNvPicPr/>
          <p:nvPr/>
        </p:nvPicPr>
        <p:blipFill>
          <a:blip r:embed="rId3"/>
          <a:stretch/>
        </p:blipFill>
        <p:spPr>
          <a:xfrm>
            <a:off x="5921280" y="2535120"/>
            <a:ext cx="2808360" cy="165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8" name=""/>
          <p:cNvSpPr/>
          <p:nvPr/>
        </p:nvSpPr>
        <p:spPr>
          <a:xfrm>
            <a:off x="318960" y="2484360"/>
            <a:ext cx="5818320" cy="33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Descripción del Producto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nclaje de rosca interna con cono de expansión para ser instalado en hormigón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Ventajas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dad de carga median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do para soportar cargas estátic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oca profundidad de empotramient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nstalación al ras para insertar varillas roscad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deal para instalaciones repetitiv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4191120" y="1357200"/>
            <a:ext cx="1092240" cy="6526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5"/>
          <a:stretch/>
        </p:blipFill>
        <p:spPr>
          <a:xfrm>
            <a:off x="5921280" y="4395960"/>
            <a:ext cx="2808360" cy="193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822320" y="641520"/>
            <a:ext cx="4775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SUMEN DE SELECCIÓN DE ANCLA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73160" y="1019160"/>
            <a:ext cx="8545320" cy="566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676600" y="41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9640" y="981000"/>
            <a:ext cx="79250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TEORIA DE DISEÑO DE ANCL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519280" y="2133720"/>
            <a:ext cx="38559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03440" y="836640"/>
            <a:ext cx="7034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¿Qué es un Ancla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62120" y="5827680"/>
            <a:ext cx="169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Object 19" descr=""/>
          <p:cNvPicPr/>
          <p:nvPr/>
        </p:nvPicPr>
        <p:blipFill>
          <a:blip r:embed="rId1"/>
          <a:stretch/>
        </p:blipFill>
        <p:spPr>
          <a:xfrm>
            <a:off x="3809880" y="1100160"/>
            <a:ext cx="1524240" cy="4657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9480" y="1795320"/>
            <a:ext cx="2590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 anclaje es un elemento estructural que tiene la propiedad de fijar un material a otro que hace las veces de b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5181480"/>
            <a:ext cx="1523880" cy="152640"/>
          </a:xfrm>
          <a:prstGeom prst="leftArrow">
            <a:avLst>
              <a:gd name="adj1" fmla="val 50000"/>
              <a:gd name="adj2" fmla="val 24958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3352680"/>
            <a:ext cx="1523880" cy="152640"/>
          </a:xfrm>
          <a:prstGeom prst="leftArrow">
            <a:avLst>
              <a:gd name="adj1" fmla="val 50000"/>
              <a:gd name="adj2" fmla="val 24958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1905120"/>
            <a:ext cx="1523880" cy="152280"/>
          </a:xfrm>
          <a:prstGeom prst="leftArrow">
            <a:avLst>
              <a:gd name="adj1" fmla="val 50000"/>
              <a:gd name="adj2" fmla="val 25017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1600200"/>
            <a:ext cx="9907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aterial a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3124080"/>
            <a:ext cx="9903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ncl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86600" y="5029200"/>
            <a:ext cx="9907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aterial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9120" y="6164280"/>
            <a:ext cx="38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incipios de funcionamiento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013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de diseño tradicional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0800" y="5448240"/>
            <a:ext cx="80136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normAutofit fontScale="94000"/>
          </a:bodyPr>
          <a:p>
            <a:pPr lvl="1" marL="17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ualmente, los datos obtenidos por los anclajes HILTI, se ajustan a la norma ETAG (anexo C) y el ACI 318 (apéndice D) para CC meth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49240" y="2115360"/>
            <a:ext cx="123372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étodo Clás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14400" y="2115360"/>
            <a:ext cx="16498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nsiones admisi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25960" y="1788120"/>
            <a:ext cx="199116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sultados conserva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03640" y="2323080"/>
            <a:ext cx="315288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n información del comportamiento en la fa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6240" y="3018960"/>
            <a:ext cx="228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Estado de arte 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840" y="3758400"/>
            <a:ext cx="18388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pacidad del hormig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71000" y="3758400"/>
            <a:ext cx="154152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nsiones de ro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87320" y="3361320"/>
            <a:ext cx="20354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sultados bastante re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65000" y="4006080"/>
            <a:ext cx="257796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ferenciación entre modos de fa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269320" y="4564440"/>
            <a:ext cx="2468160" cy="55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ferenciación de coeficientes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guridad para tipo de carg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500000">
            <a:off x="4354560" y="2397240"/>
            <a:ext cx="550800" cy="109440"/>
          </a:xfrm>
          <a:prstGeom prst="rightArrow">
            <a:avLst>
              <a:gd name="adj1" fmla="val 50000"/>
              <a:gd name="adj2" fmla="val 125822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24000" y="2205000"/>
            <a:ext cx="550800" cy="109440"/>
          </a:xfrm>
          <a:prstGeom prst="rightArrow">
            <a:avLst>
              <a:gd name="adj1" fmla="val 50000"/>
              <a:gd name="adj2" fmla="val 125822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20100000">
            <a:off x="4354200" y="2000160"/>
            <a:ext cx="550800" cy="109800"/>
          </a:xfrm>
          <a:prstGeom prst="rightArrow">
            <a:avLst>
              <a:gd name="adj1" fmla="val 50000"/>
              <a:gd name="adj2" fmla="val 125410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340000" y="3860640"/>
            <a:ext cx="550800" cy="109800"/>
          </a:xfrm>
          <a:prstGeom prst="rightArrow">
            <a:avLst>
              <a:gd name="adj1" fmla="val 50000"/>
              <a:gd name="adj2" fmla="val 125410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51480" y="4000680"/>
            <a:ext cx="550800" cy="109440"/>
          </a:xfrm>
          <a:prstGeom prst="rightArrow">
            <a:avLst>
              <a:gd name="adj1" fmla="val 50000"/>
              <a:gd name="adj2" fmla="val 125822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20100000">
            <a:off x="4551120" y="3643200"/>
            <a:ext cx="550800" cy="109800"/>
          </a:xfrm>
          <a:prstGeom prst="rightArrow">
            <a:avLst>
              <a:gd name="adj1" fmla="val 50000"/>
              <a:gd name="adj2" fmla="val 125410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500000">
            <a:off x="4551480" y="4341960"/>
            <a:ext cx="550800" cy="109440"/>
          </a:xfrm>
          <a:prstGeom prst="rightArrow">
            <a:avLst>
              <a:gd name="adj1" fmla="val 50000"/>
              <a:gd name="adj2" fmla="val 125822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080040" y="0"/>
            <a:ext cx="3063960" cy="434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17560" y="782640"/>
            <a:ext cx="763596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mplo, Condiciones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nclar soporte tipo bracket para suportación de tubería de 6”  a pilar de hormigón en planta de procesos industri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querimientos del lugar de instalación  (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preselección del anclaje adecuado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sistencia a vibraciones (tubería flujo a pres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sistencia cargas dinámic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osible soldadura cerca de la pla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Antes de determinar mediante calculo, secciones tipo de acero y empotramientos se debe seleccionar el sistema adecuado.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080040" y="0"/>
            <a:ext cx="3063960" cy="434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3040" y="782640"/>
            <a:ext cx="672156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atos Inicia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eparación entre soportes  4 m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eso de la tubería 50 kgf/m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ilar de sección 50 x 50 c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ormigón H30 (4000p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438360" y="2924280"/>
            <a:ext cx="5283360" cy="32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080040" y="0"/>
            <a:ext cx="3063960" cy="546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170000" y="704880"/>
            <a:ext cx="6856560" cy="54579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4489560" y="2529000"/>
            <a:ext cx="758880" cy="569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4489560" y="1725120"/>
            <a:ext cx="0" cy="70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32160" y="1389240"/>
            <a:ext cx="1578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s-CL" sz="1600" spc="-1" strike="noStrike" baseline="-25000">
                <a:solidFill>
                  <a:srgbClr val="ff0000"/>
                </a:solidFill>
                <a:latin typeface="Arial"/>
              </a:rPr>
              <a:t>, dis</a:t>
            </a: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= 103,5 kg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14800" y="2427120"/>
            <a:ext cx="1590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T,</a:t>
            </a:r>
            <a:r>
              <a:rPr b="1" lang="es-CL" sz="1600" spc="-1" strike="noStrike" baseline="-25000">
                <a:solidFill>
                  <a:srgbClr val="ff0000"/>
                </a:solidFill>
                <a:latin typeface="Arial"/>
              </a:rPr>
              <a:t>dis</a:t>
            </a: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 = 287 kg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080040" y="0"/>
            <a:ext cx="3063960" cy="434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5120" y="754200"/>
            <a:ext cx="686268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elección anclaje adecu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bemos seleccionar un anclaje según la condición requeri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sistencia a vibraciones (tubería flujo a pres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sistencia cargas dinámic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osible soldadura cerca de la pla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424480" y="3679920"/>
            <a:ext cx="3429000" cy="25351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1573200" y="4167360"/>
            <a:ext cx="3075120" cy="20476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030480" y="3657600"/>
            <a:ext cx="30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ISTEMA H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080040" y="0"/>
            <a:ext cx="3063960" cy="434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9440" y="676440"/>
            <a:ext cx="658980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e propone analizar para un anclaje del tip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VU + HAS – E Estandar 3/8” x 6.1/2” (EMP = 5 ¼”)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ADHER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98480" y="3419640"/>
            <a:ext cx="0" cy="404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79440" y="2252520"/>
            <a:ext cx="7912080" cy="40388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801720" y="4395960"/>
            <a:ext cx="5052960" cy="490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822320" y="641520"/>
            <a:ext cx="4775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SUMEN DE SELECCIÓN DE ANCLA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73160" y="1019160"/>
            <a:ext cx="8545320" cy="566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6012000" y="0"/>
            <a:ext cx="3132000" cy="24271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6012000" y="3429000"/>
            <a:ext cx="3132000" cy="2448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"/>
          <p:cNvPicPr/>
          <p:nvPr/>
        </p:nvPicPr>
        <p:blipFill>
          <a:blip r:embed="rId3"/>
          <a:stretch/>
        </p:blipFill>
        <p:spPr>
          <a:xfrm>
            <a:off x="0" y="2421000"/>
            <a:ext cx="2846520" cy="3384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"/>
          <p:cNvPicPr/>
          <p:nvPr/>
        </p:nvPicPr>
        <p:blipFill>
          <a:blip r:embed="rId4"/>
          <a:stretch/>
        </p:blipFill>
        <p:spPr>
          <a:xfrm>
            <a:off x="0" y="0"/>
            <a:ext cx="2987640" cy="24526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"/>
          <p:cNvPicPr/>
          <p:nvPr/>
        </p:nvPicPr>
        <p:blipFill>
          <a:blip r:embed="rId5"/>
          <a:stretch/>
        </p:blipFill>
        <p:spPr>
          <a:xfrm>
            <a:off x="6084720" y="2349360"/>
            <a:ext cx="3059280" cy="1144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"/>
          <p:cNvPicPr/>
          <p:nvPr/>
        </p:nvPicPr>
        <p:blipFill>
          <a:blip r:embed="rId6"/>
          <a:stretch/>
        </p:blipFill>
        <p:spPr>
          <a:xfrm>
            <a:off x="2843280" y="0"/>
            <a:ext cx="3273480" cy="3357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"/>
          <p:cNvPicPr/>
          <p:nvPr/>
        </p:nvPicPr>
        <p:blipFill>
          <a:blip r:embed="rId7"/>
          <a:stretch/>
        </p:blipFill>
        <p:spPr>
          <a:xfrm>
            <a:off x="2843280" y="3284640"/>
            <a:ext cx="3271680" cy="25207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0" y="5769000"/>
            <a:ext cx="9144000" cy="109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10" descr=""/>
          <p:cNvPicPr/>
          <p:nvPr/>
        </p:nvPicPr>
        <p:blipFill>
          <a:blip r:embed="rId8"/>
          <a:stretch/>
        </p:blipFill>
        <p:spPr>
          <a:xfrm>
            <a:off x="609480" y="6458040"/>
            <a:ext cx="1387440" cy="2682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522360" y="5883120"/>
            <a:ext cx="85788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nchor Systems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Departamento de Ingenieria, Tel 6553043; 6553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773280" y="1371600"/>
            <a:ext cx="4431960" cy="2514600"/>
            <a:chOff x="773280" y="1371600"/>
            <a:chExt cx="4431960" cy="2514600"/>
          </a:xfrm>
        </p:grpSpPr>
        <p:sp>
          <p:nvSpPr>
            <p:cNvPr id="115" name=""/>
            <p:cNvSpPr/>
            <p:nvPr/>
          </p:nvSpPr>
          <p:spPr>
            <a:xfrm>
              <a:off x="773280" y="1371600"/>
              <a:ext cx="4431960" cy="24382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1241280" y="1476360"/>
              <a:ext cx="3753000" cy="24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609480" y="685800"/>
            <a:ext cx="703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Principios de Funcionamiento: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 Narrow"/>
              </a:rPr>
              <a:t>Ro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6"/>
          <p:cNvGrpSpPr/>
          <p:nvPr/>
        </p:nvGrpSpPr>
        <p:grpSpPr>
          <a:xfrm>
            <a:off x="609480" y="4572000"/>
            <a:ext cx="1676520" cy="1416960"/>
            <a:chOff x="609480" y="4572000"/>
            <a:chExt cx="1676520" cy="141696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609480" y="4572000"/>
              <a:ext cx="16765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975600" y="5656680"/>
              <a:ext cx="614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KB-I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9"/>
          <p:cNvGrpSpPr/>
          <p:nvPr/>
        </p:nvGrpSpPr>
        <p:grpSpPr>
          <a:xfrm>
            <a:off x="2286000" y="4572000"/>
            <a:ext cx="1781280" cy="1416960"/>
            <a:chOff x="2286000" y="4572000"/>
            <a:chExt cx="1781280" cy="1416960"/>
          </a:xfrm>
        </p:grpSpPr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2286000" y="4572000"/>
              <a:ext cx="178128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755440" y="5656680"/>
              <a:ext cx="524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H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2"/>
          <p:cNvGrpSpPr/>
          <p:nvPr/>
        </p:nvGrpSpPr>
        <p:grpSpPr>
          <a:xfrm>
            <a:off x="4038480" y="4572000"/>
            <a:ext cx="1676520" cy="1416960"/>
            <a:chOff x="4038480" y="4572000"/>
            <a:chExt cx="1676520" cy="1416960"/>
          </a:xfrm>
        </p:grpSpPr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4038480" y="4572000"/>
              <a:ext cx="16765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568760" y="5656680"/>
              <a:ext cx="54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HU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562720" y="1371600"/>
            <a:ext cx="302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La carga tensora, N, se transfiere al material base mediante la </a:t>
            </a:r>
            <a:r>
              <a:rPr b="0" i="1" lang="es-ES_tradnl" sz="1600" spc="-1" strike="noStrike">
                <a:solidFill>
                  <a:srgbClr val="009999"/>
                </a:solidFill>
                <a:latin typeface="Arial"/>
              </a:rPr>
              <a:t>fricción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, 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Para crear la fricción, se necesita una fuerza expans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4114800"/>
            <a:ext cx="1477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jempl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62120" y="5827680"/>
            <a:ext cx="169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Object 19" descr=""/>
          <p:cNvPicPr/>
          <p:nvPr/>
        </p:nvPicPr>
        <p:blipFill>
          <a:blip r:embed="rId5"/>
          <a:stretch/>
        </p:blipFill>
        <p:spPr>
          <a:xfrm>
            <a:off x="6095880" y="2895480"/>
            <a:ext cx="2743200" cy="2990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"/>
          <p:cNvPicPr/>
          <p:nvPr/>
        </p:nvPicPr>
        <p:blipFill>
          <a:blip r:embed="rId6"/>
          <a:stretch/>
        </p:blipFill>
        <p:spPr>
          <a:xfrm>
            <a:off x="660240" y="6458040"/>
            <a:ext cx="1387800" cy="268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73280" y="1600200"/>
            <a:ext cx="5135400" cy="2057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89120" y="1828800"/>
            <a:ext cx="5057640" cy="1700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172200" y="1600200"/>
            <a:ext cx="25909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La carga tensora, N, está en equilibrio con las fuerzas de soporte, R, que actúa sobre el material ba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6"/>
          <p:cNvGrpSpPr/>
          <p:nvPr/>
        </p:nvGrpSpPr>
        <p:grpSpPr>
          <a:xfrm>
            <a:off x="914400" y="4572000"/>
            <a:ext cx="1752480" cy="1528200"/>
            <a:chOff x="914400" y="4572000"/>
            <a:chExt cx="1752480" cy="152820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914400" y="4572000"/>
              <a:ext cx="175248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405080" y="5767920"/>
              <a:ext cx="54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H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9"/>
          <p:cNvGrpSpPr/>
          <p:nvPr/>
        </p:nvGrpSpPr>
        <p:grpSpPr>
          <a:xfrm>
            <a:off x="4419720" y="4495680"/>
            <a:ext cx="1676160" cy="1521720"/>
            <a:chOff x="4419720" y="4495680"/>
            <a:chExt cx="1676160" cy="1521720"/>
          </a:xfrm>
        </p:grpSpPr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4419720" y="4495680"/>
              <a:ext cx="1676160" cy="12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771440" y="5685120"/>
              <a:ext cx="912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HIT HY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73280" y="4114800"/>
            <a:ext cx="1477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jempl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6880" y="876240"/>
            <a:ext cx="703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Principios de Funcionamiento: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 Narrow"/>
              </a:rPr>
              <a:t>Área de so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Object 14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00200" cy="1077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276720" y="57150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H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Object 16" descr=""/>
          <p:cNvPicPr/>
          <p:nvPr/>
        </p:nvPicPr>
        <p:blipFill>
          <a:blip r:embed="rId5"/>
          <a:stretch/>
        </p:blipFill>
        <p:spPr>
          <a:xfrm>
            <a:off x="6324480" y="3200400"/>
            <a:ext cx="265284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73280" y="1447920"/>
            <a:ext cx="492408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1447920"/>
            <a:ext cx="260208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Produce una unión adhesiva entre la varilla o barra reforzada y el adhesivo y entre el adhesivo y el material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5"/>
          <p:cNvGrpSpPr/>
          <p:nvPr/>
        </p:nvGrpSpPr>
        <p:grpSpPr>
          <a:xfrm>
            <a:off x="2357640" y="4495680"/>
            <a:ext cx="1833480" cy="1538640"/>
            <a:chOff x="2357640" y="4495680"/>
            <a:chExt cx="1833480" cy="153864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2503440" y="4624560"/>
              <a:ext cx="163980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432160" y="4495680"/>
              <a:ext cx="1758960" cy="25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32160" y="5715000"/>
              <a:ext cx="1758960" cy="255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57640" y="5732280"/>
              <a:ext cx="1833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IT RE 500 + Barr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914400" y="4724280"/>
            <a:ext cx="1447920" cy="1067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38080" y="5715000"/>
            <a:ext cx="1524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VU + 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3280" y="4308480"/>
            <a:ext cx="1477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jempl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984240" y="1752480"/>
            <a:ext cx="4737240" cy="2057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"/>
          <p:cNvPicPr/>
          <p:nvPr/>
        </p:nvPicPr>
        <p:blipFill>
          <a:blip r:embed="rId4"/>
          <a:stretch/>
        </p:blipFill>
        <p:spPr>
          <a:xfrm>
            <a:off x="4267080" y="4724280"/>
            <a:ext cx="1393920" cy="10461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67080" y="5715000"/>
            <a:ext cx="22100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IT HY 150 + 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5320" y="685800"/>
            <a:ext cx="703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Principios de Funcionamiento: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 Narrow"/>
              </a:rPr>
              <a:t>Adh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Object 17" descr=""/>
          <p:cNvPicPr/>
          <p:nvPr/>
        </p:nvPicPr>
        <p:blipFill>
          <a:blip r:embed="rId5"/>
          <a:stretch/>
        </p:blipFill>
        <p:spPr>
          <a:xfrm>
            <a:off x="6019920" y="2971800"/>
            <a:ext cx="2895480" cy="2997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73280" y="6033960"/>
            <a:ext cx="7034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Formas de falla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09480" y="685800"/>
            <a:ext cx="703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Posibles formas de F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5029200"/>
            <a:ext cx="190512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alla del Hormig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o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62120" y="5827680"/>
            <a:ext cx="169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Object 5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650000" cy="3743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781680" y="4952880"/>
            <a:ext cx="1905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rte de la bar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4952880"/>
            <a:ext cx="190476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alla del Adhes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(con el acero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4952880"/>
            <a:ext cx="190512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alla del Adhes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(con el hormigón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9200" y="6019920"/>
            <a:ext cx="2744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Gama de Anclajes Hilti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8" descr=""/>
          <p:cNvPicPr/>
          <p:nvPr/>
        </p:nvPicPr>
        <p:blipFill>
          <a:blip r:embed="rId1"/>
          <a:stretch/>
        </p:blipFill>
        <p:spPr>
          <a:xfrm>
            <a:off x="7667640" y="1052640"/>
            <a:ext cx="831960" cy="507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9" descr=""/>
          <p:cNvPicPr/>
          <p:nvPr/>
        </p:nvPicPr>
        <p:blipFill>
          <a:blip r:embed="rId2"/>
          <a:stretch/>
        </p:blipFill>
        <p:spPr>
          <a:xfrm>
            <a:off x="6804000" y="1413000"/>
            <a:ext cx="676440" cy="479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0" descr=""/>
          <p:cNvPicPr/>
          <p:nvPr/>
        </p:nvPicPr>
        <p:blipFill>
          <a:blip r:embed="rId3"/>
          <a:stretch/>
        </p:blipFill>
        <p:spPr>
          <a:xfrm>
            <a:off x="4427640" y="3860640"/>
            <a:ext cx="476280" cy="366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1" descr=""/>
          <p:cNvPicPr/>
          <p:nvPr/>
        </p:nvPicPr>
        <p:blipFill>
          <a:blip r:embed="rId4"/>
          <a:stretch/>
        </p:blipFill>
        <p:spPr>
          <a:xfrm>
            <a:off x="2771640" y="3716280"/>
            <a:ext cx="785880" cy="513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2" descr=""/>
          <p:cNvPicPr/>
          <p:nvPr/>
        </p:nvPicPr>
        <p:blipFill>
          <a:blip r:embed="rId5"/>
          <a:stretch/>
        </p:blipFill>
        <p:spPr>
          <a:xfrm>
            <a:off x="5580000" y="1700280"/>
            <a:ext cx="1046160" cy="239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3" descr=""/>
          <p:cNvPicPr/>
          <p:nvPr/>
        </p:nvPicPr>
        <p:blipFill>
          <a:blip r:embed="rId6"/>
          <a:stretch/>
        </p:blipFill>
        <p:spPr>
          <a:xfrm>
            <a:off x="5580000" y="1916280"/>
            <a:ext cx="1008000" cy="2570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120" y="6019920"/>
            <a:ext cx="7924680" cy="228600"/>
          </a:xfrm>
          <a:prstGeom prst="rightArrow">
            <a:avLst>
              <a:gd name="adj1" fmla="val 50000"/>
              <a:gd name="adj2" fmla="val 710174"/>
            </a:avLst>
          </a:prstGeom>
          <a:solidFill>
            <a:srgbClr val="009999">
              <a:alpha val="50000"/>
            </a:srgbClr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5950080"/>
            <a:ext cx="1371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semp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7360" y="990720"/>
            <a:ext cx="350640" cy="5181480"/>
          </a:xfrm>
          <a:prstGeom prst="upArrow">
            <a:avLst>
              <a:gd name="adj1" fmla="val 40833"/>
              <a:gd name="adj2" fmla="val 348085"/>
            </a:avLst>
          </a:prstGeom>
          <a:solidFill>
            <a:srgbClr val="009999">
              <a:alpha val="50000"/>
            </a:srgbClr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214920" y="3756600"/>
            <a:ext cx="12067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31640" y="1038240"/>
            <a:ext cx="2948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Gama de Anclajes Hil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91080" y="4149720"/>
            <a:ext cx="1060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03280" y="4797360"/>
            <a:ext cx="6159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B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Group 37"/>
          <p:cNvGrpSpPr/>
          <p:nvPr/>
        </p:nvGrpSpPr>
        <p:grpSpPr>
          <a:xfrm>
            <a:off x="5148360" y="2349360"/>
            <a:ext cx="1520640" cy="774720"/>
            <a:chOff x="5148360" y="2349360"/>
            <a:chExt cx="1520640" cy="774720"/>
          </a:xfrm>
        </p:grpSpPr>
        <p:pic>
          <p:nvPicPr>
            <p:cNvPr id="184" name="Picture 38" descr=""/>
            <p:cNvPicPr/>
            <p:nvPr/>
          </p:nvPicPr>
          <p:blipFill>
            <a:blip r:embed="rId7"/>
            <a:stretch/>
          </p:blipFill>
          <p:spPr>
            <a:xfrm>
              <a:off x="5148360" y="2349360"/>
              <a:ext cx="81900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39" descr=""/>
            <p:cNvPicPr/>
            <p:nvPr/>
          </p:nvPicPr>
          <p:blipFill>
            <a:blip r:embed="rId8"/>
            <a:stretch/>
          </p:blipFill>
          <p:spPr>
            <a:xfrm>
              <a:off x="5148360" y="2881440"/>
              <a:ext cx="99360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5967360" y="2593800"/>
              <a:ext cx="7016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508720" y="1484280"/>
            <a:ext cx="633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V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93080" y="1773360"/>
            <a:ext cx="633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28000" y="1341360"/>
            <a:ext cx="633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45"/>
          <p:cNvGrpSpPr/>
          <p:nvPr/>
        </p:nvGrpSpPr>
        <p:grpSpPr>
          <a:xfrm>
            <a:off x="6227640" y="2133720"/>
            <a:ext cx="1428840" cy="782640"/>
            <a:chOff x="6227640" y="2133720"/>
            <a:chExt cx="1428840" cy="782640"/>
          </a:xfrm>
        </p:grpSpPr>
        <p:pic>
          <p:nvPicPr>
            <p:cNvPr id="191" name="Picture 46" descr=""/>
            <p:cNvPicPr/>
            <p:nvPr/>
          </p:nvPicPr>
          <p:blipFill>
            <a:blip r:embed="rId9"/>
            <a:stretch/>
          </p:blipFill>
          <p:spPr>
            <a:xfrm>
              <a:off x="6227640" y="2133720"/>
              <a:ext cx="846360" cy="61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Object 47" descr=""/>
            <p:cNvPicPr/>
            <p:nvPr/>
          </p:nvPicPr>
          <p:blipFill>
            <a:blip r:embed="rId10"/>
            <a:stretch/>
          </p:blipFill>
          <p:spPr>
            <a:xfrm>
              <a:off x="6227640" y="2809800"/>
              <a:ext cx="846360" cy="1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7021440" y="2416320"/>
              <a:ext cx="6350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4" name="Object 50" descr=""/>
          <p:cNvPicPr/>
          <p:nvPr/>
        </p:nvPicPr>
        <p:blipFill>
          <a:blip r:embed="rId11"/>
          <a:stretch/>
        </p:blipFill>
        <p:spPr>
          <a:xfrm>
            <a:off x="1979640" y="4869000"/>
            <a:ext cx="790560" cy="455400"/>
          </a:xfrm>
          <a:prstGeom prst="rect">
            <a:avLst/>
          </a:prstGeom>
          <a:ln w="0">
            <a:noFill/>
          </a:ln>
        </p:spPr>
      </p:pic>
      <p:pic>
        <p:nvPicPr>
          <p:cNvPr id="195" name="Object 51" descr=""/>
          <p:cNvPicPr/>
          <p:nvPr/>
        </p:nvPicPr>
        <p:blipFill>
          <a:blip r:embed="rId12"/>
          <a:stretch/>
        </p:blipFill>
        <p:spPr>
          <a:xfrm>
            <a:off x="1476360" y="5013360"/>
            <a:ext cx="533520" cy="385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780000" y="3284640"/>
            <a:ext cx="833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KB-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3280" y="2276640"/>
            <a:ext cx="1008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Y-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43640" y="2997360"/>
            <a:ext cx="838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E-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00360" y="3645000"/>
            <a:ext cx="6159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79640" y="4797360"/>
            <a:ext cx="6159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57" descr=""/>
          <p:cNvPicPr/>
          <p:nvPr/>
        </p:nvPicPr>
        <p:blipFill>
          <a:blip r:embed="rId13"/>
          <a:stretch/>
        </p:blipFill>
        <p:spPr>
          <a:xfrm>
            <a:off x="971640" y="5516640"/>
            <a:ext cx="436320" cy="504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8" descr=""/>
          <p:cNvPicPr/>
          <p:nvPr/>
        </p:nvPicPr>
        <p:blipFill>
          <a:blip r:embed="rId14"/>
          <a:stretch/>
        </p:blipFill>
        <p:spPr>
          <a:xfrm>
            <a:off x="3851280" y="3500280"/>
            <a:ext cx="1224000" cy="270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9" descr=""/>
          <p:cNvPicPr/>
          <p:nvPr/>
        </p:nvPicPr>
        <p:blipFill>
          <a:blip r:embed="rId15"/>
          <a:stretch/>
        </p:blipFill>
        <p:spPr>
          <a:xfrm>
            <a:off x="1619280" y="5445000"/>
            <a:ext cx="798480" cy="279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411280" y="5373720"/>
            <a:ext cx="7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gg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87280" y="5805360"/>
            <a:ext cx="6159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92360" y="4221000"/>
            <a:ext cx="7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T-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63" descr=""/>
          <p:cNvPicPr/>
          <p:nvPr/>
        </p:nvPicPr>
        <p:blipFill>
          <a:blip r:embed="rId16"/>
          <a:stretch/>
        </p:blipFill>
        <p:spPr>
          <a:xfrm>
            <a:off x="3578400" y="3860640"/>
            <a:ext cx="849240" cy="387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7"/>
          <a:stretch/>
        </p:blipFill>
        <p:spPr>
          <a:xfrm>
            <a:off x="1731960" y="5751360"/>
            <a:ext cx="679320" cy="1987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360520" y="5749920"/>
            <a:ext cx="6159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A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7800" y="6541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QUI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3840" y="1204920"/>
            <a:ext cx="2958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Sistema H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(HVU + 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22" descr=""/>
          <p:cNvPicPr/>
          <p:nvPr/>
        </p:nvPicPr>
        <p:blipFill>
          <a:blip r:embed="rId1"/>
          <a:stretch/>
        </p:blipFill>
        <p:spPr>
          <a:xfrm>
            <a:off x="6235560" y="2822400"/>
            <a:ext cx="2487600" cy="165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4" name="Picture 23" descr=""/>
          <p:cNvPicPr/>
          <p:nvPr/>
        </p:nvPicPr>
        <p:blipFill>
          <a:blip r:embed="rId2"/>
          <a:stretch/>
        </p:blipFill>
        <p:spPr>
          <a:xfrm>
            <a:off x="6235560" y="4578480"/>
            <a:ext cx="1754280" cy="1296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6137280" y="712800"/>
            <a:ext cx="2662200" cy="18716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8960" y="2281320"/>
            <a:ext cx="581832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Descripción del Producto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mpolla pre-dosificada Metacrilato Uretano de Vinilo (HVU) bi-componente para anclajes en diversas aplicacione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Ventajas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Desempeño de adherencia superior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do para soportar cargas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sísmicas y vibratorias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Bajo tiempo de curado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Gran resistencia a los ciclo de hielo y deshiel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Gran resistencia a la temperatur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xcelente resistencia al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ataque químico y ácid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7800" y="6541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QUI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3840" y="1204920"/>
            <a:ext cx="50418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Sistema HVA </a:t>
            </a: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(HVU + 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23" descr=""/>
          <p:cNvPicPr/>
          <p:nvPr/>
        </p:nvPicPr>
        <p:blipFill>
          <a:blip r:embed="rId1"/>
          <a:stretch/>
        </p:blipFill>
        <p:spPr>
          <a:xfrm>
            <a:off x="6616800" y="838080"/>
            <a:ext cx="1753920" cy="990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612800" y="2031840"/>
            <a:ext cx="6048360" cy="439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7T09:56:05Z</dcterms:created>
  <dc:creator>a.wieser</dc:creator>
  <dc:description/>
  <dc:language>en-US</dc:language>
  <cp:lastModifiedBy>urraher</cp:lastModifiedBy>
  <cp:lastPrinted>2002-08-07T11:29:47Z</cp:lastPrinted>
  <dcterms:modified xsi:type="dcterms:W3CDTF">2009-08-17T21:41:11Z</dcterms:modified>
  <cp:revision>276</cp:revision>
  <dc:subject/>
  <dc:title>Kein Folientitel</dc:title>
</cp:coreProperties>
</file>