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png" ContentType="image/png"/>
  <Override PartName="/ppt/media/image65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70.wmf" ContentType="image/x-wmf"/>
  <Override PartName="/ppt/media/image44.png" ContentType="image/png"/>
  <Override PartName="/ppt/media/image75.jpeg" ContentType="image/jpeg"/>
  <Override PartName="/ppt/media/image42.jpeg" ContentType="image/jpeg"/>
  <Override PartName="/ppt/media/image59.jpeg" ContentType="image/jpeg"/>
  <Override PartName="/ppt/media/image83.png" ContentType="image/pn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7.wmf" ContentType="image/x-wmf"/>
  <Override PartName="/ppt/media/image69.wmf" ContentType="image/x-wmf"/>
  <Override PartName="/ppt/media/image21.jpeg" ContentType="image/jpeg"/>
  <Override PartName="/ppt/media/image22.wmf" ContentType="image/x-wmf"/>
  <Override PartName="/ppt/media/image60.jpeg" ContentType="image/jpeg"/>
  <Override PartName="/ppt/media/image6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58.jpeg" ContentType="image/jpeg"/>
  <Override PartName="/ppt/media/image73.png" ContentType="image/png"/>
  <Override PartName="/ppt/media/image19.wmf" ContentType="image/x-wmf"/>
  <Override PartName="/ppt/media/image67.jpeg" ContentType="image/jpeg"/>
  <Override PartName="/ppt/media/image5.jpeg" ContentType="image/jpeg"/>
  <Override PartName="/ppt/media/image62.jpeg" ContentType="image/jpeg"/>
  <Override PartName="/ppt/media/image84.png" ContentType="image/png"/>
  <Override PartName="/ppt/media/image85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9.jpeg" ContentType="image/jpeg"/>
  <Override PartName="/ppt/media/image79.wmf" ContentType="image/x-wmf"/>
  <Override PartName="/ppt/media/image74.jpeg" ContentType="image/jpeg"/>
  <Override PartName="/ppt/media/image68.png" ContentType="image/png"/>
  <Override PartName="/ppt/media/image80.png" ContentType="image/png"/>
  <Override PartName="/ppt/media/image38.png" ContentType="image/png"/>
  <Override PartName="/ppt/media/image78.png" ContentType="image/png"/>
  <Override PartName="/ppt/media/image76.jpeg" ContentType="image/jpeg"/>
  <Override PartName="/ppt/media/image63.jpeg" ContentType="image/jpeg"/>
  <Override PartName="/ppt/media/image6.jpeg" ContentType="image/jpeg"/>
  <Override PartName="/ppt/media/image14.wmf" ContentType="image/x-wmf"/>
  <Override PartName="/ppt/media/image57.png" ContentType="image/png"/>
  <Override PartName="/ppt/media/image41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media/image11.jpeg" ContentType="image/jpeg"/>
  <Override PartName="/ppt/media/image27.png" ContentType="image/png"/>
  <Override PartName="/ppt/media/image20.jpeg" ContentType="image/jpeg"/>
  <Override PartName="/ppt/media/image12.wmf" ContentType="image/x-wmf"/>
  <Override PartName="/ppt/media/image81.png" ContentType="image/png"/>
  <Override PartName="/ppt/media/image16.png" ContentType="image/png"/>
  <Override PartName="/ppt/media/image7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82.png" ContentType="image/png"/>
  <Override PartName="/ppt/media/image56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6C5DA4-C7D7-461F-B74B-794632C8E1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3280B8-797C-4DDB-9EA7-8D14D34580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AD2B76-327A-4897-8662-C4392A3D19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3162B8-701C-46A1-877C-6453C54A18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C7A520-FED6-4346-9D26-EB5843896B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651D04-FD0D-4BA2-B4FA-12067507B0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AF70FC-E083-4B2A-A80B-58B66F404F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AF5F96-D8DA-445B-8BA3-68A241A648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F8C05D-7C8E-4250-9D9B-363382669B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40A965-37B2-420C-8FAA-59ED0ED4B9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14FB18-988F-4805-9DDB-21A26CE30E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B165C7-6852-4319-AFAE-0B30616FF6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35166F-A91B-40F3-9B3F-A2C7E0F284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3D2BB7-9832-447D-88EA-150BAA42AF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2187B1-AC34-4E17-99B3-6D41269B29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067D3A-2BF7-41DB-80FB-DD78285D72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C454CB-9363-4EC8-90F9-6D6ADE003D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2D1C619-1265-48F2-929F-DE5FF1523C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A81158F-EFBB-4FAC-A3B4-3EA85E24BA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07AFFE4-DD24-4085-A3EC-D942C915FF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3240" y="5634720"/>
            <a:ext cx="120024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B77C94-7282-4ADC-BB27-A291A2C26E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C79C7E-7F9F-47D0-8FAA-6136A2E8A6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AE3-630D-4863-A934-DDA631B0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812-954D-4AE3-A06F-8922EFD1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3DE-72EE-48B7-B8B9-5FDCDF79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A26-ACCE-412A-A5E8-6DA36B7D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8467-E55C-4F69-8D46-098BC489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7D0-9F1C-4AF3-81C8-A3A89627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7AA-1344-4EE7-AC34-091BE8E0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891-A3E1-40FE-99FE-08E4270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B465-B4C6-4552-BDF9-A18DBF78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F47A-7948-40F1-A689-19F80E17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D88-746D-4901-B637-BE2159C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E4E-DD1E-4E27-85CD-F2AAC83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348-B2DA-40C5-A7A7-B5E4EBF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9B9E-667B-45B1-B23A-5ABAF46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8459-EA89-48DF-8F9E-1279212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963-0DEF-43F6-8261-74A2C178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40CA-641F-46B9-BE4E-7EDAAE80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BDA-4FC9-4D53-8796-076E4AFC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B66-C079-40FA-977E-DDE486E0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807-C565-40BF-A4C9-63A8F2DC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39B-90C6-4F29-B66C-8DB12012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225-B5D8-4700-BDD7-5DAE953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DBE-A0E2-4D48-BDD3-E16494E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A1F-944F-4070-A2F3-972F294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050C-4669-4EE8-9964-65F4C54E8D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62004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8400" y="54000"/>
            <a:ext cx="143172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5640" y="0"/>
            <a:ext cx="253836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10360" y="195120"/>
            <a:ext cx="1782720" cy="1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29E9-FE1A-46EB-9691-F8122016B7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5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55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1795320" cy="131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522520"/>
            <a:ext cx="50641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epóxica bi-componente para anclajes en diferentes materiales base como hormigón, piedra natural, grout, madera et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cargas sísm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Pequeños diámetros de perfor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instalado inclusive bajo agu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 la interp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2"/>
          <a:stretch/>
        </p:blipFill>
        <p:spPr>
          <a:xfrm>
            <a:off x="5597640" y="5065560"/>
            <a:ext cx="1438200" cy="7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3"/>
          <a:stretch/>
        </p:blipFill>
        <p:spPr>
          <a:xfrm>
            <a:off x="4327560" y="525312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4"/>
          <a:stretch/>
        </p:blipFill>
        <p:spPr>
          <a:xfrm>
            <a:off x="7035840" y="476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5"/>
          <a:stretch/>
        </p:blipFill>
        <p:spPr>
          <a:xfrm>
            <a:off x="6280200" y="2833560"/>
            <a:ext cx="2394000" cy="17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18" descr=""/>
          <p:cNvPicPr/>
          <p:nvPr/>
        </p:nvPicPr>
        <p:blipFill>
          <a:blip r:embed="rId6"/>
          <a:stretch/>
        </p:blipFill>
        <p:spPr>
          <a:xfrm>
            <a:off x="5299200" y="4764240"/>
            <a:ext cx="1574640" cy="301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280200" y="654120"/>
            <a:ext cx="2394000" cy="201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51160" y="984240"/>
            <a:ext cx="1795680" cy="131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5224320" y="136836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3"/>
          <a:stretch/>
        </p:blipFill>
        <p:spPr>
          <a:xfrm>
            <a:off x="7012080" y="98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5224320" y="984240"/>
            <a:ext cx="1575000" cy="30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539720" y="25146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7186680" y="457200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2"/>
          <a:stretch/>
        </p:blipFill>
        <p:spPr>
          <a:xfrm>
            <a:off x="3206880" y="109872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6632640" y="723960"/>
            <a:ext cx="1855800" cy="1523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6694560" y="2514600"/>
            <a:ext cx="18540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8" name="Picture 21" descr=""/>
          <p:cNvPicPr/>
          <p:nvPr/>
        </p:nvPicPr>
        <p:blipFill>
          <a:blip r:embed="rId5"/>
          <a:stretch/>
        </p:blipFill>
        <p:spPr>
          <a:xfrm>
            <a:off x="6122880" y="5156280"/>
            <a:ext cx="15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4518000" y="5270400"/>
            <a:ext cx="156060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3" descr=""/>
          <p:cNvPicPr/>
          <p:nvPr/>
        </p:nvPicPr>
        <p:blipFill>
          <a:blip r:embed="rId7"/>
          <a:stretch/>
        </p:blipFill>
        <p:spPr>
          <a:xfrm>
            <a:off x="5299200" y="476244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960" y="2281320"/>
            <a:ext cx="506412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Hibrida (metacrilato-cemento) bi-componente para anclajes en diferentes materiales base como hormigón, piedra natural y grou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temperatura (soldadura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"/>
          <p:cNvPicPr/>
          <p:nvPr/>
        </p:nvPicPr>
        <p:blipFill>
          <a:blip r:embed="rId1"/>
          <a:stretch/>
        </p:blipFill>
        <p:spPr>
          <a:xfrm>
            <a:off x="7099200" y="88596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3206880" y="88596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"/>
          <p:cNvPicPr/>
          <p:nvPr/>
        </p:nvPicPr>
        <p:blipFill>
          <a:blip r:embed="rId3"/>
          <a:stretch/>
        </p:blipFill>
        <p:spPr>
          <a:xfrm>
            <a:off x="5291280" y="1450800"/>
            <a:ext cx="156024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"/>
          <p:cNvPicPr/>
          <p:nvPr/>
        </p:nvPicPr>
        <p:blipFill>
          <a:blip r:embed="rId4"/>
          <a:stretch/>
        </p:blipFill>
        <p:spPr>
          <a:xfrm>
            <a:off x="5291280" y="102060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25680" y="22986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bject 16" descr=""/>
          <p:cNvPicPr/>
          <p:nvPr/>
        </p:nvPicPr>
        <p:blipFill>
          <a:blip r:embed="rId1"/>
          <a:stretch/>
        </p:blipFill>
        <p:spPr>
          <a:xfrm>
            <a:off x="2679840" y="98280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2"/>
          <a:stretch/>
        </p:blipFill>
        <p:spPr>
          <a:xfrm>
            <a:off x="6566040" y="2813040"/>
            <a:ext cx="2157120" cy="311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6238800" y="774720"/>
            <a:ext cx="2484360" cy="1866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extra-fuerte, especialmente diseñado para cargas dinámicas y pes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traordinari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, vibratorias e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isa metálica que otorga capacidad al corte adicion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propiado para ser instalado en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hormigón fisur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uerza de expansión controlad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Object 16" descr=""/>
          <p:cNvPicPr/>
          <p:nvPr/>
        </p:nvPicPr>
        <p:blipFill>
          <a:blip r:embed="rId1"/>
          <a:stretch/>
        </p:blipFill>
        <p:spPr>
          <a:xfrm>
            <a:off x="6578640" y="65412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879560" y="2359080"/>
            <a:ext cx="5168880" cy="387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34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KB -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0200" y="654120"/>
            <a:ext cx="2637000" cy="175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22800" y="2505240"/>
            <a:ext cx="2637000" cy="177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8" name="Picture 17" descr=""/>
          <p:cNvPicPr/>
          <p:nvPr/>
        </p:nvPicPr>
        <p:blipFill>
          <a:blip r:embed="rId3"/>
          <a:stretch/>
        </p:blipFill>
        <p:spPr>
          <a:xfrm>
            <a:off x="6022800" y="4359240"/>
            <a:ext cx="263700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18" descr=""/>
          <p:cNvPicPr/>
          <p:nvPr/>
        </p:nvPicPr>
        <p:blipFill>
          <a:blip r:embed="rId4"/>
          <a:stretch/>
        </p:blipFill>
        <p:spPr>
          <a:xfrm>
            <a:off x="2171880" y="1336680"/>
            <a:ext cx="2779560" cy="611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de una sola cuña que actúa como tres independientes que proporcionas resistencias medianas a fuert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instalado en agujeros sin fon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ntificación de longitud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 rendimiento en perforaciones diamant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943520" y="1643040"/>
            <a:ext cx="99072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960" y="13572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6" descr=""/>
          <p:cNvPicPr/>
          <p:nvPr/>
        </p:nvPicPr>
        <p:blipFill>
          <a:blip r:embed="rId1"/>
          <a:stretch/>
        </p:blipFill>
        <p:spPr>
          <a:xfrm>
            <a:off x="2162160" y="1028880"/>
            <a:ext cx="1851120" cy="1315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2"/>
          <a:stretch/>
        </p:blipFill>
        <p:spPr>
          <a:xfrm>
            <a:off x="5921280" y="679320"/>
            <a:ext cx="281808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3"/>
          <a:stretch/>
        </p:blipFill>
        <p:spPr>
          <a:xfrm>
            <a:off x="5921280" y="2535120"/>
            <a:ext cx="2808360" cy="16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318960" y="2484360"/>
            <a:ext cx="58183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rosca interna con cono de expansión para ser instalado en hormig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dad de carga median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ca profundidad de empotra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alación al ras para insertar varillas rosc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al para instalaciones repetitiv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191120" y="1357200"/>
            <a:ext cx="1092240" cy="6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921280" y="4395960"/>
            <a:ext cx="280836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766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7925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EORIA DE DISEÑO DE ANCL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9280" y="2133720"/>
            <a:ext cx="3855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3440" y="83664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¿Qué es un Ancl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19" descr=""/>
          <p:cNvPicPr/>
          <p:nvPr/>
        </p:nvPicPr>
        <p:blipFill>
          <a:blip r:embed="rId1"/>
          <a:stretch/>
        </p:blipFill>
        <p:spPr>
          <a:xfrm>
            <a:off x="3809880" y="1100160"/>
            <a:ext cx="1524240" cy="46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795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anclaje es un elemento estructural que tiene la propiedad de fijar un material a otro que hace las veces de 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1814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3526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1600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a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124080"/>
            <a:ext cx="990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029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616428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s de funcionamient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01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diseño tradicional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00" y="5448240"/>
            <a:ext cx="801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 fontScale="94000"/>
          </a:bodyPr>
          <a:p>
            <a:pPr lvl="1" marL="17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lmente, los datos obtenidos por los anclajes HILTI, se ajustan a la norma ETAG (anexo C) y el ACI 318 (apéndice D) para CC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9240" y="2115360"/>
            <a:ext cx="1233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 Clá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4400" y="2115360"/>
            <a:ext cx="1649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ad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5960" y="1788120"/>
            <a:ext cx="1991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conserv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323080"/>
            <a:ext cx="31528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información del comportamiento en l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240" y="3018960"/>
            <a:ext cx="22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stado de arte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840" y="3758400"/>
            <a:ext cx="1838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pacidad del hormig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1000" y="3758400"/>
            <a:ext cx="1541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 ro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7320" y="3361320"/>
            <a:ext cx="20354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bastante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65000" y="4006080"/>
            <a:ext cx="257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entre modos de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9320" y="4564440"/>
            <a:ext cx="246816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de coeficiente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uridad para tipo de carg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00000">
            <a:off x="4354560" y="239724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100000">
            <a:off x="4354200" y="200016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86064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00068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100000">
            <a:off x="4551120" y="364320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00000">
            <a:off x="4551480" y="434196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7560" y="782640"/>
            <a:ext cx="7635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, Condiciones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clar soporte tipo bracket para suportación de tubería de 6”  a pilar de hormigón en planta de procesos indust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querimientos del lugar de instalación  (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eselección del anclaje adecuad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ntes de determinar mediante calculo, secciones tipo de acero y empotramientos se debe seleccionar el sistema adecuado.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782640"/>
            <a:ext cx="6721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Inici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paración entre soportes  4 m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so de la tubería 50 kgf/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lar de sección 50 x 50 c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igón H30 (4000p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8360" y="2924280"/>
            <a:ext cx="5283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80040" y="0"/>
            <a:ext cx="3063960" cy="54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70000" y="704880"/>
            <a:ext cx="6856560" cy="545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89560" y="2529000"/>
            <a:ext cx="758880" cy="569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89560" y="1725120"/>
            <a:ext cx="0" cy="70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2160" y="1389240"/>
            <a:ext cx="157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, 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= 103,5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800" y="2427120"/>
            <a:ext cx="159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T,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= 287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754200"/>
            <a:ext cx="686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lección anclaje adec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bemos seleccionar un anclaje según la condición requer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24480" y="3679920"/>
            <a:ext cx="3429000" cy="2535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73200" y="4167360"/>
            <a:ext cx="3075120" cy="2047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0480" y="36576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STEMA H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676440"/>
            <a:ext cx="6589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propone analizar para un anclaje del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VU + HAS – E Estandar 3/8” x 6.1/2” (EMP = 5 ¼”)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ADH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419640"/>
            <a:ext cx="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9440" y="2252520"/>
            <a:ext cx="7912080" cy="403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01720" y="4395960"/>
            <a:ext cx="5052960" cy="4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partamento de Ingenieria, Tel 6553043; 6553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773280" y="1371600"/>
            <a:ext cx="4431960" cy="2514600"/>
            <a:chOff x="773280" y="1371600"/>
            <a:chExt cx="4431960" cy="2514600"/>
          </a:xfrm>
        </p:grpSpPr>
        <p:sp>
          <p:nvSpPr>
            <p:cNvPr id="115" name=""/>
            <p:cNvSpPr/>
            <p:nvPr/>
          </p:nvSpPr>
          <p:spPr>
            <a:xfrm>
              <a:off x="773280" y="1371600"/>
              <a:ext cx="4431960" cy="2438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241280" y="1476360"/>
              <a:ext cx="37530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R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09480" y="4572000"/>
            <a:ext cx="1676520" cy="1416960"/>
            <a:chOff x="609480" y="4572000"/>
            <a:chExt cx="1676520" cy="14169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75600" y="5656680"/>
              <a:ext cx="61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KB-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286000" y="4572000"/>
            <a:ext cx="1781280" cy="1416960"/>
            <a:chOff x="2286000" y="4572000"/>
            <a:chExt cx="1781280" cy="1416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572000"/>
              <a:ext cx="17812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55440" y="5656680"/>
              <a:ext cx="52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4038480" y="4572000"/>
            <a:ext cx="1676520" cy="1416960"/>
            <a:chOff x="4038480" y="4572000"/>
            <a:chExt cx="1676520" cy="141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038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68760" y="565668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137160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se transfiere al material base mediante la </a:t>
            </a:r>
            <a:r>
              <a:rPr b="0" i="1" lang="es-ES_tradnl" sz="1600" spc="-1" strike="noStrike">
                <a:solidFill>
                  <a:srgbClr val="009999"/>
                </a:solidFill>
                <a:latin typeface="Arial"/>
              </a:rPr>
              <a:t>fric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,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ara crear la fricción, se necesita una fuerza expan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5"/>
          <a:stretch/>
        </p:blipFill>
        <p:spPr>
          <a:xfrm>
            <a:off x="6095880" y="2895480"/>
            <a:ext cx="2743200" cy="29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6"/>
          <a:stretch/>
        </p:blipFill>
        <p:spPr>
          <a:xfrm>
            <a:off x="660240" y="6458040"/>
            <a:ext cx="138780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3280" y="1600200"/>
            <a:ext cx="5135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9120" y="1828800"/>
            <a:ext cx="5057640" cy="170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1600200"/>
            <a:ext cx="259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está en equilibrio con las fuerzas de soporte, R, que actúa sobre el material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914400" y="4572000"/>
            <a:ext cx="1752480" cy="1528200"/>
            <a:chOff x="914400" y="4572000"/>
            <a:chExt cx="1752480" cy="1528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7524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5080" y="576792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419720" y="4495680"/>
            <a:ext cx="1676160" cy="1521720"/>
            <a:chOff x="4419720" y="4495680"/>
            <a:chExt cx="1676160" cy="1521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16761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71440" y="56851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IT HY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7328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87624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Área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14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0020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57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6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3280" y="1447920"/>
            <a:ext cx="492408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447920"/>
            <a:ext cx="2602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roduce una unión adhesiva entre la varilla o barra reforzada y el adhesivo y entre el adhesivo y el material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357640" y="4495680"/>
            <a:ext cx="1833480" cy="1538640"/>
            <a:chOff x="2357640" y="4495680"/>
            <a:chExt cx="1833480" cy="1538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503440" y="4624560"/>
              <a:ext cx="1639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32160" y="4495680"/>
              <a:ext cx="17589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2160" y="5715000"/>
              <a:ext cx="175896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7640" y="5732280"/>
              <a:ext cx="18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T RE 500 + Bar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447920" cy="106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715000"/>
            <a:ext cx="152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VU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430848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84240" y="1752480"/>
            <a:ext cx="47372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39392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2210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T HY 150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Ad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7" descr=""/>
          <p:cNvPicPr/>
          <p:nvPr/>
        </p:nvPicPr>
        <p:blipFill>
          <a:blip r:embed="rId5"/>
          <a:stretch/>
        </p:blipFill>
        <p:spPr>
          <a:xfrm>
            <a:off x="6019920" y="2971800"/>
            <a:ext cx="289548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3280" y="603396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rmas de fall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sibles formas de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02920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Hormi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o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50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952880"/>
            <a:ext cx="1905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te de la bar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952880"/>
            <a:ext cx="1904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acer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95288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hormigó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200" y="6019920"/>
            <a:ext cx="274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ama de Anclajes Hilti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83196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676440" cy="47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476280" cy="36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785880" cy="51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46160" cy="2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"/>
          <p:cNvPicPr/>
          <p:nvPr/>
        </p:nvPicPr>
        <p:blipFill>
          <a:blip r:embed="rId6"/>
          <a:stretch/>
        </p:blipFill>
        <p:spPr>
          <a:xfrm>
            <a:off x="5580000" y="1916280"/>
            <a:ext cx="1008000" cy="25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7924680" cy="228600"/>
          </a:xfrm>
          <a:prstGeom prst="rightArrow">
            <a:avLst>
              <a:gd name="adj1" fmla="val 50000"/>
              <a:gd name="adj2" fmla="val 710174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9500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360" y="990720"/>
            <a:ext cx="350640" cy="5181480"/>
          </a:xfrm>
          <a:prstGeom prst="upArrow">
            <a:avLst>
              <a:gd name="adj1" fmla="val 40833"/>
              <a:gd name="adj2" fmla="val 348085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4920" y="3756600"/>
            <a:ext cx="1206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1640" y="1038240"/>
            <a:ext cx="294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ama de Anclajes Hi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1080" y="4149720"/>
            <a:ext cx="106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5148360" y="2349360"/>
            <a:ext cx="1520640" cy="774720"/>
            <a:chOff x="5148360" y="2349360"/>
            <a:chExt cx="1520640" cy="774720"/>
          </a:xfrm>
        </p:grpSpPr>
        <p:pic>
          <p:nvPicPr>
            <p:cNvPr id="184" name="Picture 38" descr=""/>
            <p:cNvPicPr/>
            <p:nvPr/>
          </p:nvPicPr>
          <p:blipFill>
            <a:blip r:embed="rId7"/>
            <a:stretch/>
          </p:blipFill>
          <p:spPr>
            <a:xfrm>
              <a:off x="5148360" y="2349360"/>
              <a:ext cx="819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9" descr=""/>
            <p:cNvPicPr/>
            <p:nvPr/>
          </p:nvPicPr>
          <p:blipFill>
            <a:blip r:embed="rId8"/>
            <a:stretch/>
          </p:blipFill>
          <p:spPr>
            <a:xfrm>
              <a:off x="5148360" y="2881440"/>
              <a:ext cx="9936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67360" y="2593800"/>
              <a:ext cx="701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8720" y="148428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1773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1341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5"/>
          <p:cNvGrpSpPr/>
          <p:nvPr/>
        </p:nvGrpSpPr>
        <p:grpSpPr>
          <a:xfrm>
            <a:off x="6227640" y="2133720"/>
            <a:ext cx="1428840" cy="782640"/>
            <a:chOff x="6227640" y="2133720"/>
            <a:chExt cx="1428840" cy="782640"/>
          </a:xfrm>
        </p:grpSpPr>
        <p:pic>
          <p:nvPicPr>
            <p:cNvPr id="191" name="Picture 46" descr=""/>
            <p:cNvPicPr/>
            <p:nvPr/>
          </p:nvPicPr>
          <p:blipFill>
            <a:blip r:embed="rId9"/>
            <a:stretch/>
          </p:blipFill>
          <p:spPr>
            <a:xfrm>
              <a:off x="6227640" y="2133720"/>
              <a:ext cx="8463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Object 47" descr=""/>
            <p:cNvPicPr/>
            <p:nvPr/>
          </p:nvPicPr>
          <p:blipFill>
            <a:blip r:embed="rId10"/>
            <a:stretch/>
          </p:blipFill>
          <p:spPr>
            <a:xfrm>
              <a:off x="6227640" y="2809800"/>
              <a:ext cx="8463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1440" y="2416320"/>
              <a:ext cx="635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Object 50" descr=""/>
          <p:cNvPicPr/>
          <p:nvPr/>
        </p:nvPicPr>
        <p:blipFill>
          <a:blip r:embed="rId11"/>
          <a:stretch/>
        </p:blipFill>
        <p:spPr>
          <a:xfrm>
            <a:off x="1979640" y="4869000"/>
            <a:ext cx="790560" cy="4554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51" descr=""/>
          <p:cNvPicPr/>
          <p:nvPr/>
        </p:nvPicPr>
        <p:blipFill>
          <a:blip r:embed="rId12"/>
          <a:stretch/>
        </p:blipFill>
        <p:spPr>
          <a:xfrm>
            <a:off x="1476360" y="5013360"/>
            <a:ext cx="53352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3284640"/>
            <a:ext cx="83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B-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276640"/>
            <a:ext cx="1008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299736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64500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"/>
          <p:cNvPicPr/>
          <p:nvPr/>
        </p:nvPicPr>
        <p:blipFill>
          <a:blip r:embed="rId13"/>
          <a:stretch/>
        </p:blipFill>
        <p:spPr>
          <a:xfrm>
            <a:off x="971640" y="5516640"/>
            <a:ext cx="43632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14"/>
          <a:stretch/>
        </p:blipFill>
        <p:spPr>
          <a:xfrm>
            <a:off x="3851280" y="3500280"/>
            <a:ext cx="1224000" cy="27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5"/>
          <a:stretch/>
        </p:blipFill>
        <p:spPr>
          <a:xfrm>
            <a:off x="1619280" y="5445000"/>
            <a:ext cx="7984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11280" y="537372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gg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805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22100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T-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3" descr=""/>
          <p:cNvPicPr/>
          <p:nvPr/>
        </p:nvPicPr>
        <p:blipFill>
          <a:blip r:embed="rId16"/>
          <a:stretch/>
        </p:blipFill>
        <p:spPr>
          <a:xfrm>
            <a:off x="3578400" y="3860640"/>
            <a:ext cx="84924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731960" y="5751360"/>
            <a:ext cx="679320" cy="1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0520" y="574992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3840" y="1204920"/>
            <a:ext cx="295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1"/>
          <a:stretch/>
        </p:blipFill>
        <p:spPr>
          <a:xfrm>
            <a:off x="6235560" y="2822400"/>
            <a:ext cx="2487600" cy="16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6235560" y="4578480"/>
            <a:ext cx="1754280" cy="129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37280" y="712800"/>
            <a:ext cx="2662200" cy="1871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8960" y="2281320"/>
            <a:ext cx="581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mpolla pre-dosificada Metacrilato Uretano de Vinilo (HVU) bi-componente para anclajes en diversas aplicacion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sísmicas y vibratori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os ciclo de hielo y deshie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temperatu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40" y="1204920"/>
            <a:ext cx="504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6616800" y="838080"/>
            <a:ext cx="1753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12800" y="2031840"/>
            <a:ext cx="6048360" cy="43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56:05Z</dcterms:created>
  <dc:creator>a.wieser</dc:creator>
  <dc:description/>
  <dc:language>en-US</dc:language>
  <cp:lastModifiedBy>urraher</cp:lastModifiedBy>
  <cp:lastPrinted>2002-08-07T11:29:47Z</cp:lastPrinted>
  <dcterms:modified xsi:type="dcterms:W3CDTF">2009-08-17T21:41:11Z</dcterms:modified>
  <cp:revision>276</cp:revision>
  <dc:subject/>
  <dc:title>Kein Folientitel</dc:title>
</cp:coreProperties>
</file>