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3C61-9217-4081-8413-BEA967DD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420A-5A32-4DAB-86B8-6707729E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61AF-149C-4B0D-8093-870278E33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F513-BDD3-4B4B-B4B9-35B62846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4B9A-962A-47E5-97E9-EFFA2F29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EA5-CA89-4DD8-9DB1-F6035292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6E26-BFC9-4764-A63A-9CD1A157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738E-E680-4400-AA4F-101BDA40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4769-2EC0-412F-A476-B7D263B6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6BDF-E7CD-4D9E-81DE-3B5BBE09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8F8D-26AC-44F0-9231-445C0815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8EF3-6605-4FCB-AB7D-2A3B203E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CB2B-72D1-48C7-BEF2-ECDF8A0BE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L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SEMESTRE PRIMAVERA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oveer al alumno de los fundamentos de los mecanismos asociados con remediación y restauración de suelos y aguas subterráneas, los que le permitan abordar el diagnóstico y solución de problemas complejos, asociados con contaminación de suelos y aguas subterrán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MI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  9:00 - 12:00  (Cátedra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TEM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UELO Y SISTEMAS ACUIF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NSPORTE Y DESTINO DE CONTAMINANTES EN AGUAS SUBTERRAN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MICROBIOLOGIA, METABOLISMO Y BIOQUI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DE COMPUESTOS SELECCIO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Y ATENUACION 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IN SI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O/LIQU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BIOLOGICO EN FASE GASE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OTROS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8:12:03Z</dcterms:created>
  <dc:creator>Carlos Espinoza</dc:creator>
  <dc:description/>
  <dc:language>en-US</dc:language>
  <cp:lastModifiedBy>Carlos Espinoza</cp:lastModifiedBy>
  <cp:lastPrinted>2004-08-06T18:14:12Z</cp:lastPrinted>
  <dcterms:modified xsi:type="dcterms:W3CDTF">2009-08-05T07:23:55Z</dcterms:modified>
  <cp:revision>27</cp:revision>
  <dc:subject/>
  <dc:title>CI71M PRINCIPIOS DE REMEDIACION Y RESTAURACION</dc:title>
</cp:coreProperties>
</file>