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C3DD-E345-485F-8234-20529041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B0EB-9838-4547-815C-3848CBC8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B299-1B1B-405D-B132-18DA97C20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B000-E92C-4C0F-BCB8-B956FE8B4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599C-5D9C-4641-8280-AEDB936C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27BC-9168-4984-A709-114371B6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69A3-8C13-418B-8B83-386ADB58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77EB-362C-47EB-B21C-D9853CDF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F93A-5DA9-439F-B492-B852D0D5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C31A-8D8E-443C-9960-5BD547FA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E06D-E235-4E70-8E3F-4DCBD5E3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44FC-AD6A-4844-9C9B-BEE9C614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1551-67C5-4686-92F2-F69E7E9FF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LAS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INTRODUC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SEMESTRE PRIMAVERA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Comic Sans MS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roveer al alumno de los fundamentos de los mecanismos asociados con remediación y restauración de suelos y aguas subterráneas, los que le permitan abordar el diagnóstico y solución de problemas complejos, asociados con contaminación de suelos y aguas subterrán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MI 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  9:00 - 12:00  (Cátedra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TEM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INTRODUC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UELO Y SISTEMAS ACUIF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NSPORTE Y DESTINO DE CONTAMINANTES EN AGUAS SUBTERRAN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MICROBIOLOGIA, METABOLISMO Y BIOQUI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GRADACION DE COMPUESTOS SELECCION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GRADACION Y ATENUACION NA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TAMIENTO IN SI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MEDIACION EN FASE SO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MEDIACION EN FASE SOLIDO/LIQU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TAMIENTO BIOLOGICO EN FASE GASE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OTROS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18:12:03Z</dcterms:created>
  <dc:creator>Carlos Espinoza</dc:creator>
  <dc:description/>
  <dc:language>en-US</dc:language>
  <cp:lastModifiedBy>Carlos Espinoza</cp:lastModifiedBy>
  <cp:lastPrinted>2004-08-06T18:14:12Z</cp:lastPrinted>
  <dcterms:modified xsi:type="dcterms:W3CDTF">2009-08-05T07:23:55Z</dcterms:modified>
  <cp:revision>27</cp:revision>
  <dc:subject/>
  <dc:title>CI71M PRINCIPIOS DE REMEDIACION Y RESTAURACION</dc:title>
</cp:coreProperties>
</file>