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8859-0A85-4154-8E7D-F0C1303FA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C16E-9017-4F38-B136-EAAA62FB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BB75-A8DA-4930-A13A-313E074F9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55FF-3D5D-42C7-8374-7D26CB0CB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1AA5-4BC8-4ABF-B405-B1F24B6B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6C83-0219-4FAA-B4D1-8E6B400E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E982-AE33-4030-AEC6-944EC884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4F6B-D312-4852-BA40-85791FC3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AF11-AF4F-4F50-848C-370465DC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8078-CF0B-49B7-8307-F8AAB58D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64A8-D270-4D36-9266-E4BD3F48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8177-ACE6-417B-ACF9-D16792DF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EF05-A832-41F3-8B2C-38658CD8F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LAS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INTRODUC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SEMESTRE PRIMAVERA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Comic Sans MS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roveer al alumno de los fundamentos de los mecanismos asociados con remediación y restauración de suelos y aguas subterráneas, los que le permitan abordar el diagnóstico y solución de problemas complejos, asociados con contaminación de suelos y aguas subterrán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MI 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  9:00 - 12:00  (Cátedra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TEM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INTRODUC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SUELO Y SISTEMAS ACUIF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NSPORTE Y DESTINO DE CONTAMINANTES EN AGUAS SUBTERRAN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MICROBIOLOGIA, METABOLISMO Y BIOQUI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GRADACION DE COMPUESTOS SELECCION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GRADACION Y ATENUACION NA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TAMIENTO IN SI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REMEDIACION EN FASE SO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REMEDIACION EN FASE SOLIDO/LIQU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TAMIENTO BIOLOGICO EN FASE GASE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OTROS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18:12:03Z</dcterms:created>
  <dc:creator>Carlos Espinoza</dc:creator>
  <dc:description/>
  <dc:language>en-US</dc:language>
  <cp:lastModifiedBy>Carlos Espinoza</cp:lastModifiedBy>
  <cp:lastPrinted>2004-08-06T18:14:12Z</cp:lastPrinted>
  <dcterms:modified xsi:type="dcterms:W3CDTF">2009-08-05T07:23:55Z</dcterms:modified>
  <cp:revision>27</cp:revision>
  <dc:subject/>
  <dc:title>CI71M PRINCIPIOS DE REMEDIACION Y RESTAURACION</dc:title>
</cp:coreProperties>
</file>