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EAA-6791-4336-AA78-0B04500A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246-4088-4326-9A50-B0A53432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289-BB3A-47BE-A6F8-D29BB9ED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8FF-A233-4763-A7BC-1475D633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464C-B014-4E48-94D9-A69B99B3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4A5C-586C-497E-B476-A8655028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63C7-92E9-4B2F-A3FB-F0720048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AC71-98E7-42FD-A553-5CCB22E0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9EBB-C91D-4D42-AA2E-77BE3C12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593E-2D21-468A-8DCA-954F23A4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27BC-1241-42D7-AB0E-1B358379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FAB-78E5-4A4C-9136-04F2A979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070B-608E-4A6E-AF8D-AFFB6DC1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6A8B-2445-48B1-BC5B-8CBA10AF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DD0D-8A78-4FED-B99A-8CA7CE9F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6731-19D6-444A-BDB9-C6534D15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60DC-E0C3-45D0-876E-6B65C243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913-ECDA-4217-AE8D-25A89431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E8E-8AC8-4F02-8643-B4961012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3E4-AD7B-4EC4-833B-D859B203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018-6864-42CF-96B8-DA4B9F51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6DC-153E-4365-8B9C-E5C70D8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F8E-344E-40EE-B279-1180592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EBB-11E3-4AA1-B148-2FE77AC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CBA4-CCCE-475D-8239-6DA8907FE4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945-8AF4-4BB6-A737-DF74A935D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3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44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5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0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1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8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9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0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1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8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9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1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6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97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8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9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0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1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3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4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5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BBB2-6327-41B7-AEB3-4CC5D8A8FBC9}" type="datetime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56C2-116B-4425-8D8E-BD2832C2A7A4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95280" y="40464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PÍTULO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FENÓMENOS TRANS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6 Rectángulo"/>
          <p:cNvSpPr/>
          <p:nvPr/>
        </p:nvSpPr>
        <p:spPr>
          <a:xfrm>
            <a:off x="395280" y="1557360"/>
            <a:ext cx="807228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ermiten resolver aspectos de diseño, que debemos conocer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resiones y niveles extremos en aducción y descarg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ambios en la velocidad de rotación de las unida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gulación de frecuencia que asegure equilibrio de demanda y de la ofer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4608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201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Oscilación en Ma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6 Rectángulo"/>
          <p:cNvSpPr/>
          <p:nvPr/>
        </p:nvSpPr>
        <p:spPr>
          <a:xfrm>
            <a:off x="857160" y="1071720"/>
            <a:ext cx="8001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xtremo superior: Embal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xtremo inferior: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3857400" cy="1106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929200" y="2214720"/>
            <a:ext cx="2497320" cy="92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857160" y="3571920"/>
            <a:ext cx="7000920" cy="2012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4"/>
          <a:stretch/>
        </p:blipFill>
        <p:spPr>
          <a:xfrm>
            <a:off x="1000080" y="5659560"/>
            <a:ext cx="471492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6 Rectángulo"/>
          <p:cNvSpPr/>
          <p:nvPr/>
        </p:nvSpPr>
        <p:spPr>
          <a:xfrm>
            <a:off x="857160" y="1071720"/>
            <a:ext cx="800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xtremo superior: CB Chimenea (ext. Inferior osc.mas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Extremo inferior: Turbina, ecuación de orificio dada por la apertura de los álabes y la carga net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71760" y="3286080"/>
            <a:ext cx="3116160" cy="1109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714680" y="4214880"/>
            <a:ext cx="5752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6 Rectángulo"/>
          <p:cNvSpPr/>
          <p:nvPr/>
        </p:nvSpPr>
        <p:spPr>
          <a:xfrm>
            <a:off x="857160" y="1071720"/>
            <a:ext cx="8001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: longitud tubería o túnel entre Chimenea y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a”: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, Vo= carga y velocidad de régimen perman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arámetro de Allievi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14280" y="3857760"/>
            <a:ext cx="6099480" cy="966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4357800" y="5000760"/>
            <a:ext cx="20714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6 Rectángulo"/>
          <p:cNvSpPr/>
          <p:nvPr/>
        </p:nvSpPr>
        <p:spPr>
          <a:xfrm>
            <a:off x="857160" y="1071720"/>
            <a:ext cx="800100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ecuaciones simplific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stanqu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rbin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5807160" cy="1409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286000" y="3857760"/>
            <a:ext cx="1187280" cy="500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3214800" y="4214880"/>
            <a:ext cx="2286000" cy="72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5643720" y="4214880"/>
            <a:ext cx="228600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2286000" y="5286240"/>
            <a:ext cx="1000080" cy="47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6"/>
          <a:stretch/>
        </p:blipFill>
        <p:spPr>
          <a:xfrm>
            <a:off x="3500280" y="5643720"/>
            <a:ext cx="3500640" cy="834840"/>
          </a:xfrm>
          <a:prstGeom prst="rect">
            <a:avLst/>
          </a:prstGeom>
          <a:ln w="0">
            <a:noFill/>
          </a:ln>
        </p:spPr>
      </p:pic>
      <p:sp>
        <p:nvSpPr>
          <p:cNvPr id="224" name="10 Flecha derecha"/>
          <p:cNvSpPr/>
          <p:nvPr/>
        </p:nvSpPr>
        <p:spPr>
          <a:xfrm>
            <a:off x="5286240" y="450072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6 Rectángulo"/>
          <p:cNvSpPr/>
          <p:nvPr/>
        </p:nvSpPr>
        <p:spPr>
          <a:xfrm>
            <a:off x="857160" y="1000080"/>
            <a:ext cx="335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seri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500720" y="928800"/>
            <a:ext cx="1857240" cy="2770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6786720" y="1285920"/>
            <a:ext cx="2000160" cy="1942920"/>
          </a:xfrm>
          <a:prstGeom prst="rect">
            <a:avLst/>
          </a:prstGeom>
          <a:ln w="0">
            <a:noFill/>
          </a:ln>
        </p:spPr>
      </p:pic>
      <p:sp>
        <p:nvSpPr>
          <p:cNvPr id="229" name="6 Rectángulo"/>
          <p:cNvSpPr/>
          <p:nvPr/>
        </p:nvSpPr>
        <p:spPr>
          <a:xfrm>
            <a:off x="1071720" y="3786120"/>
            <a:ext cx="61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paralelo: 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bería única que mantenga caudal y veloc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6 Rectángulo"/>
          <p:cNvSpPr/>
          <p:nvPr/>
        </p:nvSpPr>
        <p:spPr>
          <a:xfrm>
            <a:off x="857160" y="1000080"/>
            <a:ext cx="3357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elt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ara el cálculo simplificado se puede ocupar una maniobra lineal equivalen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500720" y="1357200"/>
            <a:ext cx="4286160" cy="2957760"/>
          </a:xfrm>
          <a:prstGeom prst="rect">
            <a:avLst/>
          </a:prstGeom>
          <a:ln w="0">
            <a:noFill/>
          </a:ln>
        </p:spPr>
      </p:pic>
      <p:sp>
        <p:nvSpPr>
          <p:cNvPr id="233" name="14 Flecha a la derecha con bandas"/>
          <p:cNvSpPr/>
          <p:nvPr/>
        </p:nvSpPr>
        <p:spPr>
          <a:xfrm>
            <a:off x="2143080" y="2000160"/>
            <a:ext cx="2143080" cy="357120"/>
          </a:xfrm>
          <a:custGeom>
            <a:avLst/>
            <a:gdLst>
              <a:gd name="textAreaLeft" fmla="*/ 55800 w 2143080"/>
              <a:gd name="textAreaRight" fmla="*/ 2053800 w 214308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43140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1964545" y="89298"/>
                </a:lnTo>
                <a:lnTo>
                  <a:pt x="1964545" y="0"/>
                </a:lnTo>
                <a:lnTo>
                  <a:pt x="2143140" y="178595"/>
                </a:lnTo>
                <a:lnTo>
                  <a:pt x="1964545" y="357190"/>
                </a:lnTo>
                <a:lnTo>
                  <a:pt x="1964545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4500720" y="4857840"/>
            <a:ext cx="3384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6 Rectángulo"/>
          <p:cNvSpPr/>
          <p:nvPr/>
        </p:nvSpPr>
        <p:spPr>
          <a:xfrm>
            <a:off x="857160" y="1000080"/>
            <a:ext cx="335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Franc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643200" y="1785960"/>
            <a:ext cx="4357800" cy="2943360"/>
          </a:xfrm>
          <a:prstGeom prst="rect">
            <a:avLst/>
          </a:prstGeom>
          <a:ln w="0">
            <a:noFill/>
          </a:ln>
        </p:spPr>
      </p:pic>
      <p:sp>
        <p:nvSpPr>
          <p:cNvPr id="238" name="15 Flecha a la derecha con bandas"/>
          <p:cNvSpPr/>
          <p:nvPr/>
        </p:nvSpPr>
        <p:spPr>
          <a:xfrm>
            <a:off x="2214720" y="2000160"/>
            <a:ext cx="1143000" cy="357120"/>
          </a:xfrm>
          <a:custGeom>
            <a:avLst/>
            <a:gdLst>
              <a:gd name="textAreaLeft" fmla="*/ 55800 w 1143000"/>
              <a:gd name="textAreaRight" fmla="*/ 1053720 w 11430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1143008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964413" y="89298"/>
                </a:lnTo>
                <a:lnTo>
                  <a:pt x="964413" y="0"/>
                </a:lnTo>
                <a:lnTo>
                  <a:pt x="1143008" y="178595"/>
                </a:lnTo>
                <a:lnTo>
                  <a:pt x="964413" y="357190"/>
                </a:lnTo>
                <a:lnTo>
                  <a:pt x="964413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857160" y="5072040"/>
            <a:ext cx="733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6 Rectángulo"/>
          <p:cNvSpPr/>
          <p:nvPr/>
        </p:nvSpPr>
        <p:spPr>
          <a:xfrm>
            <a:off x="1000080" y="785880"/>
            <a:ext cx="764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studio de los cambios temporales de velocidad de rotación de la unidad frente a cambios repentinos o descompensaciones entre la energía entregada por la CH y la demandada por la red,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n un cierto tiempo 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00080" y="2428920"/>
            <a:ext cx="7408800" cy="1285920"/>
          </a:xfrm>
          <a:prstGeom prst="rect">
            <a:avLst/>
          </a:prstGeom>
          <a:ln w="0">
            <a:noFill/>
          </a:ln>
        </p:spPr>
      </p:pic>
      <p:sp>
        <p:nvSpPr>
          <p:cNvPr id="243" name="6 Rectángulo"/>
          <p:cNvSpPr/>
          <p:nvPr/>
        </p:nvSpPr>
        <p:spPr>
          <a:xfrm>
            <a:off x="928800" y="3643200"/>
            <a:ext cx="7643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N(T): velocidad de rotación tempo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GD2: Mom. Inercia generador (el de turbina es pequ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M: potencia mecánica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: potencia eléctrica del generador y consumida por re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1000080" y="4714920"/>
            <a:ext cx="4925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6 Rectángulo"/>
          <p:cNvSpPr/>
          <p:nvPr/>
        </p:nvSpPr>
        <p:spPr>
          <a:xfrm>
            <a:off x="857160" y="1428840"/>
            <a:ext cx="80726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Se inducen por cambios repentinos de las condiciones de oper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cierre o rechazo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apertura o toma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 respuesta del sistema es variable según se trate de sistemas en presión o a superficie lib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 sistemas a pres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714840" y="4357800"/>
            <a:ext cx="5000400" cy="2327040"/>
          </a:xfrm>
          <a:prstGeom prst="rect">
            <a:avLst/>
          </a:prstGeom>
          <a:ln w="0">
            <a:noFill/>
          </a:ln>
        </p:spPr>
      </p:pic>
      <p:sp>
        <p:nvSpPr>
          <p:cNvPr id="153" name="4 Rectángulo"/>
          <p:cNvSpPr/>
          <p:nvPr/>
        </p:nvSpPr>
        <p:spPr>
          <a:xfrm>
            <a:off x="714240" y="52149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=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(materia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Sobrevelocidad en tiempo Dt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6 Rectángulo"/>
          <p:cNvSpPr/>
          <p:nvPr/>
        </p:nvSpPr>
        <p:spPr>
          <a:xfrm>
            <a:off x="500040" y="250020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id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q= caudal unitario de la ecuación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26960" y="1500120"/>
            <a:ext cx="871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6 Rectángulo"/>
          <p:cNvSpPr/>
          <p:nvPr/>
        </p:nvSpPr>
        <p:spPr>
          <a:xfrm>
            <a:off x="571680" y="1643040"/>
            <a:ext cx="8358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lt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d: tiempoe en que actúa el deflector de chor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o: potencia nom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3429000" cy="1279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2214720" y="2786040"/>
            <a:ext cx="4214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6 Rectángulo"/>
          <p:cNvSpPr/>
          <p:nvPr/>
        </p:nvSpPr>
        <p:spPr>
          <a:xfrm>
            <a:off x="571680" y="1643040"/>
            <a:ext cx="8358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Franci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entre desconexión del generador y cierre de los álabes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h= sobrepresión unitaria por golpe de arie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7215120" cy="1497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1643040" y="2786040"/>
            <a:ext cx="2786040" cy="1220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1785960" y="3929040"/>
            <a:ext cx="46432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iobras típ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Niveles y Variaciones de velocid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6 Rectángulo"/>
          <p:cNvSpPr/>
          <p:nvPr/>
        </p:nvSpPr>
        <p:spPr>
          <a:xfrm>
            <a:off x="571680" y="1643040"/>
            <a:ext cx="835812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50 –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Sobr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D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0 a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a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para abrir los álabes o inyectores desde la posición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frecu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428760" y="785880"/>
            <a:ext cx="764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Operación de las turbinas y unidades destinadas a mantener un equilibrio de la frecuencia eléctrica frente a variaciones de la demanda y la producción de energ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6 Rectángulo"/>
          <p:cNvSpPr/>
          <p:nvPr/>
        </p:nvSpPr>
        <p:spPr>
          <a:xfrm>
            <a:off x="1928880" y="4500720"/>
            <a:ext cx="342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No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Sí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3476520" cy="762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1285920" y="2928960"/>
            <a:ext cx="2000160" cy="1338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4143240" y="4429080"/>
            <a:ext cx="4000680" cy="1042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4"/>
          <a:stretch/>
        </p:blipFill>
        <p:spPr>
          <a:xfrm>
            <a:off x="4357800" y="5500800"/>
            <a:ext cx="3500280" cy="758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5"/>
          <a:stretch/>
        </p:blipFill>
        <p:spPr>
          <a:xfrm>
            <a:off x="5143680" y="3143160"/>
            <a:ext cx="20714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ARA LA CASA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6 Rectángulo"/>
          <p:cNvSpPr/>
          <p:nvPr/>
        </p:nvSpPr>
        <p:spPr>
          <a:xfrm>
            <a:off x="428760" y="78588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OMPLEMENTAR CON CAPÌTULO 5 TEXTO F. HARAMBOU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6 Rectángulo"/>
          <p:cNvSpPr/>
          <p:nvPr/>
        </p:nvSpPr>
        <p:spPr>
          <a:xfrm>
            <a:off x="785880" y="142884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Acero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4 Rectángulo"/>
          <p:cNvSpPr/>
          <p:nvPr/>
        </p:nvSpPr>
        <p:spPr>
          <a:xfrm>
            <a:off x="785880" y="5572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 una tubería infinitamente ríg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786120" y="1428840"/>
            <a:ext cx="3429000" cy="1679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5072040" y="5429160"/>
            <a:ext cx="3630600" cy="785880"/>
          </a:xfrm>
          <a:prstGeom prst="rect">
            <a:avLst/>
          </a:prstGeom>
          <a:ln w="0">
            <a:noFill/>
          </a:ln>
        </p:spPr>
      </p:pic>
      <p:sp>
        <p:nvSpPr>
          <p:cNvPr id="159" name="7 Rectángulo"/>
          <p:cNvSpPr/>
          <p:nvPr/>
        </p:nvSpPr>
        <p:spPr>
          <a:xfrm>
            <a:off x="1214280" y="3500280"/>
            <a:ext cx="678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K: mod. Compresibilidad= 2,2*10^9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,e: Diámtero y espesor tuber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: modulo de elasticidad del acero= 2058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actor asociado al tipo de jun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6 Rectángulo"/>
          <p:cNvSpPr/>
          <p:nvPr/>
        </p:nvSpPr>
        <p:spPr>
          <a:xfrm>
            <a:off x="785880" y="14288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Túnele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4 Rectángulo"/>
          <p:cNvSpPr/>
          <p:nvPr/>
        </p:nvSpPr>
        <p:spPr>
          <a:xfrm>
            <a:off x="357120" y="500076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1: R externo; R2: R inter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7 Rectángulo"/>
          <p:cNvSpPr/>
          <p:nvPr/>
        </p:nvSpPr>
        <p:spPr>
          <a:xfrm>
            <a:off x="928800" y="271476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: módulo de rigidez del macizo (N/m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643200" y="1214280"/>
            <a:ext cx="3357720" cy="1432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3529080" y="3357720"/>
            <a:ext cx="5167080" cy="1866600"/>
          </a:xfrm>
          <a:prstGeom prst="rect">
            <a:avLst/>
          </a:prstGeom>
          <a:ln w="0">
            <a:noFill/>
          </a:ln>
        </p:spPr>
      </p:pic>
      <p:sp>
        <p:nvSpPr>
          <p:cNvPr id="166" name="9 Rectángulo"/>
          <p:cNvSpPr/>
          <p:nvPr/>
        </p:nvSpPr>
        <p:spPr>
          <a:xfrm>
            <a:off x="285840" y="357192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revestido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3929040" y="5214960"/>
            <a:ext cx="4900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6 Rectángulo"/>
          <p:cNvSpPr/>
          <p:nvPr/>
        </p:nvSpPr>
        <p:spPr>
          <a:xfrm>
            <a:off x="785880" y="1428840"/>
            <a:ext cx="35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blindad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571920" y="928800"/>
            <a:ext cx="4429080" cy="167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714240" y="2500200"/>
            <a:ext cx="6378840" cy="1071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2460600" y="3643200"/>
            <a:ext cx="4307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6 Rectángulo"/>
          <p:cNvSpPr/>
          <p:nvPr/>
        </p:nvSpPr>
        <p:spPr>
          <a:xfrm>
            <a:off x="785880" y="857160"/>
            <a:ext cx="8001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Fenómen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Oscilación en Masa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lentamente, sin deformación de duct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Golpe de Ariete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rápidamente , se debe conocer la rigidez de las pare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5214960" cy="3117960"/>
          </a:xfrm>
          <a:prstGeom prst="rect">
            <a:avLst/>
          </a:prstGeom>
          <a:ln w="0">
            <a:noFill/>
          </a:ln>
        </p:spPr>
      </p:pic>
      <p:sp>
        <p:nvSpPr>
          <p:cNvPr id="176" name="5 Flecha a la derecha con bandas"/>
          <p:cNvSpPr/>
          <p:nvPr/>
        </p:nvSpPr>
        <p:spPr>
          <a:xfrm rot="3940200">
            <a:off x="2733480" y="2847600"/>
            <a:ext cx="1685880" cy="190440"/>
          </a:xfrm>
          <a:custGeom>
            <a:avLst/>
            <a:gdLst>
              <a:gd name="textAreaLeft" fmla="*/ 29520 w 1685880"/>
              <a:gd name="textAreaRight" fmla="*/ 1638360 w 168588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1685580" h="190384">
                <a:moveTo>
                  <a:pt x="0" y="47596"/>
                </a:moveTo>
                <a:lnTo>
                  <a:pt x="5950" y="47596"/>
                </a:lnTo>
                <a:lnTo>
                  <a:pt x="5950" y="142788"/>
                </a:lnTo>
                <a:lnTo>
                  <a:pt x="0" y="142788"/>
                </a:lnTo>
                <a:close/>
                <a:moveTo>
                  <a:pt x="11899" y="47596"/>
                </a:moveTo>
                <a:lnTo>
                  <a:pt x="23798" y="47596"/>
                </a:lnTo>
                <a:lnTo>
                  <a:pt x="23798" y="142788"/>
                </a:lnTo>
                <a:lnTo>
                  <a:pt x="11899" y="142788"/>
                </a:lnTo>
                <a:close/>
                <a:moveTo>
                  <a:pt x="29747" y="47596"/>
                </a:moveTo>
                <a:lnTo>
                  <a:pt x="1590388" y="47596"/>
                </a:lnTo>
                <a:lnTo>
                  <a:pt x="1590388" y="0"/>
                </a:lnTo>
                <a:lnTo>
                  <a:pt x="1685580" y="95192"/>
                </a:lnTo>
                <a:lnTo>
                  <a:pt x="1590388" y="190384"/>
                </a:lnTo>
                <a:lnTo>
                  <a:pt x="1590388" y="142788"/>
                </a:lnTo>
                <a:lnTo>
                  <a:pt x="29747" y="142788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6 Flecha a la derecha con bandas"/>
          <p:cNvSpPr/>
          <p:nvPr/>
        </p:nvSpPr>
        <p:spPr>
          <a:xfrm rot="19369200">
            <a:off x="3862080" y="4581000"/>
            <a:ext cx="1287360" cy="214560"/>
          </a:xfrm>
          <a:custGeom>
            <a:avLst/>
            <a:gdLst>
              <a:gd name="textAreaLeft" fmla="*/ 33480 w 1287360"/>
              <a:gd name="textAreaRight" fmla="*/ 1233720 w 1287360"/>
              <a:gd name="textAreaTop" fmla="*/ 53640 h 214560"/>
              <a:gd name="textAreaBottom" fmla="*/ 160920 h 214560"/>
            </a:gdLst>
            <a:ahLst/>
            <a:rect l="textAreaLeft" t="textAreaTop" r="textAreaRight" b="textAreaBottom"/>
            <a:pathLst>
              <a:path w="1285884" h="214314">
                <a:moveTo>
                  <a:pt x="0" y="53579"/>
                </a:moveTo>
                <a:lnTo>
                  <a:pt x="6697" y="53579"/>
                </a:lnTo>
                <a:lnTo>
                  <a:pt x="6697" y="160736"/>
                </a:lnTo>
                <a:lnTo>
                  <a:pt x="0" y="160736"/>
                </a:lnTo>
                <a:close/>
                <a:moveTo>
                  <a:pt x="13395" y="53579"/>
                </a:moveTo>
                <a:lnTo>
                  <a:pt x="26789" y="53579"/>
                </a:lnTo>
                <a:lnTo>
                  <a:pt x="26789" y="160736"/>
                </a:lnTo>
                <a:lnTo>
                  <a:pt x="13395" y="160736"/>
                </a:lnTo>
                <a:close/>
                <a:moveTo>
                  <a:pt x="33487" y="53579"/>
                </a:moveTo>
                <a:lnTo>
                  <a:pt x="1178727" y="53579"/>
                </a:lnTo>
                <a:lnTo>
                  <a:pt x="1178727" y="0"/>
                </a:lnTo>
                <a:lnTo>
                  <a:pt x="1285884" y="107157"/>
                </a:lnTo>
                <a:lnTo>
                  <a:pt x="1178727" y="214314"/>
                </a:lnTo>
                <a:lnTo>
                  <a:pt x="1178727" y="160736"/>
                </a:lnTo>
                <a:lnTo>
                  <a:pt x="33487" y="16073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scilación en Masa: De embalse a Chime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6 Rectángulo"/>
          <p:cNvSpPr/>
          <p:nvPr/>
        </p:nvSpPr>
        <p:spPr>
          <a:xfrm>
            <a:off x="857160" y="107172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desplazamiento entre embalse y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&lt;&lt; T oscilación de la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: cota piezométrica extremo sup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L: cota piezométrica extremo inf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,D,V: largo, diámetro y velocidad en túne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43574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Golpe de Ariete: de Chimenea a Casa de Máqui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6 Rectángulo"/>
          <p:cNvSpPr/>
          <p:nvPr/>
        </p:nvSpPr>
        <p:spPr>
          <a:xfrm>
            <a:off x="857160" y="107172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ontinuidad (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antidad de Movimiento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2428920" y="1500120"/>
            <a:ext cx="5286240" cy="1093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2214720" y="3143160"/>
            <a:ext cx="5286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ámara de Carga: Ec.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400640" cy="2209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357800" y="1928880"/>
            <a:ext cx="440028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2214720" y="3857760"/>
            <a:ext cx="4647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2:42:43Z</dcterms:created>
  <dc:creator>juan</dc:creator>
  <dc:description/>
  <dc:language>en-US</dc:language>
  <cp:lastModifiedBy>Sala</cp:lastModifiedBy>
  <dcterms:modified xsi:type="dcterms:W3CDTF">2009-11-17T13:18:47Z</dcterms:modified>
  <cp:revision>158</cp:revision>
  <dc:subject/>
  <dc:title>CAP. 3. NOCIONES DE DISEÑO DE LAS OBRAS CIVILES DE UNA CENTRAL HIDROELÉCTRICA</dc:title>
</cp:coreProperties>
</file>