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46AA-EFA8-4AED-BFFF-5B05660C2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CE57-7F30-4E01-9326-0F43854D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782A-C516-467C-9C08-0CB3BAF24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6C0F-C2FB-46F3-A3C8-F4775BB3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DC8B-07EE-4ACC-A62F-1348EF3C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85D72-DC46-4CCC-AB81-67F23FDB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47E9-64C4-4921-9D6E-C7D3683B4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6563-4B98-492B-A91A-C9840728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70969-9E27-46A0-B3CF-68E81299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27F4-936B-4198-8277-48D94DD7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0527-6BD1-44D9-A4EA-1CDB29B4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E949-8ABC-4D61-A8AB-CCA7CBE4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C75A-B6BD-448C-B2AF-548DCFA7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8CFB-909E-4265-92E8-F7BC4CE8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786C-C99E-4955-A470-054D410A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FD394-E253-486C-955E-C627DB84C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6A35-4FA3-4C17-ADC1-D28EE91EE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EF4-F751-4F74-A46E-6A033A80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8DD1-FED3-4A55-A9D2-22BE00E4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E97B-BA82-4232-9D01-BB93A6A3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E291-CDF9-40CE-A98C-7E04193C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09FD-783D-4130-9513-FB9AD274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84A-44EF-45C7-BAE9-2739AB49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9CD-B8A7-4BEE-88AE-1FBBAA1C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E912C-74FC-419F-812E-C067DF0523A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61DICH3532   Capítul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FF6B-23C0-436C-8C5D-8C697C715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3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44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5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7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8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9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0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1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8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9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0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1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8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9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0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1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8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9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0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1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6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97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8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9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0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1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02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3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4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5" name="Arc 1090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0151-60CA-4847-B9DA-304300A71BF6}" type="datetime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I61DICH3532   Capítul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0FA2-DAE1-4D49-A089-29F4EB5B7663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95280" y="404640"/>
            <a:ext cx="820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APÍTULO 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FENÓMENOS TRANSIE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" name="6 Rectángulo"/>
          <p:cNvSpPr/>
          <p:nvPr/>
        </p:nvSpPr>
        <p:spPr>
          <a:xfrm>
            <a:off x="395280" y="1557360"/>
            <a:ext cx="807228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Permiten resolver aspectos de diseño, que debemos conocer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Presiones y niveles extremos en aducción y descarg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Cambios en la velocidad de rotación de las unidad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Regulación de frecuencia que asegure equilibrio de demanda y de la ofer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2627280" y="3789360"/>
            <a:ext cx="460872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0" y="357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6 Rectángulo"/>
          <p:cNvSpPr/>
          <p:nvPr/>
        </p:nvSpPr>
        <p:spPr>
          <a:xfrm>
            <a:off x="785880" y="8571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Diferentes configuraciones, con Chimenea: Ec (1) y Ec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4000680" y="4286160"/>
            <a:ext cx="4781520" cy="2152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4800600" cy="2409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0" y="4071960"/>
            <a:ext cx="4448160" cy="2182680"/>
          </a:xfrm>
          <a:prstGeom prst="rect">
            <a:avLst/>
          </a:prstGeom>
          <a:ln w="0">
            <a:noFill/>
          </a:ln>
        </p:spPr>
      </p:pic>
      <p:sp>
        <p:nvSpPr>
          <p:cNvPr id="195" name="6 Rectángulo"/>
          <p:cNvSpPr/>
          <p:nvPr/>
        </p:nvSpPr>
        <p:spPr>
          <a:xfrm>
            <a:off x="428760" y="35002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Salidas largas: Ec (2) en evacu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0" y="357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6 Rectángulo"/>
          <p:cNvSpPr/>
          <p:nvPr/>
        </p:nvSpPr>
        <p:spPr>
          <a:xfrm>
            <a:off x="785880" y="8571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Diferentes configuraciones, con Chimenea: Ec (1) y Ec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4000680" y="4286160"/>
            <a:ext cx="4781520" cy="2152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4800600" cy="2409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0" y="4071960"/>
            <a:ext cx="4448160" cy="2182680"/>
          </a:xfrm>
          <a:prstGeom prst="rect">
            <a:avLst/>
          </a:prstGeom>
          <a:ln w="0">
            <a:noFill/>
          </a:ln>
        </p:spPr>
      </p:pic>
      <p:sp>
        <p:nvSpPr>
          <p:cNvPr id="201" name="6 Rectángulo"/>
          <p:cNvSpPr/>
          <p:nvPr/>
        </p:nvSpPr>
        <p:spPr>
          <a:xfrm>
            <a:off x="428760" y="35002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Salidas largas: Ec (2) en evacu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ondiciones de Borde. Oscilación en Ma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6 Rectángulo"/>
          <p:cNvSpPr/>
          <p:nvPr/>
        </p:nvSpPr>
        <p:spPr>
          <a:xfrm>
            <a:off x="857160" y="1071720"/>
            <a:ext cx="8001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=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Extremo superior: Embals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Extremo inferior: Chimene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3857400" cy="1106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5929200" y="2214720"/>
            <a:ext cx="2497320" cy="92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857160" y="3571920"/>
            <a:ext cx="7000920" cy="2012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4"/>
          <a:stretch/>
        </p:blipFill>
        <p:spPr>
          <a:xfrm>
            <a:off x="1000080" y="5659560"/>
            <a:ext cx="471492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ondiciones de Borde.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6 Rectángulo"/>
          <p:cNvSpPr/>
          <p:nvPr/>
        </p:nvSpPr>
        <p:spPr>
          <a:xfrm>
            <a:off x="857160" y="1071720"/>
            <a:ext cx="8001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Extremo superior: CB Chimenea (ext. Inferior osc.mas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Extremo inferior: Turbina, ecuación de orificio dada por la apertura de los álabes y la carga net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571760" y="3286080"/>
            <a:ext cx="3116160" cy="1109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1714680" y="4214880"/>
            <a:ext cx="57528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6 Rectángulo"/>
          <p:cNvSpPr/>
          <p:nvPr/>
        </p:nvSpPr>
        <p:spPr>
          <a:xfrm>
            <a:off x="857160" y="1071720"/>
            <a:ext cx="8001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Método Alliev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L: longitud tubería o túnel entre Chimenea y Turbi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“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a”: celeridad ond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Ho, Vo= carga y velocidad de régimen permane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Parámetro de Allievi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214280" y="3857760"/>
            <a:ext cx="6099480" cy="966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4357800" y="5000760"/>
            <a:ext cx="207144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6 Rectángulo"/>
          <p:cNvSpPr/>
          <p:nvPr/>
        </p:nvSpPr>
        <p:spPr>
          <a:xfrm>
            <a:off x="857160" y="1071720"/>
            <a:ext cx="8001000" cy="80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Método Allievi, ecuaciones simplificad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Estanqu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urbin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285920" y="2143080"/>
            <a:ext cx="5807160" cy="1409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2286000" y="3857760"/>
            <a:ext cx="1187280" cy="500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3"/>
          <a:stretch/>
        </p:blipFill>
        <p:spPr>
          <a:xfrm>
            <a:off x="3214800" y="4214880"/>
            <a:ext cx="2286000" cy="722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4"/>
          <a:stretch/>
        </p:blipFill>
        <p:spPr>
          <a:xfrm>
            <a:off x="5643720" y="4214880"/>
            <a:ext cx="2286000" cy="857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2286000" y="5286240"/>
            <a:ext cx="1000080" cy="471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6"/>
          <a:stretch/>
        </p:blipFill>
        <p:spPr>
          <a:xfrm>
            <a:off x="3500280" y="5643720"/>
            <a:ext cx="3500640" cy="834840"/>
          </a:xfrm>
          <a:prstGeom prst="rect">
            <a:avLst/>
          </a:prstGeom>
          <a:ln w="0">
            <a:noFill/>
          </a:ln>
        </p:spPr>
      </p:pic>
      <p:sp>
        <p:nvSpPr>
          <p:cNvPr id="224" name="10 Flecha derecha"/>
          <p:cNvSpPr/>
          <p:nvPr/>
        </p:nvSpPr>
        <p:spPr>
          <a:xfrm>
            <a:off x="5286240" y="4500720"/>
            <a:ext cx="357480" cy="21420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6 Rectángulo"/>
          <p:cNvSpPr/>
          <p:nvPr/>
        </p:nvSpPr>
        <p:spPr>
          <a:xfrm>
            <a:off x="857160" y="1000080"/>
            <a:ext cx="335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Método Allievi, tubería equivalente para tuberías en seri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4500720" y="928800"/>
            <a:ext cx="1857240" cy="2770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6786720" y="1285920"/>
            <a:ext cx="2000160" cy="1942920"/>
          </a:xfrm>
          <a:prstGeom prst="rect">
            <a:avLst/>
          </a:prstGeom>
          <a:ln w="0">
            <a:noFill/>
          </a:ln>
        </p:spPr>
      </p:pic>
      <p:sp>
        <p:nvSpPr>
          <p:cNvPr id="229" name="6 Rectángulo"/>
          <p:cNvSpPr/>
          <p:nvPr/>
        </p:nvSpPr>
        <p:spPr>
          <a:xfrm>
            <a:off x="1071720" y="3786120"/>
            <a:ext cx="6143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Método Allievi, tubería equivalente para tuberías en paralelo: </a:t>
            </a: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ubería única que mantenga caudal y velocid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6 Rectángulo"/>
          <p:cNvSpPr/>
          <p:nvPr/>
        </p:nvSpPr>
        <p:spPr>
          <a:xfrm>
            <a:off x="857160" y="1000080"/>
            <a:ext cx="3357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Curvas típicas de cierr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Pelt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ara el cálculo simplificado se puede ocupar una maniobra lineal equivalent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500720" y="1357200"/>
            <a:ext cx="4286160" cy="2957760"/>
          </a:xfrm>
          <a:prstGeom prst="rect">
            <a:avLst/>
          </a:prstGeom>
          <a:ln w="0">
            <a:noFill/>
          </a:ln>
        </p:spPr>
      </p:pic>
      <p:sp>
        <p:nvSpPr>
          <p:cNvPr id="233" name="14 Flecha a la derecha con bandas"/>
          <p:cNvSpPr/>
          <p:nvPr/>
        </p:nvSpPr>
        <p:spPr>
          <a:xfrm>
            <a:off x="2143080" y="2000160"/>
            <a:ext cx="2143080" cy="357120"/>
          </a:xfrm>
          <a:custGeom>
            <a:avLst/>
            <a:gdLst>
              <a:gd name="textAreaLeft" fmla="*/ 55800 w 2143080"/>
              <a:gd name="textAreaRight" fmla="*/ 2053800 w 214308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43140" h="357190">
                <a:moveTo>
                  <a:pt x="0" y="89298"/>
                </a:moveTo>
                <a:lnTo>
                  <a:pt x="11162" y="89298"/>
                </a:lnTo>
                <a:lnTo>
                  <a:pt x="11162" y="267893"/>
                </a:lnTo>
                <a:lnTo>
                  <a:pt x="0" y="267893"/>
                </a:lnTo>
                <a:close/>
                <a:moveTo>
                  <a:pt x="22324" y="89298"/>
                </a:moveTo>
                <a:lnTo>
                  <a:pt x="44649" y="89298"/>
                </a:lnTo>
                <a:lnTo>
                  <a:pt x="44649" y="267893"/>
                </a:lnTo>
                <a:lnTo>
                  <a:pt x="22324" y="267893"/>
                </a:lnTo>
                <a:close/>
                <a:moveTo>
                  <a:pt x="55811" y="89298"/>
                </a:moveTo>
                <a:lnTo>
                  <a:pt x="1964545" y="89298"/>
                </a:lnTo>
                <a:lnTo>
                  <a:pt x="1964545" y="0"/>
                </a:lnTo>
                <a:lnTo>
                  <a:pt x="2143140" y="178595"/>
                </a:lnTo>
                <a:lnTo>
                  <a:pt x="1964545" y="357190"/>
                </a:lnTo>
                <a:lnTo>
                  <a:pt x="1964545" y="267893"/>
                </a:lnTo>
                <a:lnTo>
                  <a:pt x="55811" y="267893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4500720" y="4857840"/>
            <a:ext cx="33843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6 Rectángulo"/>
          <p:cNvSpPr/>
          <p:nvPr/>
        </p:nvSpPr>
        <p:spPr>
          <a:xfrm>
            <a:off x="857160" y="1000080"/>
            <a:ext cx="3357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Curvas típicas de cierr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Franc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3643200" y="1785960"/>
            <a:ext cx="4357800" cy="2943360"/>
          </a:xfrm>
          <a:prstGeom prst="rect">
            <a:avLst/>
          </a:prstGeom>
          <a:ln w="0">
            <a:noFill/>
          </a:ln>
        </p:spPr>
      </p:pic>
      <p:sp>
        <p:nvSpPr>
          <p:cNvPr id="238" name="15 Flecha a la derecha con bandas"/>
          <p:cNvSpPr/>
          <p:nvPr/>
        </p:nvSpPr>
        <p:spPr>
          <a:xfrm>
            <a:off x="2214720" y="2000160"/>
            <a:ext cx="1143000" cy="357120"/>
          </a:xfrm>
          <a:custGeom>
            <a:avLst/>
            <a:gdLst>
              <a:gd name="textAreaLeft" fmla="*/ 55800 w 1143000"/>
              <a:gd name="textAreaRight" fmla="*/ 1053720 w 11430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1143008" h="357190">
                <a:moveTo>
                  <a:pt x="0" y="89298"/>
                </a:moveTo>
                <a:lnTo>
                  <a:pt x="11162" y="89298"/>
                </a:lnTo>
                <a:lnTo>
                  <a:pt x="11162" y="267893"/>
                </a:lnTo>
                <a:lnTo>
                  <a:pt x="0" y="267893"/>
                </a:lnTo>
                <a:close/>
                <a:moveTo>
                  <a:pt x="22324" y="89298"/>
                </a:moveTo>
                <a:lnTo>
                  <a:pt x="44649" y="89298"/>
                </a:lnTo>
                <a:lnTo>
                  <a:pt x="44649" y="267893"/>
                </a:lnTo>
                <a:lnTo>
                  <a:pt x="22324" y="267893"/>
                </a:lnTo>
                <a:close/>
                <a:moveTo>
                  <a:pt x="55811" y="89298"/>
                </a:moveTo>
                <a:lnTo>
                  <a:pt x="964413" y="89298"/>
                </a:lnTo>
                <a:lnTo>
                  <a:pt x="964413" y="0"/>
                </a:lnTo>
                <a:lnTo>
                  <a:pt x="1143008" y="178595"/>
                </a:lnTo>
                <a:lnTo>
                  <a:pt x="964413" y="357190"/>
                </a:lnTo>
                <a:lnTo>
                  <a:pt x="964413" y="267893"/>
                </a:lnTo>
                <a:lnTo>
                  <a:pt x="55811" y="267893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857160" y="5072040"/>
            <a:ext cx="7337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gulación de Veloc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6 Rectángulo"/>
          <p:cNvSpPr/>
          <p:nvPr/>
        </p:nvSpPr>
        <p:spPr>
          <a:xfrm>
            <a:off x="1000080" y="785880"/>
            <a:ext cx="7643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Estudio de los cambios temporales de velocidad de rotación de la unidad frente a cambios repentinos o descompensaciones entre la energía entregada por la CH y la demandada por la red, </a:t>
            </a: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en un cierto tiempo T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000080" y="2428920"/>
            <a:ext cx="7408800" cy="1285920"/>
          </a:xfrm>
          <a:prstGeom prst="rect">
            <a:avLst/>
          </a:prstGeom>
          <a:ln w="0">
            <a:noFill/>
          </a:ln>
        </p:spPr>
      </p:pic>
      <p:sp>
        <p:nvSpPr>
          <p:cNvPr id="243" name="6 Rectángulo"/>
          <p:cNvSpPr/>
          <p:nvPr/>
        </p:nvSpPr>
        <p:spPr>
          <a:xfrm>
            <a:off x="928800" y="3643200"/>
            <a:ext cx="7643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N(T): velocidad de rotación tempo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GD2: Mom. Inercia generador (el de turbina es pequeñ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M: potencia mecánica turbi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E: potencia eléctrica del generador y consumida por re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1000080" y="4714920"/>
            <a:ext cx="49258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85840" y="3571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" name="6 Rectángulo"/>
          <p:cNvSpPr/>
          <p:nvPr/>
        </p:nvSpPr>
        <p:spPr>
          <a:xfrm>
            <a:off x="857160" y="1428840"/>
            <a:ext cx="807264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Se inducen por cambios repentinos de las condiciones de operació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Maniobras de cierre o rechazo de carg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Maniobras de apertura o toma de carg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a respuesta del sistema es variable según se trate de sistemas en presión o a superficie lib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n sistemas a presió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3714840" y="4357800"/>
            <a:ext cx="5000400" cy="2327040"/>
          </a:xfrm>
          <a:prstGeom prst="rect">
            <a:avLst/>
          </a:prstGeom>
          <a:ln w="0">
            <a:noFill/>
          </a:ln>
        </p:spPr>
      </p:pic>
      <p:sp>
        <p:nvSpPr>
          <p:cNvPr id="153" name="4 Rectángulo"/>
          <p:cNvSpPr/>
          <p:nvPr/>
        </p:nvSpPr>
        <p:spPr>
          <a:xfrm>
            <a:off x="714240" y="521496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= celeridad ond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= f(materia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gulación de Veloc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6 Rectángulo"/>
          <p:cNvSpPr/>
          <p:nvPr/>
        </p:nvSpPr>
        <p:spPr>
          <a:xfrm>
            <a:off x="428760" y="785880"/>
            <a:ext cx="76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Sobrevelocidad en tiempo Dt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6 Rectángulo"/>
          <p:cNvSpPr/>
          <p:nvPr/>
        </p:nvSpPr>
        <p:spPr>
          <a:xfrm>
            <a:off x="500040" y="2500200"/>
            <a:ext cx="7643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Symbol"/>
                <a:ea typeface="Symbol"/>
              </a:rPr>
              <a:t>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002060"/>
                </a:solidFill>
                <a:latin typeface="Symbol"/>
                <a:ea typeface="Symbol"/>
              </a:rPr>
              <a:t>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hid de la turbin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.q= caudal unitario de la ecuación de la turbin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26960" y="1500120"/>
            <a:ext cx="87170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Sobreveloc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6 Rectángulo"/>
          <p:cNvSpPr/>
          <p:nvPr/>
        </p:nvSpPr>
        <p:spPr>
          <a:xfrm>
            <a:off x="428760" y="785880"/>
            <a:ext cx="76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Rechazos de carga: de P1 a 0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6 Rectángulo"/>
          <p:cNvSpPr/>
          <p:nvPr/>
        </p:nvSpPr>
        <p:spPr>
          <a:xfrm>
            <a:off x="571680" y="1643040"/>
            <a:ext cx="8358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elto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d: tiempoe en que actúa el deflector de chorr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o: potencia nomin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3429000" cy="1279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2214720" y="2786040"/>
            <a:ext cx="42145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Sobreveloc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6 Rectángulo"/>
          <p:cNvSpPr/>
          <p:nvPr/>
        </p:nvSpPr>
        <p:spPr>
          <a:xfrm>
            <a:off x="428760" y="785880"/>
            <a:ext cx="76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Rechazos de carga: de P1 a P2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6 Rectángulo"/>
          <p:cNvSpPr/>
          <p:nvPr/>
        </p:nvSpPr>
        <p:spPr>
          <a:xfrm>
            <a:off x="571680" y="1643040"/>
            <a:ext cx="8358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Franci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o: 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iempo transcurrido entre desconexión del generador y cierre de los álabes de la turbin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.</a:t>
            </a: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h= sobrepresión unitaria por golpe de arie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785960" y="1500120"/>
            <a:ext cx="7215120" cy="1497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1643040" y="2786040"/>
            <a:ext cx="2786040" cy="1220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1785960" y="3929040"/>
            <a:ext cx="46432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aniobras típic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6 Rectángulo"/>
          <p:cNvSpPr/>
          <p:nvPr/>
        </p:nvSpPr>
        <p:spPr>
          <a:xfrm>
            <a:off x="428760" y="785880"/>
            <a:ext cx="76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Niveles y Variaciones de velocida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6 Rectángulo"/>
          <p:cNvSpPr/>
          <p:nvPr/>
        </p:nvSpPr>
        <p:spPr>
          <a:xfrm>
            <a:off x="571680" y="1643040"/>
            <a:ext cx="8358120" cy="80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Rechazo total 100% a 0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oma de carga 50 – 100%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Sobrepres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Rechazo total 100% a 0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Depres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oma de carga 0 a 100%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a: 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iempo transcurrido para abrir los álabes o inyectores desde la posición P1 a P2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gulación de frecu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6 Rectángulo"/>
          <p:cNvSpPr/>
          <p:nvPr/>
        </p:nvSpPr>
        <p:spPr>
          <a:xfrm>
            <a:off x="428760" y="785880"/>
            <a:ext cx="7643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Operación de las turbinas y unidades destinadas a mantener un equilibrio de la frecuencia eléctrica frente a variaciones de la demanda y la producción de energí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6 Rectángulo"/>
          <p:cNvSpPr/>
          <p:nvPr/>
        </p:nvSpPr>
        <p:spPr>
          <a:xfrm>
            <a:off x="1928880" y="4500720"/>
            <a:ext cx="3429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No puede RF si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Sí puede RF si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00120" y="2357280"/>
            <a:ext cx="3476520" cy="762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1285920" y="2928960"/>
            <a:ext cx="2000160" cy="1338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3"/>
          <a:stretch/>
        </p:blipFill>
        <p:spPr>
          <a:xfrm>
            <a:off x="4143240" y="4429080"/>
            <a:ext cx="4000680" cy="1042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4"/>
          <a:stretch/>
        </p:blipFill>
        <p:spPr>
          <a:xfrm>
            <a:off x="4357800" y="5500800"/>
            <a:ext cx="3500280" cy="758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5"/>
          <a:stretch/>
        </p:blipFill>
        <p:spPr>
          <a:xfrm>
            <a:off x="5143680" y="3143160"/>
            <a:ext cx="207144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ARA LA CASA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6 Rectángulo"/>
          <p:cNvSpPr/>
          <p:nvPr/>
        </p:nvSpPr>
        <p:spPr>
          <a:xfrm>
            <a:off x="428760" y="785880"/>
            <a:ext cx="76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COMPLEMENTAR CON CAPÌTULO 5 TEXTO F. HARAMBOU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85840" y="3571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6 Rectángulo"/>
          <p:cNvSpPr/>
          <p:nvPr/>
        </p:nvSpPr>
        <p:spPr>
          <a:xfrm>
            <a:off x="785880" y="142884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Celeridad en Acero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" name="4 Rectángulo"/>
          <p:cNvSpPr/>
          <p:nvPr/>
        </p:nvSpPr>
        <p:spPr>
          <a:xfrm>
            <a:off x="785880" y="55720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ra una tubería infinitamente rígid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786120" y="1428840"/>
            <a:ext cx="3429000" cy="1679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5072040" y="5429160"/>
            <a:ext cx="3630600" cy="785880"/>
          </a:xfrm>
          <a:prstGeom prst="rect">
            <a:avLst/>
          </a:prstGeom>
          <a:ln w="0">
            <a:noFill/>
          </a:ln>
        </p:spPr>
      </p:pic>
      <p:sp>
        <p:nvSpPr>
          <p:cNvPr id="159" name="7 Rectángulo"/>
          <p:cNvSpPr/>
          <p:nvPr/>
        </p:nvSpPr>
        <p:spPr>
          <a:xfrm>
            <a:off x="1214280" y="3500280"/>
            <a:ext cx="678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K: mod. Compresibilidad= 2,2*10^9 N/m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,e: Diámtero y espesor tuberí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: modulo de elasticidad del acero= 2058 N/m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Symbol"/>
                <a:ea typeface="Symbol"/>
              </a:rPr>
              <a:t>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= factor asociado al tipo de jun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85840" y="3571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" name="6 Rectángulo"/>
          <p:cNvSpPr/>
          <p:nvPr/>
        </p:nvSpPr>
        <p:spPr>
          <a:xfrm>
            <a:off x="785880" y="14288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Celeridad en Túneles excavados en roc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" name="4 Rectángulo"/>
          <p:cNvSpPr/>
          <p:nvPr/>
        </p:nvSpPr>
        <p:spPr>
          <a:xfrm>
            <a:off x="357120" y="500076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1: R externo; R2: R intern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" name="7 Rectángulo"/>
          <p:cNvSpPr/>
          <p:nvPr/>
        </p:nvSpPr>
        <p:spPr>
          <a:xfrm>
            <a:off x="928800" y="2714760"/>
            <a:ext cx="67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: módulo de rigidez del macizo (N/m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3643200" y="1214280"/>
            <a:ext cx="3357720" cy="1432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3529080" y="3357720"/>
            <a:ext cx="5167080" cy="1866600"/>
          </a:xfrm>
          <a:prstGeom prst="rect">
            <a:avLst/>
          </a:prstGeom>
          <a:ln w="0">
            <a:noFill/>
          </a:ln>
        </p:spPr>
      </p:pic>
      <p:sp>
        <p:nvSpPr>
          <p:cNvPr id="166" name="9 Rectángulo"/>
          <p:cNvSpPr/>
          <p:nvPr/>
        </p:nvSpPr>
        <p:spPr>
          <a:xfrm>
            <a:off x="285840" y="357192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Túneles revestidos excavados en roc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3929040" y="5214960"/>
            <a:ext cx="4900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85840" y="3571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6 Rectángulo"/>
          <p:cNvSpPr/>
          <p:nvPr/>
        </p:nvSpPr>
        <p:spPr>
          <a:xfrm>
            <a:off x="785880" y="1428840"/>
            <a:ext cx="357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Túneles blindado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571920" y="928800"/>
            <a:ext cx="4429080" cy="1670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714240" y="2500200"/>
            <a:ext cx="6378840" cy="1071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3"/>
          <a:stretch/>
        </p:blipFill>
        <p:spPr>
          <a:xfrm>
            <a:off x="2460600" y="3643200"/>
            <a:ext cx="43070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0" y="357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" name="6 Rectángulo"/>
          <p:cNvSpPr/>
          <p:nvPr/>
        </p:nvSpPr>
        <p:spPr>
          <a:xfrm>
            <a:off x="785880" y="857160"/>
            <a:ext cx="8001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Fenómeno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Oscilación en Masa: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CB varían lentamente, sin deformación de duct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Golpe de Ariete: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CB varían rápidamente , se debe conocer la rigidez de las pared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43040" y="2357280"/>
            <a:ext cx="5214960" cy="3117960"/>
          </a:xfrm>
          <a:prstGeom prst="rect">
            <a:avLst/>
          </a:prstGeom>
          <a:ln w="0">
            <a:noFill/>
          </a:ln>
        </p:spPr>
      </p:pic>
      <p:sp>
        <p:nvSpPr>
          <p:cNvPr id="176" name="5 Flecha a la derecha con bandas"/>
          <p:cNvSpPr/>
          <p:nvPr/>
        </p:nvSpPr>
        <p:spPr>
          <a:xfrm rot="3940200">
            <a:off x="2733480" y="2847600"/>
            <a:ext cx="1685880" cy="190440"/>
          </a:xfrm>
          <a:custGeom>
            <a:avLst/>
            <a:gdLst>
              <a:gd name="textAreaLeft" fmla="*/ 29520 w 1685880"/>
              <a:gd name="textAreaRight" fmla="*/ 1638360 w 1685880"/>
              <a:gd name="textAreaTop" fmla="*/ 47520 h 190440"/>
              <a:gd name="textAreaBottom" fmla="*/ 142920 h 190440"/>
            </a:gdLst>
            <a:ahLst/>
            <a:rect l="textAreaLeft" t="textAreaTop" r="textAreaRight" b="textAreaBottom"/>
            <a:pathLst>
              <a:path w="1685580" h="190384">
                <a:moveTo>
                  <a:pt x="0" y="47596"/>
                </a:moveTo>
                <a:lnTo>
                  <a:pt x="5950" y="47596"/>
                </a:lnTo>
                <a:lnTo>
                  <a:pt x="5950" y="142788"/>
                </a:lnTo>
                <a:lnTo>
                  <a:pt x="0" y="142788"/>
                </a:lnTo>
                <a:close/>
                <a:moveTo>
                  <a:pt x="11899" y="47596"/>
                </a:moveTo>
                <a:lnTo>
                  <a:pt x="23798" y="47596"/>
                </a:lnTo>
                <a:lnTo>
                  <a:pt x="23798" y="142788"/>
                </a:lnTo>
                <a:lnTo>
                  <a:pt x="11899" y="142788"/>
                </a:lnTo>
                <a:close/>
                <a:moveTo>
                  <a:pt x="29747" y="47596"/>
                </a:moveTo>
                <a:lnTo>
                  <a:pt x="1590388" y="47596"/>
                </a:lnTo>
                <a:lnTo>
                  <a:pt x="1590388" y="0"/>
                </a:lnTo>
                <a:lnTo>
                  <a:pt x="1685580" y="95192"/>
                </a:lnTo>
                <a:lnTo>
                  <a:pt x="1590388" y="190384"/>
                </a:lnTo>
                <a:lnTo>
                  <a:pt x="1590388" y="142788"/>
                </a:lnTo>
                <a:lnTo>
                  <a:pt x="29747" y="142788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6 Flecha a la derecha con bandas"/>
          <p:cNvSpPr/>
          <p:nvPr/>
        </p:nvSpPr>
        <p:spPr>
          <a:xfrm rot="19369200">
            <a:off x="3862080" y="4581000"/>
            <a:ext cx="1287360" cy="214560"/>
          </a:xfrm>
          <a:custGeom>
            <a:avLst/>
            <a:gdLst>
              <a:gd name="textAreaLeft" fmla="*/ 33480 w 1287360"/>
              <a:gd name="textAreaRight" fmla="*/ 1233720 w 1287360"/>
              <a:gd name="textAreaTop" fmla="*/ 53640 h 214560"/>
              <a:gd name="textAreaBottom" fmla="*/ 160920 h 214560"/>
            </a:gdLst>
            <a:ahLst/>
            <a:rect l="textAreaLeft" t="textAreaTop" r="textAreaRight" b="textAreaBottom"/>
            <a:pathLst>
              <a:path w="1285884" h="214314">
                <a:moveTo>
                  <a:pt x="0" y="53579"/>
                </a:moveTo>
                <a:lnTo>
                  <a:pt x="6697" y="53579"/>
                </a:lnTo>
                <a:lnTo>
                  <a:pt x="6697" y="160736"/>
                </a:lnTo>
                <a:lnTo>
                  <a:pt x="0" y="160736"/>
                </a:lnTo>
                <a:close/>
                <a:moveTo>
                  <a:pt x="13395" y="53579"/>
                </a:moveTo>
                <a:lnTo>
                  <a:pt x="26789" y="53579"/>
                </a:lnTo>
                <a:lnTo>
                  <a:pt x="26789" y="160736"/>
                </a:lnTo>
                <a:lnTo>
                  <a:pt x="13395" y="160736"/>
                </a:lnTo>
                <a:close/>
                <a:moveTo>
                  <a:pt x="33487" y="53579"/>
                </a:moveTo>
                <a:lnTo>
                  <a:pt x="1178727" y="53579"/>
                </a:lnTo>
                <a:lnTo>
                  <a:pt x="1178727" y="0"/>
                </a:lnTo>
                <a:lnTo>
                  <a:pt x="1285884" y="107157"/>
                </a:lnTo>
                <a:lnTo>
                  <a:pt x="1178727" y="214314"/>
                </a:lnTo>
                <a:lnTo>
                  <a:pt x="1178727" y="160736"/>
                </a:lnTo>
                <a:lnTo>
                  <a:pt x="33487" y="16073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Oscilación en Masa: De embalse a Chimene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6 Rectángulo"/>
          <p:cNvSpPr/>
          <p:nvPr/>
        </p:nvSpPr>
        <p:spPr>
          <a:xfrm>
            <a:off x="857160" y="1071720"/>
            <a:ext cx="8001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iempo desplazamiento entre embalse y chimene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&lt;&lt; T oscilación de la chimene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=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Ho: cota piezométrica extremo superi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HL: cota piezométrica extremo inferi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L,D,V: largo, diámetro y velocidad en túne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571760" y="1785960"/>
            <a:ext cx="435744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3571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Golpe de Ariete: de Chimenea a Casa de Máquin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6 Rectángulo"/>
          <p:cNvSpPr/>
          <p:nvPr/>
        </p:nvSpPr>
        <p:spPr>
          <a:xfrm>
            <a:off x="857160" y="1071720"/>
            <a:ext cx="800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Continuidad (1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Cantidad de Movimiento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2428920" y="1500120"/>
            <a:ext cx="5286240" cy="1093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2214720" y="3143160"/>
            <a:ext cx="52862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7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6 Rectángulo"/>
          <p:cNvSpPr/>
          <p:nvPr/>
        </p:nvSpPr>
        <p:spPr>
          <a:xfrm>
            <a:off x="785880" y="8571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Diferentes configuraciones, con Cámara de Carga: Ec.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1785960"/>
            <a:ext cx="4400640" cy="2209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4357800" y="1928880"/>
            <a:ext cx="4400280" cy="2438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3"/>
          <a:stretch/>
        </p:blipFill>
        <p:spPr>
          <a:xfrm>
            <a:off x="2214720" y="3857760"/>
            <a:ext cx="4647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1T02:42:43Z</dcterms:created>
  <dc:creator>juan</dc:creator>
  <dc:description/>
  <dc:language>en-US</dc:language>
  <cp:lastModifiedBy>Sala</cp:lastModifiedBy>
  <dcterms:modified xsi:type="dcterms:W3CDTF">2009-11-17T13:18:47Z</dcterms:modified>
  <cp:revision>158</cp:revision>
  <dc:subject/>
  <dc:title>CAP. 3. NOCIONES DE DISEÑO DE LAS OBRAS CIVILES DE UNA CENTRAL HIDROELÉCTRICA</dc:title>
</cp:coreProperties>
</file>