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AFB7-E165-48E2-8C0B-CDB28997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8BA8-84EC-43B7-8007-6037ED94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74EB-C024-4B5E-911F-D521F8679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2BB9-19EC-4C2E-85BE-E09CEB95C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B103B-6D4E-463C-A078-78F2981C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C1E4-6D3B-4544-BCA6-9ED2C5FF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A1C4-B073-4F9B-8A2D-2A6997B0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C675-2BBD-495E-8CD0-4A329A8C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4F74-7789-46A4-9533-FFA4D87D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0570-EAEA-44EF-9CDB-6BCC5B6A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03A9-1261-429B-94D0-F6B1F67F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7ED4-3731-4D95-9820-71A0E23D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15DE4-E427-455F-B498-47619D91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2CB4-1583-495E-845F-E21F2619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AEC9-4647-4E69-9D62-E707659D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0283-3F51-4A7A-B96A-DC6DBAA3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AFD9-0F41-47D9-A632-B2B42F7F0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652D-DDE1-4EA9-AA45-8A0B148B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6278-4D3C-4525-B91A-52CFB54B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F2A4-4FC2-4AED-BEEC-6C6436DF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60CC-51C4-4DDE-ABD3-76DF8272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5719-62F9-4894-B320-81A48ACD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D5B9-1AFB-493D-86CD-8EA21232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F838-764C-4AC6-BADF-B05FF3BC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B771-3C9C-406C-BB8B-D7D307FB460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61DICH3532   Capítul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A516-AA74-4703-A5EE-9D9000068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2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3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44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5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5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6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7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8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9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0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1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2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3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4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5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6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7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8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9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0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1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2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3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4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5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6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7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8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9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0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1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2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3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4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5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6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7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8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9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0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1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2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3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4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5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6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97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8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99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0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1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custGeom>
                <a:avLst/>
                <a:gdLst>
                  <a:gd name="textAreaLeft" fmla="*/ 360 w 247680"/>
                  <a:gd name="textAreaRight" fmla="*/ 24840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02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3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4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05" name="Arc 1090"/>
              <p:cNvSpPr/>
              <p:nvPr/>
            </p:nvSpPr>
            <p:spPr>
              <a:xfrm rot="5400000">
                <a:off x="8090640" y="5314320"/>
                <a:ext cx="247680" cy="2491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</a:path>
                  <a:path stroke="0" w="43195" h="43200">
                    <a:moveTo>
                      <a:pt x="21114" y="5"/>
                    </a:moveTo>
                    <a:cubicBezTo>
                      <a:pt x="21274" y="1"/>
                      <a:pt x="21434" y="-1"/>
                      <a:pt x="21595" y="0"/>
                    </a:cubicBezTo>
                    <a:cubicBezTo>
                      <a:pt x="33524" y="0"/>
                      <a:pt x="43195" y="9670"/>
                      <a:pt x="43195" y="21600"/>
                    </a:cubicBezTo>
                    <a:cubicBezTo>
                      <a:pt x="43195" y="33529"/>
                      <a:pt x="33524" y="43200"/>
                      <a:pt x="21595" y="43200"/>
                    </a:cubicBezTo>
                    <a:cubicBezTo>
                      <a:pt x="9843" y="43200"/>
                      <a:pt x="247" y="33805"/>
                      <a:pt x="-1" y="22056"/>
                    </a:cubicBezTo>
                    <a:lnTo>
                      <a:pt x="2159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512C-334B-48ED-A5CF-7B4509B9FEC0}" type="datetime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CI61DICH3532   Capítulo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8A76-CE6A-425C-9F27-10A76A1FB4EA}" type="slidenum">
              <a:rPr b="0" lang="en-U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395280" y="404640"/>
            <a:ext cx="820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APÍTULO 5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FENÓMENOS TRANSIENT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8" name="6 Rectángulo"/>
          <p:cNvSpPr/>
          <p:nvPr/>
        </p:nvSpPr>
        <p:spPr>
          <a:xfrm>
            <a:off x="395280" y="1557360"/>
            <a:ext cx="8072280" cy="29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ermiten resolver aspectos de diseño, que debemos conocer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Presiones y niveles extremos en aducción y descarg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Cambios en la velocidad de rotación de las unidad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Regulación de frecuencia que asegure equilibrio de demanda y de la ofer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2627280" y="3789360"/>
            <a:ext cx="4608720" cy="29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0" y="357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6 Rectángulo"/>
          <p:cNvSpPr/>
          <p:nvPr/>
        </p:nvSpPr>
        <p:spPr>
          <a:xfrm>
            <a:off x="785880" y="8571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Diferentes configuraciones, con Chimenea: Ec (1) y Ec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4000680" y="4286160"/>
            <a:ext cx="4781520" cy="21528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4800600" cy="24098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0" y="4071960"/>
            <a:ext cx="4448160" cy="2182680"/>
          </a:xfrm>
          <a:prstGeom prst="rect">
            <a:avLst/>
          </a:prstGeom>
          <a:ln w="0">
            <a:noFill/>
          </a:ln>
        </p:spPr>
      </p:pic>
      <p:sp>
        <p:nvSpPr>
          <p:cNvPr id="195" name="6 Rectángulo"/>
          <p:cNvSpPr/>
          <p:nvPr/>
        </p:nvSpPr>
        <p:spPr>
          <a:xfrm>
            <a:off x="428760" y="35002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Salidas largas: Ec (2) en evacu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0" y="357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6 Rectángulo"/>
          <p:cNvSpPr/>
          <p:nvPr/>
        </p:nvSpPr>
        <p:spPr>
          <a:xfrm>
            <a:off x="785880" y="8571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Diferentes configuraciones, con Chimenea: Ec (1) y Ec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4000680" y="4286160"/>
            <a:ext cx="4781520" cy="2152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2"/>
          <a:stretch/>
        </p:blipFill>
        <p:spPr>
          <a:xfrm>
            <a:off x="214200" y="1285920"/>
            <a:ext cx="4800600" cy="2409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"/>
          <p:cNvPicPr/>
          <p:nvPr/>
        </p:nvPicPr>
        <p:blipFill>
          <a:blip r:embed="rId3"/>
          <a:stretch/>
        </p:blipFill>
        <p:spPr>
          <a:xfrm>
            <a:off x="0" y="4071960"/>
            <a:ext cx="4448160" cy="2182680"/>
          </a:xfrm>
          <a:prstGeom prst="rect">
            <a:avLst/>
          </a:prstGeom>
          <a:ln w="0">
            <a:noFill/>
          </a:ln>
        </p:spPr>
      </p:pic>
      <p:sp>
        <p:nvSpPr>
          <p:cNvPr id="201" name="6 Rectángulo"/>
          <p:cNvSpPr/>
          <p:nvPr/>
        </p:nvSpPr>
        <p:spPr>
          <a:xfrm>
            <a:off x="428760" y="350028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Salidas largas: Ec (2) en evacuació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ndiciones de Borde. Oscilación en Mas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6 Rectángulo"/>
          <p:cNvSpPr/>
          <p:nvPr/>
        </p:nvSpPr>
        <p:spPr>
          <a:xfrm>
            <a:off x="857160" y="1071720"/>
            <a:ext cx="80010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=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Extremo superior: Embals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Extremo inferior: Chimene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1428840" y="1143000"/>
            <a:ext cx="3857400" cy="1106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"/>
          <p:cNvPicPr/>
          <p:nvPr/>
        </p:nvPicPr>
        <p:blipFill>
          <a:blip r:embed="rId2"/>
          <a:stretch/>
        </p:blipFill>
        <p:spPr>
          <a:xfrm>
            <a:off x="5929200" y="2214720"/>
            <a:ext cx="2497320" cy="928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857160" y="3571920"/>
            <a:ext cx="7000920" cy="20127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4"/>
          <a:stretch/>
        </p:blipFill>
        <p:spPr>
          <a:xfrm>
            <a:off x="1000080" y="5659560"/>
            <a:ext cx="4714920" cy="11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ondiciones de Borde.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6 Rectángulo"/>
          <p:cNvSpPr/>
          <p:nvPr/>
        </p:nvSpPr>
        <p:spPr>
          <a:xfrm>
            <a:off x="857160" y="1071720"/>
            <a:ext cx="8001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Extremo superior: CB Chimenea (ext. Inferior osc.mas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Extremo inferior: Turbina, ecuación de orificio dada por la apertura de los álabes y la carga net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571760" y="3286080"/>
            <a:ext cx="3116160" cy="1109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1714680" y="4214880"/>
            <a:ext cx="57528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3" name="6 Rectángulo"/>
          <p:cNvSpPr/>
          <p:nvPr/>
        </p:nvSpPr>
        <p:spPr>
          <a:xfrm>
            <a:off x="857160" y="1071720"/>
            <a:ext cx="800100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Método Alliev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L: longitud tubería o túnel entre Chimenea y Turbi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“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a”: celeridad ond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Ho, Vo= carga y velocidad de régimen permanent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Parámetro de Allievi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214280" y="3857760"/>
            <a:ext cx="6099480" cy="9666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4357800" y="5000760"/>
            <a:ext cx="207144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6 Rectángulo"/>
          <p:cNvSpPr/>
          <p:nvPr/>
        </p:nvSpPr>
        <p:spPr>
          <a:xfrm>
            <a:off x="857160" y="1071720"/>
            <a:ext cx="8001000" cy="80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Método Allievi, ecuaciones simplificada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Estanqu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urbin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285920" y="2143080"/>
            <a:ext cx="5807160" cy="1409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" descr=""/>
          <p:cNvPicPr/>
          <p:nvPr/>
        </p:nvPicPr>
        <p:blipFill>
          <a:blip r:embed="rId2"/>
          <a:stretch/>
        </p:blipFill>
        <p:spPr>
          <a:xfrm>
            <a:off x="2286000" y="3857760"/>
            <a:ext cx="1187280" cy="500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"/>
          <p:cNvPicPr/>
          <p:nvPr/>
        </p:nvPicPr>
        <p:blipFill>
          <a:blip r:embed="rId3"/>
          <a:stretch/>
        </p:blipFill>
        <p:spPr>
          <a:xfrm>
            <a:off x="3214800" y="4214880"/>
            <a:ext cx="2286000" cy="722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4"/>
          <a:stretch/>
        </p:blipFill>
        <p:spPr>
          <a:xfrm>
            <a:off x="5643720" y="4214880"/>
            <a:ext cx="2286000" cy="857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2286000" y="5286240"/>
            <a:ext cx="1000080" cy="4716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"/>
          <p:cNvPicPr/>
          <p:nvPr/>
        </p:nvPicPr>
        <p:blipFill>
          <a:blip r:embed="rId6"/>
          <a:stretch/>
        </p:blipFill>
        <p:spPr>
          <a:xfrm>
            <a:off x="3500280" y="5643720"/>
            <a:ext cx="3500640" cy="834840"/>
          </a:xfrm>
          <a:prstGeom prst="rect">
            <a:avLst/>
          </a:prstGeom>
          <a:ln w="0">
            <a:noFill/>
          </a:ln>
        </p:spPr>
      </p:pic>
      <p:sp>
        <p:nvSpPr>
          <p:cNvPr id="224" name="10 Flecha derecha"/>
          <p:cNvSpPr/>
          <p:nvPr/>
        </p:nvSpPr>
        <p:spPr>
          <a:xfrm>
            <a:off x="5286240" y="4500720"/>
            <a:ext cx="357480" cy="214200"/>
          </a:xfrm>
          <a:prstGeom prst="rightArrow">
            <a:avLst>
              <a:gd name="adj1" fmla="val 50000"/>
              <a:gd name="adj2" fmla="val 50067"/>
            </a:avLst>
          </a:pr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6" name="6 Rectángulo"/>
          <p:cNvSpPr/>
          <p:nvPr/>
        </p:nvSpPr>
        <p:spPr>
          <a:xfrm>
            <a:off x="857160" y="1000080"/>
            <a:ext cx="3357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Método Allievi, tubería equivalente para tuberías en seri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4500720" y="928800"/>
            <a:ext cx="1857240" cy="27702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6786720" y="1285920"/>
            <a:ext cx="2000160" cy="1942920"/>
          </a:xfrm>
          <a:prstGeom prst="rect">
            <a:avLst/>
          </a:prstGeom>
          <a:ln w="0">
            <a:noFill/>
          </a:ln>
        </p:spPr>
      </p:pic>
      <p:sp>
        <p:nvSpPr>
          <p:cNvPr id="229" name="6 Rectángulo"/>
          <p:cNvSpPr/>
          <p:nvPr/>
        </p:nvSpPr>
        <p:spPr>
          <a:xfrm>
            <a:off x="1071720" y="3786120"/>
            <a:ext cx="6143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Método Allievi, tubería equivalente para tuberías en paralelo: </a:t>
            </a: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ubería única que mantenga caudal y velocid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1" name="6 Rectángulo"/>
          <p:cNvSpPr/>
          <p:nvPr/>
        </p:nvSpPr>
        <p:spPr>
          <a:xfrm>
            <a:off x="857160" y="1000080"/>
            <a:ext cx="3357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Curvas típicas de cier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Pelt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ara el cálculo simplificado se puede ocupar una maniobra lineal equivalent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500720" y="1357200"/>
            <a:ext cx="4286160" cy="2957760"/>
          </a:xfrm>
          <a:prstGeom prst="rect">
            <a:avLst/>
          </a:prstGeom>
          <a:ln w="0">
            <a:noFill/>
          </a:ln>
        </p:spPr>
      </p:pic>
      <p:sp>
        <p:nvSpPr>
          <p:cNvPr id="233" name="14 Flecha a la derecha con bandas"/>
          <p:cNvSpPr/>
          <p:nvPr/>
        </p:nvSpPr>
        <p:spPr>
          <a:xfrm>
            <a:off x="2143080" y="2000160"/>
            <a:ext cx="2143080" cy="357120"/>
          </a:xfrm>
          <a:custGeom>
            <a:avLst/>
            <a:gdLst>
              <a:gd name="textAreaLeft" fmla="*/ 55800 w 2143080"/>
              <a:gd name="textAreaRight" fmla="*/ 2053800 w 214308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43140" h="357190">
                <a:moveTo>
                  <a:pt x="0" y="89298"/>
                </a:moveTo>
                <a:lnTo>
                  <a:pt x="11162" y="89298"/>
                </a:lnTo>
                <a:lnTo>
                  <a:pt x="11162" y="267893"/>
                </a:lnTo>
                <a:lnTo>
                  <a:pt x="0" y="267893"/>
                </a:lnTo>
                <a:close/>
                <a:moveTo>
                  <a:pt x="22324" y="89298"/>
                </a:moveTo>
                <a:lnTo>
                  <a:pt x="44649" y="89298"/>
                </a:lnTo>
                <a:lnTo>
                  <a:pt x="44649" y="267893"/>
                </a:lnTo>
                <a:lnTo>
                  <a:pt x="22324" y="267893"/>
                </a:lnTo>
                <a:close/>
                <a:moveTo>
                  <a:pt x="55811" y="89298"/>
                </a:moveTo>
                <a:lnTo>
                  <a:pt x="1964545" y="89298"/>
                </a:lnTo>
                <a:lnTo>
                  <a:pt x="1964545" y="0"/>
                </a:lnTo>
                <a:lnTo>
                  <a:pt x="2143140" y="178595"/>
                </a:lnTo>
                <a:lnTo>
                  <a:pt x="1964545" y="357190"/>
                </a:lnTo>
                <a:lnTo>
                  <a:pt x="1964545" y="267893"/>
                </a:lnTo>
                <a:lnTo>
                  <a:pt x="55811" y="267893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tretch/>
        </p:blipFill>
        <p:spPr>
          <a:xfrm>
            <a:off x="4500720" y="4857840"/>
            <a:ext cx="33843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solución Golpe de Ariet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6 Rectángulo"/>
          <p:cNvSpPr/>
          <p:nvPr/>
        </p:nvSpPr>
        <p:spPr>
          <a:xfrm>
            <a:off x="857160" y="1000080"/>
            <a:ext cx="3357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Curvas típicas de cierre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Franc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3643200" y="1785960"/>
            <a:ext cx="4357800" cy="2943360"/>
          </a:xfrm>
          <a:prstGeom prst="rect">
            <a:avLst/>
          </a:prstGeom>
          <a:ln w="0">
            <a:noFill/>
          </a:ln>
        </p:spPr>
      </p:pic>
      <p:sp>
        <p:nvSpPr>
          <p:cNvPr id="238" name="15 Flecha a la derecha con bandas"/>
          <p:cNvSpPr/>
          <p:nvPr/>
        </p:nvSpPr>
        <p:spPr>
          <a:xfrm>
            <a:off x="2214720" y="2000160"/>
            <a:ext cx="1143000" cy="357120"/>
          </a:xfrm>
          <a:custGeom>
            <a:avLst/>
            <a:gdLst>
              <a:gd name="textAreaLeft" fmla="*/ 55800 w 1143000"/>
              <a:gd name="textAreaRight" fmla="*/ 1053720 w 11430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1143008" h="357190">
                <a:moveTo>
                  <a:pt x="0" y="89298"/>
                </a:moveTo>
                <a:lnTo>
                  <a:pt x="11162" y="89298"/>
                </a:lnTo>
                <a:lnTo>
                  <a:pt x="11162" y="267893"/>
                </a:lnTo>
                <a:lnTo>
                  <a:pt x="0" y="267893"/>
                </a:lnTo>
                <a:close/>
                <a:moveTo>
                  <a:pt x="22324" y="89298"/>
                </a:moveTo>
                <a:lnTo>
                  <a:pt x="44649" y="89298"/>
                </a:lnTo>
                <a:lnTo>
                  <a:pt x="44649" y="267893"/>
                </a:lnTo>
                <a:lnTo>
                  <a:pt x="22324" y="267893"/>
                </a:lnTo>
                <a:close/>
                <a:moveTo>
                  <a:pt x="55811" y="89298"/>
                </a:moveTo>
                <a:lnTo>
                  <a:pt x="964413" y="89298"/>
                </a:lnTo>
                <a:lnTo>
                  <a:pt x="964413" y="0"/>
                </a:lnTo>
                <a:lnTo>
                  <a:pt x="1143008" y="178595"/>
                </a:lnTo>
                <a:lnTo>
                  <a:pt x="964413" y="357190"/>
                </a:lnTo>
                <a:lnTo>
                  <a:pt x="964413" y="267893"/>
                </a:lnTo>
                <a:lnTo>
                  <a:pt x="55811" y="267893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9" name="Picture 6" descr=""/>
          <p:cNvPicPr/>
          <p:nvPr/>
        </p:nvPicPr>
        <p:blipFill>
          <a:blip r:embed="rId2"/>
          <a:stretch/>
        </p:blipFill>
        <p:spPr>
          <a:xfrm>
            <a:off x="857160" y="5072040"/>
            <a:ext cx="7337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gulación de Veloc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1" name="6 Rectángulo"/>
          <p:cNvSpPr/>
          <p:nvPr/>
        </p:nvSpPr>
        <p:spPr>
          <a:xfrm>
            <a:off x="1000080" y="785880"/>
            <a:ext cx="76438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Estudio de los cambios temporales de velocidad de rotación de la unidad frente a cambios repentinos o descompensaciones entre la energía entregada por la CH y la demandada por la red, </a:t>
            </a: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en un cierto tiempo T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000080" y="2428920"/>
            <a:ext cx="7408800" cy="1285920"/>
          </a:xfrm>
          <a:prstGeom prst="rect">
            <a:avLst/>
          </a:prstGeom>
          <a:ln w="0">
            <a:noFill/>
          </a:ln>
        </p:spPr>
      </p:pic>
      <p:sp>
        <p:nvSpPr>
          <p:cNvPr id="243" name="6 Rectángulo"/>
          <p:cNvSpPr/>
          <p:nvPr/>
        </p:nvSpPr>
        <p:spPr>
          <a:xfrm>
            <a:off x="928800" y="3643200"/>
            <a:ext cx="76438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N(T): velocidad de rotación tempor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GD2: Mom. Inercia generador (el de turbina es pequeño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M: potencia mecánica turbi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E: potencia eléctrica del generador y consumida por re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2"/>
          <a:stretch/>
        </p:blipFill>
        <p:spPr>
          <a:xfrm>
            <a:off x="1000080" y="4714920"/>
            <a:ext cx="49258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85840" y="357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1" name="6 Rectángulo"/>
          <p:cNvSpPr/>
          <p:nvPr/>
        </p:nvSpPr>
        <p:spPr>
          <a:xfrm>
            <a:off x="857160" y="1428840"/>
            <a:ext cx="807264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Se inducen por cambios repentinos de las condiciones de operació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Maniobras de cierre o rechazo de carg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Maniobras de apertura o toma de carg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a respuesta del sistema es variable según se trate de sistemas en presión o a superficie libr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n sistemas a presió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buClr>
                <a:srgbClr val="40458c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3714840" y="4357800"/>
            <a:ext cx="5000400" cy="2327040"/>
          </a:xfrm>
          <a:prstGeom prst="rect">
            <a:avLst/>
          </a:prstGeom>
          <a:ln w="0">
            <a:noFill/>
          </a:ln>
        </p:spPr>
      </p:pic>
      <p:sp>
        <p:nvSpPr>
          <p:cNvPr id="153" name="4 Rectángulo"/>
          <p:cNvSpPr/>
          <p:nvPr/>
        </p:nvSpPr>
        <p:spPr>
          <a:xfrm>
            <a:off x="714240" y="521496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A= celeridad ond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= f(materia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gulación de Veloc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6 Rectángulo"/>
          <p:cNvSpPr/>
          <p:nvPr/>
        </p:nvSpPr>
        <p:spPr>
          <a:xfrm>
            <a:off x="428760" y="78588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Sobrevelocidad en tiempo Dt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7" name="6 Rectángulo"/>
          <p:cNvSpPr/>
          <p:nvPr/>
        </p:nvSpPr>
        <p:spPr>
          <a:xfrm>
            <a:off x="500040" y="2500200"/>
            <a:ext cx="7643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Symbol"/>
                <a:ea typeface="Symbol"/>
              </a:rPr>
              <a:t>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=</a:t>
            </a:r>
            <a:r>
              <a:rPr b="1" lang="es-ES" sz="2000" spc="-1" strike="noStrike">
                <a:solidFill>
                  <a:srgbClr val="002060"/>
                </a:solidFill>
                <a:latin typeface="Symbol"/>
                <a:ea typeface="Symbol"/>
              </a:rPr>
              <a:t>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hid de la turbin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.q= caudal unitario de la ecuación de la turbin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26960" y="1500120"/>
            <a:ext cx="871704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Sobreveloc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0" name="6 Rectángulo"/>
          <p:cNvSpPr/>
          <p:nvPr/>
        </p:nvSpPr>
        <p:spPr>
          <a:xfrm>
            <a:off x="428760" y="78588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Rechazos de carga: de P1 a 0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6 Rectángulo"/>
          <p:cNvSpPr/>
          <p:nvPr/>
        </p:nvSpPr>
        <p:spPr>
          <a:xfrm>
            <a:off x="571680" y="1643040"/>
            <a:ext cx="8358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elton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d: tiempoe en que actúa el deflector de chorr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Po: potencia nomina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2" name="Picture 2" descr=""/>
          <p:cNvPicPr/>
          <p:nvPr/>
        </p:nvPicPr>
        <p:blipFill>
          <a:blip r:embed="rId1"/>
          <a:stretch/>
        </p:blipFill>
        <p:spPr>
          <a:xfrm>
            <a:off x="2214720" y="1500120"/>
            <a:ext cx="3429000" cy="1279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"/>
          <p:cNvPicPr/>
          <p:nvPr/>
        </p:nvPicPr>
        <p:blipFill>
          <a:blip r:embed="rId2"/>
          <a:stretch/>
        </p:blipFill>
        <p:spPr>
          <a:xfrm>
            <a:off x="2214720" y="2786040"/>
            <a:ext cx="42145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Tahoma"/>
              </a:rPr>
              <a:t>Sobrevelocid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5" name="6 Rectángulo"/>
          <p:cNvSpPr/>
          <p:nvPr/>
        </p:nvSpPr>
        <p:spPr>
          <a:xfrm>
            <a:off x="428760" y="78588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Rechazos de carga: de P1 a P2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6 Rectángulo"/>
          <p:cNvSpPr/>
          <p:nvPr/>
        </p:nvSpPr>
        <p:spPr>
          <a:xfrm>
            <a:off x="571680" y="1643040"/>
            <a:ext cx="83581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Franci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o: 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iempo transcurrido entre desconexión del generador y cierre de los álabes de la turbin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.</a:t>
            </a: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h= sobrepresión unitaria por golpe de ariete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785960" y="1500120"/>
            <a:ext cx="7215120" cy="1497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2"/>
          <a:stretch/>
        </p:blipFill>
        <p:spPr>
          <a:xfrm>
            <a:off x="1643040" y="2786040"/>
            <a:ext cx="2786040" cy="1220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3"/>
          <a:stretch/>
        </p:blipFill>
        <p:spPr>
          <a:xfrm>
            <a:off x="1785960" y="3929040"/>
            <a:ext cx="46432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Maniobras típic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6 Rectángulo"/>
          <p:cNvSpPr/>
          <p:nvPr/>
        </p:nvSpPr>
        <p:spPr>
          <a:xfrm>
            <a:off x="428760" y="785880"/>
            <a:ext cx="7643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Niveles y Variaciones de velocida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2" name="6 Rectángulo"/>
          <p:cNvSpPr/>
          <p:nvPr/>
        </p:nvSpPr>
        <p:spPr>
          <a:xfrm>
            <a:off x="571680" y="1643040"/>
            <a:ext cx="8358120" cy="80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Rechazo total 100% a 0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oma de carga 50 – 100%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Sobrepres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Rechazo total 100% a 0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00000"/>
                </a:solidFill>
                <a:latin typeface="Tahoma"/>
              </a:rPr>
              <a:t>Depres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oma de carga 0 a 100%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a: 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iempo transcurrido para abrir los álabes o inyectores desde la posición P1 a P2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Regulación de frecuenci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6 Rectángulo"/>
          <p:cNvSpPr/>
          <p:nvPr/>
        </p:nvSpPr>
        <p:spPr>
          <a:xfrm>
            <a:off x="428760" y="785880"/>
            <a:ext cx="7643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ahoma"/>
              </a:rPr>
              <a:t>Operación de las turbinas y unidades destinadas a mantener un equilibrio de la frecuencia eléctrica frente a variaciones de la demanda y la producción de energí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6 Rectángulo"/>
          <p:cNvSpPr/>
          <p:nvPr/>
        </p:nvSpPr>
        <p:spPr>
          <a:xfrm>
            <a:off x="1928880" y="4500720"/>
            <a:ext cx="3429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No puede RF si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Sí puede RF si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1500120" y="2357280"/>
            <a:ext cx="3476520" cy="7621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1285920" y="2928960"/>
            <a:ext cx="2000160" cy="13381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4" descr=""/>
          <p:cNvPicPr/>
          <p:nvPr/>
        </p:nvPicPr>
        <p:blipFill>
          <a:blip r:embed="rId3"/>
          <a:stretch/>
        </p:blipFill>
        <p:spPr>
          <a:xfrm>
            <a:off x="4143240" y="4429080"/>
            <a:ext cx="4000680" cy="10429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"/>
          <p:cNvPicPr/>
          <p:nvPr/>
        </p:nvPicPr>
        <p:blipFill>
          <a:blip r:embed="rId4"/>
          <a:stretch/>
        </p:blipFill>
        <p:spPr>
          <a:xfrm>
            <a:off x="4357800" y="5500800"/>
            <a:ext cx="3500280" cy="7588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"/>
          <p:cNvPicPr/>
          <p:nvPr/>
        </p:nvPicPr>
        <p:blipFill>
          <a:blip r:embed="rId5"/>
          <a:stretch/>
        </p:blipFill>
        <p:spPr>
          <a:xfrm>
            <a:off x="5143680" y="3143160"/>
            <a:ext cx="207144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0" y="357120"/>
            <a:ext cx="65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ARA LA CASA…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6 Rectángulo"/>
          <p:cNvSpPr/>
          <p:nvPr/>
        </p:nvSpPr>
        <p:spPr>
          <a:xfrm>
            <a:off x="428760" y="785880"/>
            <a:ext cx="764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ahoma"/>
              </a:rPr>
              <a:t>COMPLEMENTAR CON CAPÌTULO 5 TEXTO F. HARAMBOU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85840" y="357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5" name="6 Rectángulo"/>
          <p:cNvSpPr/>
          <p:nvPr/>
        </p:nvSpPr>
        <p:spPr>
          <a:xfrm>
            <a:off x="785880" y="1428840"/>
            <a:ext cx="807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Celeridad en Acero: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6" name="4 Rectángulo"/>
          <p:cNvSpPr/>
          <p:nvPr/>
        </p:nvSpPr>
        <p:spPr>
          <a:xfrm>
            <a:off x="785880" y="5572080"/>
            <a:ext cx="44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ra una tubería infinitamente rígid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3786120" y="1428840"/>
            <a:ext cx="3429000" cy="1679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5072040" y="5429160"/>
            <a:ext cx="3630600" cy="785880"/>
          </a:xfrm>
          <a:prstGeom prst="rect">
            <a:avLst/>
          </a:prstGeom>
          <a:ln w="0">
            <a:noFill/>
          </a:ln>
        </p:spPr>
      </p:pic>
      <p:sp>
        <p:nvSpPr>
          <p:cNvPr id="159" name="7 Rectángulo"/>
          <p:cNvSpPr/>
          <p:nvPr/>
        </p:nvSpPr>
        <p:spPr>
          <a:xfrm>
            <a:off x="1214280" y="3500280"/>
            <a:ext cx="678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K: mod. Compresibilidad= 2,2*10^9 N/m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D,e: Diámtero y espesor tuberí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E: modulo de elasticidad del acero= 2058 N/m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Symbol"/>
                <a:ea typeface="Symbol"/>
              </a:rPr>
              <a:t></a:t>
            </a:r>
            <a:r>
              <a:rPr b="0" lang="es-ES" sz="2000" spc="-1" strike="noStrike">
                <a:solidFill>
                  <a:srgbClr val="40458c"/>
                </a:solidFill>
                <a:latin typeface="Tahoma"/>
              </a:rPr>
              <a:t>= factor asociado al tipo de jun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285840" y="357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1" name="6 Rectángulo"/>
          <p:cNvSpPr/>
          <p:nvPr/>
        </p:nvSpPr>
        <p:spPr>
          <a:xfrm>
            <a:off x="785880" y="14288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Celeridad en Túneles excavados en roc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2" name="4 Rectángulo"/>
          <p:cNvSpPr/>
          <p:nvPr/>
        </p:nvSpPr>
        <p:spPr>
          <a:xfrm>
            <a:off x="357120" y="500076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1: R externo; R2: R intern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3" name="7 Rectángulo"/>
          <p:cNvSpPr/>
          <p:nvPr/>
        </p:nvSpPr>
        <p:spPr>
          <a:xfrm>
            <a:off x="928800" y="2714760"/>
            <a:ext cx="678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: módulo de rigidez del macizo (N/m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3643200" y="1214280"/>
            <a:ext cx="3357720" cy="1432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3529080" y="3357720"/>
            <a:ext cx="5167080" cy="1866600"/>
          </a:xfrm>
          <a:prstGeom prst="rect">
            <a:avLst/>
          </a:prstGeom>
          <a:ln w="0">
            <a:noFill/>
          </a:ln>
        </p:spPr>
      </p:pic>
      <p:sp>
        <p:nvSpPr>
          <p:cNvPr id="166" name="9 Rectángulo"/>
          <p:cNvSpPr/>
          <p:nvPr/>
        </p:nvSpPr>
        <p:spPr>
          <a:xfrm>
            <a:off x="285840" y="357192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Túneles revestidos excavados en roca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3"/>
          <a:stretch/>
        </p:blipFill>
        <p:spPr>
          <a:xfrm>
            <a:off x="3929040" y="5214960"/>
            <a:ext cx="49006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285840" y="357120"/>
            <a:ext cx="67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6 Rectángulo"/>
          <p:cNvSpPr/>
          <p:nvPr/>
        </p:nvSpPr>
        <p:spPr>
          <a:xfrm>
            <a:off x="785880" y="1428840"/>
            <a:ext cx="357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Túneles blindado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3571920" y="928800"/>
            <a:ext cx="4429080" cy="1670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714240" y="2500200"/>
            <a:ext cx="6378840" cy="1071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3"/>
          <a:stretch/>
        </p:blipFill>
        <p:spPr>
          <a:xfrm>
            <a:off x="2460600" y="3643200"/>
            <a:ext cx="430704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0" y="357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4" name="6 Rectángulo"/>
          <p:cNvSpPr/>
          <p:nvPr/>
        </p:nvSpPr>
        <p:spPr>
          <a:xfrm>
            <a:off x="785880" y="857160"/>
            <a:ext cx="80010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Fenómenos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Oscilación en Masa: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B varían lentamente, sin deformación de duct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Golpe de Ariete: 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CB varían rápidamente , se debe conocer la rigidez de las pared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43040" y="2357280"/>
            <a:ext cx="5214960" cy="3117960"/>
          </a:xfrm>
          <a:prstGeom prst="rect">
            <a:avLst/>
          </a:prstGeom>
          <a:ln w="0">
            <a:noFill/>
          </a:ln>
        </p:spPr>
      </p:pic>
      <p:sp>
        <p:nvSpPr>
          <p:cNvPr id="176" name="5 Flecha a la derecha con bandas"/>
          <p:cNvSpPr/>
          <p:nvPr/>
        </p:nvSpPr>
        <p:spPr>
          <a:xfrm rot="3940200">
            <a:off x="2733480" y="2847600"/>
            <a:ext cx="1685880" cy="190440"/>
          </a:xfrm>
          <a:custGeom>
            <a:avLst/>
            <a:gdLst>
              <a:gd name="textAreaLeft" fmla="*/ 29520 w 1685880"/>
              <a:gd name="textAreaRight" fmla="*/ 1638360 w 1685880"/>
              <a:gd name="textAreaTop" fmla="*/ 47520 h 190440"/>
              <a:gd name="textAreaBottom" fmla="*/ 142920 h 190440"/>
            </a:gdLst>
            <a:ahLst/>
            <a:rect l="textAreaLeft" t="textAreaTop" r="textAreaRight" b="textAreaBottom"/>
            <a:pathLst>
              <a:path w="1685580" h="190384">
                <a:moveTo>
                  <a:pt x="0" y="47596"/>
                </a:moveTo>
                <a:lnTo>
                  <a:pt x="5950" y="47596"/>
                </a:lnTo>
                <a:lnTo>
                  <a:pt x="5950" y="142788"/>
                </a:lnTo>
                <a:lnTo>
                  <a:pt x="0" y="142788"/>
                </a:lnTo>
                <a:close/>
                <a:moveTo>
                  <a:pt x="11899" y="47596"/>
                </a:moveTo>
                <a:lnTo>
                  <a:pt x="23798" y="47596"/>
                </a:lnTo>
                <a:lnTo>
                  <a:pt x="23798" y="142788"/>
                </a:lnTo>
                <a:lnTo>
                  <a:pt x="11899" y="142788"/>
                </a:lnTo>
                <a:close/>
                <a:moveTo>
                  <a:pt x="29747" y="47596"/>
                </a:moveTo>
                <a:lnTo>
                  <a:pt x="1590388" y="47596"/>
                </a:lnTo>
                <a:lnTo>
                  <a:pt x="1590388" y="0"/>
                </a:lnTo>
                <a:lnTo>
                  <a:pt x="1685580" y="95192"/>
                </a:lnTo>
                <a:lnTo>
                  <a:pt x="1590388" y="190384"/>
                </a:lnTo>
                <a:lnTo>
                  <a:pt x="1590388" y="142788"/>
                </a:lnTo>
                <a:lnTo>
                  <a:pt x="29747" y="142788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6 Flecha a la derecha con bandas"/>
          <p:cNvSpPr/>
          <p:nvPr/>
        </p:nvSpPr>
        <p:spPr>
          <a:xfrm rot="19369200">
            <a:off x="3862080" y="4581000"/>
            <a:ext cx="1287360" cy="214560"/>
          </a:xfrm>
          <a:custGeom>
            <a:avLst/>
            <a:gdLst>
              <a:gd name="textAreaLeft" fmla="*/ 33480 w 1287360"/>
              <a:gd name="textAreaRight" fmla="*/ 1233720 w 1287360"/>
              <a:gd name="textAreaTop" fmla="*/ 53640 h 214560"/>
              <a:gd name="textAreaBottom" fmla="*/ 160920 h 214560"/>
            </a:gdLst>
            <a:ahLst/>
            <a:rect l="textAreaLeft" t="textAreaTop" r="textAreaRight" b="textAreaBottom"/>
            <a:pathLst>
              <a:path w="1285884" h="214314">
                <a:moveTo>
                  <a:pt x="0" y="53579"/>
                </a:moveTo>
                <a:lnTo>
                  <a:pt x="6697" y="53579"/>
                </a:lnTo>
                <a:lnTo>
                  <a:pt x="6697" y="160736"/>
                </a:lnTo>
                <a:lnTo>
                  <a:pt x="0" y="160736"/>
                </a:lnTo>
                <a:close/>
                <a:moveTo>
                  <a:pt x="13395" y="53579"/>
                </a:moveTo>
                <a:lnTo>
                  <a:pt x="26789" y="53579"/>
                </a:lnTo>
                <a:lnTo>
                  <a:pt x="26789" y="160736"/>
                </a:lnTo>
                <a:lnTo>
                  <a:pt x="13395" y="160736"/>
                </a:lnTo>
                <a:close/>
                <a:moveTo>
                  <a:pt x="33487" y="53579"/>
                </a:moveTo>
                <a:lnTo>
                  <a:pt x="1178727" y="53579"/>
                </a:lnTo>
                <a:lnTo>
                  <a:pt x="1178727" y="0"/>
                </a:lnTo>
                <a:lnTo>
                  <a:pt x="1285884" y="107157"/>
                </a:lnTo>
                <a:lnTo>
                  <a:pt x="1178727" y="214314"/>
                </a:lnTo>
                <a:lnTo>
                  <a:pt x="1178727" y="160736"/>
                </a:lnTo>
                <a:lnTo>
                  <a:pt x="33487" y="160736"/>
                </a:ln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0" y="35712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Oscilación en Masa: De embalse a Chime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9" name="6 Rectángulo"/>
          <p:cNvSpPr/>
          <p:nvPr/>
        </p:nvSpPr>
        <p:spPr>
          <a:xfrm>
            <a:off x="857160" y="1071720"/>
            <a:ext cx="80010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Tiempo desplazamiento entre embalse y chimene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&lt;&lt; T oscilación de la chimene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=&gt;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Ho: cota piezométrica extremo superi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HL: cota piezométrica extremo inferi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L,D,V: largo, diámetro y velocidad en túne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1571760" y="1785960"/>
            <a:ext cx="435744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357120"/>
            <a:ext cx="86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Golpe de Ariete: de Chimenea a Casa de Máquin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6 Rectángulo"/>
          <p:cNvSpPr/>
          <p:nvPr/>
        </p:nvSpPr>
        <p:spPr>
          <a:xfrm>
            <a:off x="857160" y="1071720"/>
            <a:ext cx="8001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Continuidad (1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Cantidad de Movimiento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206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2428920" y="1500120"/>
            <a:ext cx="5286240" cy="10936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2214720" y="3143160"/>
            <a:ext cx="52862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357120"/>
            <a:ext cx="67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Presiones en las obras de adu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6 Rectángulo"/>
          <p:cNvSpPr/>
          <p:nvPr/>
        </p:nvSpPr>
        <p:spPr>
          <a:xfrm>
            <a:off x="785880" y="85716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ahoma"/>
              </a:rPr>
              <a:t>Diferentes configuraciones, con Cámara de Carga: Ec. (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s-E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0" y="1785960"/>
            <a:ext cx="4400640" cy="22096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4357800" y="1928880"/>
            <a:ext cx="4400280" cy="2438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3"/>
          <a:stretch/>
        </p:blipFill>
        <p:spPr>
          <a:xfrm>
            <a:off x="2214720" y="3857760"/>
            <a:ext cx="46479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1T02:42:43Z</dcterms:created>
  <dc:creator>juan</dc:creator>
  <dc:description/>
  <dc:language>en-US</dc:language>
  <cp:lastModifiedBy>Sala</cp:lastModifiedBy>
  <dcterms:modified xsi:type="dcterms:W3CDTF">2009-11-17T13:18:47Z</dcterms:modified>
  <cp:revision>158</cp:revision>
  <dc:subject/>
  <dc:title>CAP. 3. NOCIONES DE DISEÑO DE LAS OBRAS CIVILES DE UNA CENTRAL HIDROELÉCTRICA</dc:title>
</cp:coreProperties>
</file>