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BD61C-1036-4386-BA7A-69F57B515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D3F57-B62C-4F76-AF64-624B90D14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25F14-C919-472F-9441-B43A5B677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4BAFD-29B0-4093-85EC-75B04E9E7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35087-88BD-42E5-A14C-05C2219C0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7FF5D-FEDE-4929-89F2-1AEEDE1B4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F5B03-F27D-4D50-B753-9F3C52418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D0069-C8B0-44B1-8C39-AA52938B2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34199-348F-4975-9618-825DECE74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F2E06-9F3C-411C-A97D-A634B867F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2A5B2-0862-48C6-A558-9820BC528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F2E3D-77A4-44EC-90F4-9E53DCE8A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3FDB4-8D3C-45EC-816B-3DFB6E9E0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F7736-4279-4883-98A8-235B45B03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41F31-4CAC-4B91-A206-44C3A397B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E94D7-4315-4167-BB8A-7C4638400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D668A-4111-4C76-ADE6-5A22BAEB3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79E76-6902-466E-B5D5-3338867DD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7FBD3-E221-42E2-9940-0501A8461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BCE0F-229C-4BCC-8218-FA246763B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81C90-1D4B-4432-A3C9-319EBF1F0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45F9C-1CA2-4F85-8858-62CACCB0F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9B64C-7252-4367-B8DF-B5A0C82CC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265FF-565C-4D00-8DE4-221059F7C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D6C09-8DCA-4BD1-985D-1B5237345353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C2309-1F2D-488C-8324-E1CD9EBBC54C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e5e5ff"/>
                </a:solidFill>
                <a:latin typeface="Garamond"/>
              </a:rPr>
              <a:t>CI 52A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Rocas y Tronadur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ROC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7913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Excavación en roca requiere operaciones adicionales para “soltar” el materi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Cincel (punto) y comb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Martillos neumáticos (guagua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Agentes químicos expansivo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Desgarrador (ripper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Explosivo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6934320" y="1676520"/>
            <a:ext cx="1809720" cy="1828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2"/>
          <a:stretch/>
        </p:blipFill>
        <p:spPr>
          <a:xfrm>
            <a:off x="6934320" y="4419720"/>
            <a:ext cx="188568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Rippe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7" name="Picture 7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7772400" cy="51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TRONADURA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En general es la solución más económica cuando hay que demoler grandes cantidades de roc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Efecto de golpe (explosión no confinada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Efecto de la expansión de gases (explosión confinada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Picture 5" descr="Blasting rock used to build the causeway"/>
          <p:cNvPicPr/>
          <p:nvPr/>
        </p:nvPicPr>
        <p:blipFill>
          <a:blip r:embed="rId1"/>
          <a:stretch/>
        </p:blipFill>
        <p:spPr>
          <a:xfrm>
            <a:off x="4284720" y="4005360"/>
            <a:ext cx="428616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TRONADURA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Explosivos comercial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Dinamita: nitroglicerina con agentes estabilizadores (celulosa). Se clasifican según % en peso de la nitroglicerina sobre el total del cartuch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Tronex (ENAEX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Picture 5" descr="Dynamite%20stick%2001"/>
          <p:cNvPicPr/>
          <p:nvPr/>
        </p:nvPicPr>
        <p:blipFill>
          <a:blip r:embed="rId1"/>
          <a:stretch/>
        </p:blipFill>
        <p:spPr>
          <a:xfrm>
            <a:off x="3924360" y="3645000"/>
            <a:ext cx="4629240" cy="29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TRONADURA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Explosivos comercial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ANFO: nitrato de amonio + 5.2% de petróleo Nº 2 (diesel). El ANFO se escurre libremente y puede ser inyectado en las perforaciones. No es resistente al agua (usar lechada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5" descr="Anfo"/>
          <p:cNvPicPr/>
          <p:nvPr/>
        </p:nvPicPr>
        <p:blipFill>
          <a:blip r:embed="rId1"/>
          <a:stretch/>
        </p:blipFill>
        <p:spPr>
          <a:xfrm>
            <a:off x="5219640" y="4076640"/>
            <a:ext cx="3492720" cy="23702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semilla03"/>
          <p:cNvPicPr/>
          <p:nvPr/>
        </p:nvPicPr>
        <p:blipFill>
          <a:blip r:embed="rId2"/>
          <a:stretch/>
        </p:blipFill>
        <p:spPr>
          <a:xfrm>
            <a:off x="611280" y="4221000"/>
            <a:ext cx="1028520" cy="8956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Moeller Portable Fuel Tanks"/>
          <p:cNvPicPr/>
          <p:nvPr/>
        </p:nvPicPr>
        <p:blipFill>
          <a:blip r:embed="rId3"/>
          <a:stretch/>
        </p:blipFill>
        <p:spPr>
          <a:xfrm>
            <a:off x="1835280" y="5084640"/>
            <a:ext cx="1428480" cy="142884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10"/>
          <p:cNvSpPr/>
          <p:nvPr/>
        </p:nvSpPr>
        <p:spPr>
          <a:xfrm>
            <a:off x="3635280" y="4653000"/>
            <a:ext cx="1440000" cy="1152360"/>
          </a:xfrm>
          <a:custGeom>
            <a:avLst/>
            <a:gdLst>
              <a:gd name="textAreaLeft" fmla="*/ 180000 w 1440000"/>
              <a:gd name="textAreaRight" fmla="*/ 1260000 w 1440000"/>
              <a:gd name="textAreaTop" fmla="*/ 288000 h 1152360"/>
              <a:gd name="textAreaBottom" fmla="*/ 86436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TRONADURA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Explosivos comercial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Lechadas (slurry): gel de agua o emulsiones. Mezclas de sales oxidantes, combustibles y sensibilizadores (aire, partículas de aluminio o nitrocelulosa). Pueden mezclase in situ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Cuando no contienen sensibilizadores se denominan emulsion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Picture 5" descr="slurry1.jpg (52044 bytes)"/>
          <p:cNvPicPr/>
          <p:nvPr/>
        </p:nvPicPr>
        <p:blipFill>
          <a:blip r:embed="rId1"/>
          <a:srcRect l="0" t="30418" r="0" b="0"/>
          <a:stretch/>
        </p:blipFill>
        <p:spPr>
          <a:xfrm>
            <a:off x="3851280" y="4797360"/>
            <a:ext cx="475308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TRONADURA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Detonant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Primacord. Explosivo (Pentrita) envuelto en fibras, avanza a unos 23000 km/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Eléctricos. Instantáneos o retardados (hasta 7seg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5" descr="prima cord.jpg (45935 bytes)"/>
          <p:cNvPicPr/>
          <p:nvPr/>
        </p:nvPicPr>
        <p:blipFill>
          <a:blip r:embed="rId1"/>
          <a:stretch/>
        </p:blipFill>
        <p:spPr>
          <a:xfrm>
            <a:off x="1042920" y="4076640"/>
            <a:ext cx="2638440" cy="19051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Product Photo"/>
          <p:cNvPicPr/>
          <p:nvPr/>
        </p:nvPicPr>
        <p:blipFill>
          <a:blip r:embed="rId2"/>
          <a:stretch/>
        </p:blipFill>
        <p:spPr>
          <a:xfrm>
            <a:off x="4643280" y="3933720"/>
            <a:ext cx="381024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7T19:44:22Z</dcterms:created>
  <dc:creator>William Wragg L.</dc:creator>
  <dc:description/>
  <dc:language>en-US</dc:language>
  <cp:lastModifiedBy>William Wragg</cp:lastModifiedBy>
  <dcterms:modified xsi:type="dcterms:W3CDTF">2009-08-25T12:39:31Z</dcterms:modified>
  <cp:revision>10</cp:revision>
  <dc:subject/>
  <dc:title>CI 52A</dc:title>
</cp:coreProperties>
</file>