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539-5CD8-429E-9628-EBDD72E18D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Tip: metodología para galpones con fundaciones aisl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4A0E-04AB-41FC-B147-401516265B8B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2CA-6F5D-472C-A83D-685F532B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693-476B-43C2-8974-3977FD64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EFE-3C7F-4F11-A467-48A03A66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871-E632-43B6-BC19-7C782EC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5AF5-A217-49BE-A033-5CEBFEAA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91E4-7FD1-42A5-A9A4-E9620C8D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0B9B-9998-42EF-8677-5AF6EBB5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212A-4381-402F-915B-2E67A21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776-3C33-4E2E-B34B-1FB4690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864C-8209-4E81-9C5B-3E44808B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039D-638A-4773-9876-F1EAED31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4D7-17C7-4E19-B125-BCF64978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8E6-F772-4222-9A49-B873E2E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4A2A-B596-42DD-9A14-5FA972E4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F3A2-58DC-4280-B9EE-C291FEEE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3BB-DFF4-4CAC-A8BC-C10A342F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BB7D-BB50-486D-B57A-FAF67E62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851-225F-43EC-A766-3FAC177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3D4-008A-4052-909B-5D7F0DC4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8B2-12ED-4B22-9BBD-8B427138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D85-029E-4E63-BDD5-D5BAC15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5B5-B053-4FE0-8245-DEB9EAB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FF3-02CC-434C-8920-D865FC7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1E5-1AB7-43DE-AA40-33D3C8F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39BF-B990-4A9F-B6D9-F16D7ED68B79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ADB-2C92-430C-BC9C-ED394AC3096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ducción de rodi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d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/hora =16,3 W S L Ef /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 ancho compactado en 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 velocidad del rodillo en mp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 espesor de la capa en pulg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 número de pas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á en volumen suelto. Hay que aplicar factor para obtener volumen en ban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n materiales adecuados para su uso en estado natural, otros hay que harnearlos y/o chanca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sificación USCS (unified soil classification syst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granulare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avel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nd. Well/Poor graduado, M (polvo fino no cohesivo), C (con arcill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fino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polvo-limo)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ganic.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w/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gh plasti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91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determ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sayos Proctor y Proctor Modificado (suelos cohesiv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elos granulares DR=(Dmax-D)/(Dmax-Dm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especifi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un porcentaje del ensayo está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Por qué es importan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a gran correlación entre densidad y el módulo de reacción de la subrasante (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4104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se mide en terre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o de a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símetro nuclear (emite radiación y compara rayos reflejados versus patr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uevo instrumento que mide directamente el Módulo de Young o Constante de Balasto (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9432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étodos de compac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acto (limo, arcilla confin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ión (limo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bración (arena, gra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ipulación (limo, grava, arena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029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“pata de cabra” (sheepfoot roll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rmalmente de arrast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ctúan por pres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de almohadil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mohadillas con caras que se agrandan a medida que se acercan al tambor (forma piramid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mpacto y pre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 mayor velocidad son más eficientes, pero necesitan cancha grande. 13 a 20 k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791320" y="4343400"/>
            <a:ext cx="29239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5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mbor liso vibr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=1/2 m v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arrastre, dos tambores, tambor y rue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000 a 5000 ciclos/m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elocidad 3 a 6 k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ctúan por presión, impacto y vib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odillo apisonador: similar al anterior, pero con almohadil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929200" y="1500120"/>
            <a:ext cx="2624400" cy="25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999800"/>
            <a:ext cx="5638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s de ruedas neumáticas (pata de go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uedas neumáticas, eje excéntr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grandes unidades de arrastre de hasta 200 tonel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 medida que se va compactando el material se va aumentando la presión de los neumá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so de last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444760" cy="26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072120" y="4429080"/>
            <a:ext cx="300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172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men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ison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inu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lote vib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actación dinámica dejando caer pesos levantados con grú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314440" cy="1838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7250040" y="3886200"/>
            <a:ext cx="150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20T13:46:21Z</dcterms:modified>
  <cp:revision>37</cp:revision>
  <dc:subject/>
  <dc:title>CI 52A Métodos Constructivos</dc:title>
</cp:coreProperties>
</file>