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BB95-E79C-403D-AFB4-AE29F196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BB13-8313-4D23-9D6B-4AEE17EB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E012-8F85-48C5-9EB7-BF478D6B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4490-995C-46F3-A875-D3042323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E54F-4C88-4029-9CC6-AA95F07D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B79C-E29F-440D-94D8-97F7245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34D7-56B9-4B6B-9A7A-626D4F8F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FCF8-B192-48D9-9FE6-5776B706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1569-F435-4579-9EF3-C32E7B3B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8137-5EE0-4B23-9B73-5416646E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1217-74DA-4695-9780-11866C7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4C47-784E-4D55-AE1A-8B6078A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EB69-C5BE-41D2-9F5E-E2ED8066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26FD-B792-4BE1-BCF7-F85CDE75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D3E9-344B-40BE-B832-26A27FA4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8CEE-4940-41CA-95B4-933D30F2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184D-0921-4AD7-AAC8-60562AE5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8666-FCC8-4593-ABBF-4F26F8F6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E443-349F-40BA-A396-60AA1F9B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D1CD-777E-4BF4-B824-1E3EDAC8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3ED4-BD25-4E8B-8E3E-7A0BFEC3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E9E5-F86B-4EE7-8B32-3D250F5E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4207-DFB9-4896-B558-982C006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4D32-2EA2-4015-8FD7-DEC32192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B20D-28F2-4CA0-B94F-A76DD363DEC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B531-D75C-470E-A1F3-D8C41E9502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ocas y Tronadur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O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cavación en roca requiere operaciones adicionales para “soltar” el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incel (punto) y comb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artillos neumáticos (guagu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gentes químicos expan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sgarrador (ripp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plo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88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ip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general es la solución más económica cuando hay que demoler grandes cantidades de ro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golpe (explosión no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la expansión de gases (explosión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lasting rock used to build the causeway"/>
          <p:cNvPicPr/>
          <p:nvPr/>
        </p:nvPicPr>
        <p:blipFill>
          <a:blip r:embed="rId1"/>
          <a:stretch/>
        </p:blipFill>
        <p:spPr>
          <a:xfrm>
            <a:off x="4284720" y="4005360"/>
            <a:ext cx="42861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namita: nitroglicerina con agentes estabilizadores (celulosa). Se clasifican según % en peso de la nitroglicerina sobre el total del cartuch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ronex (ENA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Dynamite%20stick%2001"/>
          <p:cNvPicPr/>
          <p:nvPr/>
        </p:nvPicPr>
        <p:blipFill>
          <a:blip r:embed="rId1"/>
          <a:stretch/>
        </p:blipFill>
        <p:spPr>
          <a:xfrm>
            <a:off x="3924360" y="3645000"/>
            <a:ext cx="46292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FO: nitrato de amonio + 5.2% de petróleo Nº 2 (diesel). El ANFO se escurre libremente y puede ser inyectado en las perforaciones. No es resistente al agua (usar lechad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Anfo"/>
          <p:cNvPicPr/>
          <p:nvPr/>
        </p:nvPicPr>
        <p:blipFill>
          <a:blip r:embed="rId1"/>
          <a:stretch/>
        </p:blipFill>
        <p:spPr>
          <a:xfrm>
            <a:off x="5219640" y="4076640"/>
            <a:ext cx="3492720" cy="237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emilla03"/>
          <p:cNvPicPr/>
          <p:nvPr/>
        </p:nvPicPr>
        <p:blipFill>
          <a:blip r:embed="rId2"/>
          <a:stretch/>
        </p:blipFill>
        <p:spPr>
          <a:xfrm>
            <a:off x="611280" y="4221000"/>
            <a:ext cx="102852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eller Portable Fuel Tanks"/>
          <p:cNvPicPr/>
          <p:nvPr/>
        </p:nvPicPr>
        <p:blipFill>
          <a:blip r:embed="rId3"/>
          <a:stretch/>
        </p:blipFill>
        <p:spPr>
          <a:xfrm>
            <a:off x="183528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3635280" y="4653000"/>
            <a:ext cx="1440000" cy="1152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echadas (slurry): gel de agua o emulsiones. Mezclas de sales oxidantes, combustibles y sensibilizadores (aire, partículas de aluminio o nitrocelulosa). Pueden mezclase in si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ando no contienen sensibilizadores se denominan emuls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slurry1.jpg (52044 bytes)"/>
          <p:cNvPicPr/>
          <p:nvPr/>
        </p:nvPicPr>
        <p:blipFill>
          <a:blip r:embed="rId1"/>
          <a:srcRect l="0" t="30418" r="0" b="0"/>
          <a:stretch/>
        </p:blipFill>
        <p:spPr>
          <a:xfrm>
            <a:off x="3851280" y="4797360"/>
            <a:ext cx="475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eton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macord. Explosivo (Pentrita) envuelto en fibras, avanza a unos 23000 km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éctricos. Instantáneos o retardados (hasta 7se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prima cord.jpg (45935 bytes)"/>
          <p:cNvPicPr/>
          <p:nvPr/>
        </p:nvPicPr>
        <p:blipFill>
          <a:blip r:embed="rId1"/>
          <a:stretch/>
        </p:blipFill>
        <p:spPr>
          <a:xfrm>
            <a:off x="1042920" y="4076640"/>
            <a:ext cx="2638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roduct Photo"/>
          <p:cNvPicPr/>
          <p:nvPr/>
        </p:nvPicPr>
        <p:blipFill>
          <a:blip r:embed="rId2"/>
          <a:stretch/>
        </p:blipFill>
        <p:spPr>
          <a:xfrm>
            <a:off x="4643280" y="39337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44:22Z</dcterms:created>
  <dc:creator>William Wragg L.</dc:creator>
  <dc:description/>
  <dc:language>en-US</dc:language>
  <cp:lastModifiedBy>William Wragg</cp:lastModifiedBy>
  <dcterms:modified xsi:type="dcterms:W3CDTF">2009-08-25T12:39:31Z</dcterms:modified>
  <cp:revision>10</cp:revision>
  <dc:subject/>
  <dc:title>CI 52A</dc:title>
</cp:coreProperties>
</file>