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543C-DF1B-47F2-BDD7-5506D51E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5A537-E86D-4E0E-9735-C565080A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B928D-4C89-4861-91B7-A8A908CF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6F1BE-D0F4-4B65-B984-7B2B692F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A08A-C748-4432-9F91-461459BD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5000-11E3-42EA-B113-8A255FC9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87A9-F4B5-4742-96B2-C454E92F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942D-13D8-44B5-BAB6-CDC50C89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95F0-8D91-4C15-A69E-BAC76E30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F708-4D92-4EAD-B33E-781ADAB4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9504-695B-4FFB-8FB1-12F33930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8444-BC1E-4E05-A7EF-3AEDD986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A878-9B43-4513-ACE4-56F7420E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E33B-35DA-4D8F-9E8D-DEBCDBFC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5A41-FDCF-4E6D-AE1E-B23DCFA0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82EA-886D-4F4D-BA79-96473AD2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6249-EC17-4292-B935-0D72497E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7C21-9CFC-456A-9C95-16B61827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F4FE-1DCC-4A7C-A1D8-41A3AF46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306D6-4C37-48F0-AF38-B49475FE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803BF-E03F-4D84-BD4A-85A65534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685F1-45F3-4758-8384-A4F6AEA9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5C5A-21DD-41F1-9A71-8C5369C8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1F123-04FF-4D5B-8147-634F9A66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265B-B909-44AB-ACC4-05A14EB46D2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AD28-DC1C-4C5C-8A56-825CACABC62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Rocas y Tronadur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O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cavación en roca requiere operaciones adicionales para “soltar” el mater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incel (punto) y comb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Martillos neumáticos (guagu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gentes químicos expan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sgarrador (ripp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plosiv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80972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8856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ipp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7724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n general es la solución más económica cuando hay que demoler grandes cantidades de ro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golpe (explosión no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de la expansión de gases (explosión confinad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Blasting rock used to build the causeway"/>
          <p:cNvPicPr/>
          <p:nvPr/>
        </p:nvPicPr>
        <p:blipFill>
          <a:blip r:embed="rId1"/>
          <a:stretch/>
        </p:blipFill>
        <p:spPr>
          <a:xfrm>
            <a:off x="4284720" y="4005360"/>
            <a:ext cx="42861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inamita: nitroglicerina con agentes estabilizadores (celulosa). Se clasifican según % en peso de la nitroglicerina sobre el total del cartuch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Tronex (ENAEX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Dynamite%20stick%2001"/>
          <p:cNvPicPr/>
          <p:nvPr/>
        </p:nvPicPr>
        <p:blipFill>
          <a:blip r:embed="rId1"/>
          <a:stretch/>
        </p:blipFill>
        <p:spPr>
          <a:xfrm>
            <a:off x="3924360" y="3645000"/>
            <a:ext cx="46292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NFO: nitrato de amonio + 5.2% de petróleo Nº 2 (diesel). El ANFO se escurre libremente y puede ser inyectado en las perforaciones. No es resistente al agua (usar lechad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Anfo"/>
          <p:cNvPicPr/>
          <p:nvPr/>
        </p:nvPicPr>
        <p:blipFill>
          <a:blip r:embed="rId1"/>
          <a:stretch/>
        </p:blipFill>
        <p:spPr>
          <a:xfrm>
            <a:off x="5219640" y="4076640"/>
            <a:ext cx="3492720" cy="237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semilla03"/>
          <p:cNvPicPr/>
          <p:nvPr/>
        </p:nvPicPr>
        <p:blipFill>
          <a:blip r:embed="rId2"/>
          <a:stretch/>
        </p:blipFill>
        <p:spPr>
          <a:xfrm>
            <a:off x="611280" y="4221000"/>
            <a:ext cx="1028520" cy="89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eller Portable Fuel Tanks"/>
          <p:cNvPicPr/>
          <p:nvPr/>
        </p:nvPicPr>
        <p:blipFill>
          <a:blip r:embed="rId3"/>
          <a:stretch/>
        </p:blipFill>
        <p:spPr>
          <a:xfrm>
            <a:off x="1835280" y="508464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0"/>
          <p:cNvSpPr/>
          <p:nvPr/>
        </p:nvSpPr>
        <p:spPr>
          <a:xfrm>
            <a:off x="3635280" y="4653000"/>
            <a:ext cx="1440000" cy="115236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losivos comercia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echadas (slurry): gel de agua o emulsiones. Mezclas de sales oxidantes, combustibles y sensibilizadores (aire, partículas de aluminio o nitrocelulosa). Pueden mezclase in sit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ando no contienen sensibilizadores se denominan emuls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slurry1.jpg (52044 bytes)"/>
          <p:cNvPicPr/>
          <p:nvPr/>
        </p:nvPicPr>
        <p:blipFill>
          <a:blip r:embed="rId1"/>
          <a:srcRect l="0" t="30418" r="0" b="0"/>
          <a:stretch/>
        </p:blipFill>
        <p:spPr>
          <a:xfrm>
            <a:off x="3851280" y="4797360"/>
            <a:ext cx="4753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TRONADU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Deton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imacord. Explosivo (Pentrita) envuelto en fibras, avanza a unos 23000 km/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éctricos. Instantáneos o retardados (hasta 7se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prima cord.jpg (45935 bytes)"/>
          <p:cNvPicPr/>
          <p:nvPr/>
        </p:nvPicPr>
        <p:blipFill>
          <a:blip r:embed="rId1"/>
          <a:stretch/>
        </p:blipFill>
        <p:spPr>
          <a:xfrm>
            <a:off x="1042920" y="4076640"/>
            <a:ext cx="263844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roduct Photo"/>
          <p:cNvPicPr/>
          <p:nvPr/>
        </p:nvPicPr>
        <p:blipFill>
          <a:blip r:embed="rId2"/>
          <a:stretch/>
        </p:blipFill>
        <p:spPr>
          <a:xfrm>
            <a:off x="4643280" y="3933720"/>
            <a:ext cx="38102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9:44:22Z</dcterms:created>
  <dc:creator>William Wragg L.</dc:creator>
  <dc:description/>
  <dc:language>en-US</dc:language>
  <cp:lastModifiedBy>William Wragg</cp:lastModifiedBy>
  <dcterms:modified xsi:type="dcterms:W3CDTF">2009-08-25T12:39:31Z</dcterms:modified>
  <cp:revision>10</cp:revision>
  <dc:subject/>
  <dc:title>CI 52A</dc:title>
</cp:coreProperties>
</file>