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08E223-763A-4FD6-801E-98DB9BDD6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94D1F4-043E-4B9D-BB59-1658FC64D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BF0D3C-EB0B-40CF-9632-5308719DF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AC5E51-0143-436C-A14E-22261CD75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0407B-2EAD-43E2-A9EF-54EA1979C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9918A-88F0-40C6-A33B-4A4844DC4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11B03-BFA5-40E8-8820-248385DFD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1D53B-13D0-4930-B55E-47EDD2604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BCA71-B73B-46E1-BFEB-45BF25E94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674B9-5380-4837-8885-14483045F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60E2E-E16F-4C47-B84E-049F09216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F4FA9C-6298-44A5-8B07-2C538E4EC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3B365-D1E8-4989-8E6A-4150DD7F9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34D41-A4B3-4AE9-A271-9ECA80162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A09F5-9F7D-49E2-8B58-511DDF293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C2532-28A3-416B-8245-6D31A0D37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55CD5-04F0-4023-AD72-B34028E5F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EFB10D-6E14-4133-907F-77BC4272C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5F1C32-DD5A-4EA5-ADAA-3C7A21E61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03EF73-094D-4332-BF80-E9AFC1E7D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5DBF64-9B67-41FC-87F2-56AB805B4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118C4E-A337-464B-A9C2-2D011457A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CC275F-2C32-49D7-AF12-B9ED35311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332D1F-3830-44FC-B500-554D6FF29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70D8C-C0AE-4281-B190-9B590E8AB8CA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65A5F-1632-4C5F-A8BE-105EC239C103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0" spc="-1" strike="noStrike">
                <a:solidFill>
                  <a:srgbClr val="e5e5ff"/>
                </a:solidFill>
                <a:latin typeface="Garamond"/>
              </a:rPr>
              <a:t>CI 52A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Garamond"/>
              </a:rPr>
              <a:t>Rocas y Tronadura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e5e5ff"/>
                </a:solidFill>
                <a:latin typeface="Garamond"/>
              </a:rPr>
              <a:t>ROCA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7913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Garamond"/>
              </a:rPr>
              <a:t>Excavación en roca requiere operaciones adicionales para “soltar” el materia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Cincel (punto) y combo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Martillos neumáticos (guagua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Agentes químicos expansivo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Desgarrador (ripper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Explosivo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4" name="Picture 4" descr=""/>
          <p:cNvPicPr/>
          <p:nvPr/>
        </p:nvPicPr>
        <p:blipFill>
          <a:blip r:embed="rId1"/>
          <a:stretch/>
        </p:blipFill>
        <p:spPr>
          <a:xfrm>
            <a:off x="6934320" y="1676520"/>
            <a:ext cx="1809720" cy="1828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"/>
          <p:cNvPicPr/>
          <p:nvPr/>
        </p:nvPicPr>
        <p:blipFill>
          <a:blip r:embed="rId2"/>
          <a:stretch/>
        </p:blipFill>
        <p:spPr>
          <a:xfrm>
            <a:off x="6934320" y="4419720"/>
            <a:ext cx="1885680" cy="17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e5e5ff"/>
                </a:solidFill>
                <a:latin typeface="Garamond"/>
              </a:rPr>
              <a:t>Ripper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07" name="Picture 7" descr=""/>
          <p:cNvPicPr/>
          <p:nvPr/>
        </p:nvPicPr>
        <p:blipFill>
          <a:blip r:embed="rId1"/>
          <a:stretch/>
        </p:blipFill>
        <p:spPr>
          <a:xfrm>
            <a:off x="533520" y="1447920"/>
            <a:ext cx="7772400" cy="515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e5e5ff"/>
                </a:solidFill>
                <a:latin typeface="Garamond"/>
              </a:rPr>
              <a:t>TRONADURA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Garamond"/>
              </a:rPr>
              <a:t>En general es la solución más económica cuando hay que demoler grandes cantidades de roca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Garamond"/>
              </a:rPr>
              <a:t>Efecto de golpe (explosión no confinada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Garamond"/>
              </a:rPr>
              <a:t>Efecto de la expansión de gases (explosión confinada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0" name="Picture 5" descr="Blasting rock used to build the causeway"/>
          <p:cNvPicPr/>
          <p:nvPr/>
        </p:nvPicPr>
        <p:blipFill>
          <a:blip r:embed="rId1"/>
          <a:stretch/>
        </p:blipFill>
        <p:spPr>
          <a:xfrm>
            <a:off x="4284720" y="4005360"/>
            <a:ext cx="4286160" cy="26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e5e5ff"/>
                </a:solidFill>
                <a:latin typeface="Garamond"/>
              </a:rPr>
              <a:t>TRONADURA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Garamond"/>
              </a:rPr>
              <a:t>Explosivos comerciale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Dinamita: nitroglicerina con agentes estabilizadores (celulosa). Se clasifican según % en peso de la nitroglicerina sobre el total del cartucho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Tronex (ENAEX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3" name="Picture 5" descr="Dynamite%20stick%2001"/>
          <p:cNvPicPr/>
          <p:nvPr/>
        </p:nvPicPr>
        <p:blipFill>
          <a:blip r:embed="rId1"/>
          <a:stretch/>
        </p:blipFill>
        <p:spPr>
          <a:xfrm>
            <a:off x="3924360" y="3645000"/>
            <a:ext cx="4629240" cy="296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e5e5ff"/>
                </a:solidFill>
                <a:latin typeface="Garamond"/>
              </a:rPr>
              <a:t>TRONADURA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Garamond"/>
              </a:rPr>
              <a:t>Explosivos comerciale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ANFO: nitrato de amonio + 5.2% de petróleo Nº 2 (diesel). El ANFO se escurre libremente y puede ser inyectado en las perforaciones. No es resistente al agua (usar lechadas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6" name="Picture 5" descr="Anfo"/>
          <p:cNvPicPr/>
          <p:nvPr/>
        </p:nvPicPr>
        <p:blipFill>
          <a:blip r:embed="rId1"/>
          <a:stretch/>
        </p:blipFill>
        <p:spPr>
          <a:xfrm>
            <a:off x="5219640" y="4076640"/>
            <a:ext cx="3492720" cy="23702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7" descr="semilla03"/>
          <p:cNvPicPr/>
          <p:nvPr/>
        </p:nvPicPr>
        <p:blipFill>
          <a:blip r:embed="rId2"/>
          <a:stretch/>
        </p:blipFill>
        <p:spPr>
          <a:xfrm>
            <a:off x="611280" y="4221000"/>
            <a:ext cx="1028520" cy="8956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9" descr="Moeller Portable Fuel Tanks"/>
          <p:cNvPicPr/>
          <p:nvPr/>
        </p:nvPicPr>
        <p:blipFill>
          <a:blip r:embed="rId3"/>
          <a:stretch/>
        </p:blipFill>
        <p:spPr>
          <a:xfrm>
            <a:off x="1835280" y="5084640"/>
            <a:ext cx="1428480" cy="1428840"/>
          </a:xfrm>
          <a:prstGeom prst="rect">
            <a:avLst/>
          </a:prstGeom>
          <a:ln w="0">
            <a:noFill/>
          </a:ln>
        </p:spPr>
      </p:pic>
      <p:sp>
        <p:nvSpPr>
          <p:cNvPr id="119" name="AutoShape 10"/>
          <p:cNvSpPr/>
          <p:nvPr/>
        </p:nvSpPr>
        <p:spPr>
          <a:xfrm>
            <a:off x="3635280" y="4653000"/>
            <a:ext cx="1440000" cy="1152360"/>
          </a:xfrm>
          <a:custGeom>
            <a:avLst/>
            <a:gdLst>
              <a:gd name="textAreaLeft" fmla="*/ 180000 w 1440000"/>
              <a:gd name="textAreaRight" fmla="*/ 1260000 w 1440000"/>
              <a:gd name="textAreaTop" fmla="*/ 288000 h 1152360"/>
              <a:gd name="textAreaBottom" fmla="*/ 864360 h 1152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e5e5ff"/>
                </a:solidFill>
                <a:latin typeface="Garamond"/>
              </a:rPr>
              <a:t>TRONADURA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Garamond"/>
              </a:rPr>
              <a:t>Explosivos comerciale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Lechadas (slurry): gel de agua o emulsiones. Mezclas de sales oxidantes, combustibles y sensibilizadores (aire, partículas de aluminio o nitrocelulosa). Pueden mezclase in situ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Cuando no contienen sensibilizadores se denominan emulsione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2" name="Picture 5" descr="slurry1.jpg (52044 bytes)"/>
          <p:cNvPicPr/>
          <p:nvPr/>
        </p:nvPicPr>
        <p:blipFill>
          <a:blip r:embed="rId1"/>
          <a:srcRect l="0" t="30418" r="0" b="0"/>
          <a:stretch/>
        </p:blipFill>
        <p:spPr>
          <a:xfrm>
            <a:off x="3851280" y="4797360"/>
            <a:ext cx="475308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e5e5ff"/>
                </a:solidFill>
                <a:latin typeface="Garamond"/>
              </a:rPr>
              <a:t>TRONADURA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Garamond"/>
              </a:rPr>
              <a:t>Detonant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Primacord. Explosivo (Pentrita) envuelto en fibras, avanza a unos 23000 km/h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Eléctricos. Instantáneos o retardados (hasta 7seg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5" name="Picture 5" descr="prima cord.jpg (45935 bytes)"/>
          <p:cNvPicPr/>
          <p:nvPr/>
        </p:nvPicPr>
        <p:blipFill>
          <a:blip r:embed="rId1"/>
          <a:stretch/>
        </p:blipFill>
        <p:spPr>
          <a:xfrm>
            <a:off x="1042920" y="4076640"/>
            <a:ext cx="2638440" cy="19051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7" descr="Product Photo"/>
          <p:cNvPicPr/>
          <p:nvPr/>
        </p:nvPicPr>
        <p:blipFill>
          <a:blip r:embed="rId2"/>
          <a:stretch/>
        </p:blipFill>
        <p:spPr>
          <a:xfrm>
            <a:off x="4643280" y="3933720"/>
            <a:ext cx="3810240" cy="27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7T19:44:22Z</dcterms:created>
  <dc:creator>William Wragg L.</dc:creator>
  <dc:description/>
  <dc:language>en-US</dc:language>
  <cp:lastModifiedBy>William Wragg</cp:lastModifiedBy>
  <dcterms:modified xsi:type="dcterms:W3CDTF">2009-08-25T12:39:31Z</dcterms:modified>
  <cp:revision>10</cp:revision>
  <dc:subject/>
  <dc:title>CI 52A</dc:title>
</cp:coreProperties>
</file>