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2E6DB-E5EA-477C-ADA4-91B235A3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67DB5-DB49-4B82-9AC2-B1CC6D1D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C1DB-D838-4FFE-A4D2-64345C44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1C42E-716F-4D27-B8F3-9D40781A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6495-E6DC-41D4-A83E-D68FD27B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83DD-4523-415B-BCD4-44EA1122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2319-25B6-423F-AD31-9695B51B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36E5-B65C-4C49-A15F-2C836AE1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B7B5-EBA5-4A62-B575-F4CBE9BF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16B7-4A9A-4364-8989-1AEE2A48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D956-C358-4C77-8431-763C713A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9191F-6458-44FF-892A-1E2DE6A2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2117-1CA9-466B-8F21-91C53E36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217E-01BA-4F20-9596-A65F5A56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DB1D-D226-43C0-AF97-855FE016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F56D-4EA9-43DD-9FD1-A6C0DD81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1059-E681-4D6A-B785-AC92B7A1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F513A-56B7-47E4-BF3B-4263ED13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A9204-1D7C-4EF1-874B-862CC9CB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70AF1-5F90-4CA1-97A6-81F5954D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2A4F5-4A2A-4141-AB64-88786FC9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C98F5-9D44-4FFC-BE7E-78BF67FB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BD852-98EC-42AF-9CDA-3EA85B2E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B2D21-71B5-4064-A17D-C765AC37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DA16-D985-4569-A6C7-0D0A6D10F85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D593-94EA-450A-BED9-D2EE52538DF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Rocas y Tronadur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RO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cavación en roca requiere operaciones adicionales para “soltar” el mater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incel (punto) y comb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Martillos neumáticos (guagu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gentes químicos expansiv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sgarrador (rippe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xplosiv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934320" y="1676520"/>
            <a:ext cx="180972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8856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Ripp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77240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n general es la solución más económica cuando hay que demoler grandes cantidades de ro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fecto de golpe (explosión no confinad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fecto de la expansión de gases (explosión confinad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Blasting rock used to build the causeway"/>
          <p:cNvPicPr/>
          <p:nvPr/>
        </p:nvPicPr>
        <p:blipFill>
          <a:blip r:embed="rId1"/>
          <a:stretch/>
        </p:blipFill>
        <p:spPr>
          <a:xfrm>
            <a:off x="4284720" y="4005360"/>
            <a:ext cx="42861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namita: nitroglicerina con agentes estabilizadores (celulosa). Se clasifican según % en peso de la nitroglicerina sobre el total del cartuch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Tronex (ENAEX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Dynamite%20stick%2001"/>
          <p:cNvPicPr/>
          <p:nvPr/>
        </p:nvPicPr>
        <p:blipFill>
          <a:blip r:embed="rId1"/>
          <a:stretch/>
        </p:blipFill>
        <p:spPr>
          <a:xfrm>
            <a:off x="3924360" y="3645000"/>
            <a:ext cx="462924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NFO: nitrato de amonio + 5.2% de petróleo Nº 2 (diesel). El ANFO se escurre libremente y puede ser inyectado en las perforaciones. No es resistente al agua (usar lechada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Anfo"/>
          <p:cNvPicPr/>
          <p:nvPr/>
        </p:nvPicPr>
        <p:blipFill>
          <a:blip r:embed="rId1"/>
          <a:stretch/>
        </p:blipFill>
        <p:spPr>
          <a:xfrm>
            <a:off x="5219640" y="4076640"/>
            <a:ext cx="3492720" cy="2370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semilla03"/>
          <p:cNvPicPr/>
          <p:nvPr/>
        </p:nvPicPr>
        <p:blipFill>
          <a:blip r:embed="rId2"/>
          <a:stretch/>
        </p:blipFill>
        <p:spPr>
          <a:xfrm>
            <a:off x="611280" y="4221000"/>
            <a:ext cx="1028520" cy="89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eller Portable Fuel Tanks"/>
          <p:cNvPicPr/>
          <p:nvPr/>
        </p:nvPicPr>
        <p:blipFill>
          <a:blip r:embed="rId3"/>
          <a:stretch/>
        </p:blipFill>
        <p:spPr>
          <a:xfrm>
            <a:off x="1835280" y="5084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0"/>
          <p:cNvSpPr/>
          <p:nvPr/>
        </p:nvSpPr>
        <p:spPr>
          <a:xfrm>
            <a:off x="3635280" y="4653000"/>
            <a:ext cx="1440000" cy="115236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Lechadas (slurry): gel de agua o emulsiones. Mezclas de sales oxidantes, combustibles y sensibilizadores (aire, partículas de aluminio o nitrocelulosa). Pueden mezclase in sit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uando no contienen sensibilizadores se denominan emuls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slurry1.jpg (52044 bytes)"/>
          <p:cNvPicPr/>
          <p:nvPr/>
        </p:nvPicPr>
        <p:blipFill>
          <a:blip r:embed="rId1"/>
          <a:srcRect l="0" t="30418" r="0" b="0"/>
          <a:stretch/>
        </p:blipFill>
        <p:spPr>
          <a:xfrm>
            <a:off x="3851280" y="4797360"/>
            <a:ext cx="4753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Detonan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macord. Explosivo (Pentrita) envuelto en fibras, avanza a unos 23000 km/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éctricos. Instantáneos o retardados (hasta 7se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prima cord.jpg (45935 bytes)"/>
          <p:cNvPicPr/>
          <p:nvPr/>
        </p:nvPicPr>
        <p:blipFill>
          <a:blip r:embed="rId1"/>
          <a:stretch/>
        </p:blipFill>
        <p:spPr>
          <a:xfrm>
            <a:off x="1042920" y="4076640"/>
            <a:ext cx="263844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roduct Photo"/>
          <p:cNvPicPr/>
          <p:nvPr/>
        </p:nvPicPr>
        <p:blipFill>
          <a:blip r:embed="rId2"/>
          <a:stretch/>
        </p:blipFill>
        <p:spPr>
          <a:xfrm>
            <a:off x="4643280" y="3933720"/>
            <a:ext cx="38102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19:44:22Z</dcterms:created>
  <dc:creator>William Wragg L.</dc:creator>
  <dc:description/>
  <dc:language>en-US</dc:language>
  <cp:lastModifiedBy>William Wragg</cp:lastModifiedBy>
  <dcterms:modified xsi:type="dcterms:W3CDTF">2009-08-25T12:39:31Z</dcterms:modified>
  <cp:revision>10</cp:revision>
  <dc:subject/>
  <dc:title>CI 52A</dc:title>
</cp:coreProperties>
</file>