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3880C-97A2-45D8-BA51-772760B4C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E546B-5192-4151-9181-2109B9FD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3380C-92F5-4AE9-834D-AD0487AD2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2CA5B-4D1B-4613-8236-126C1EE26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9CD0-4302-4291-96F7-26017BCBB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962C-9C61-4FF2-B284-4437DBEE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C37E-BC36-4B63-BDE4-6168BFF8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5524-947A-44B3-8954-4CFBA040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AD4F-BD99-45BE-87C4-E229D0BB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C83A-EA54-4138-8960-00B1515D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6E9E-192D-48A4-8C20-3710F05C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8765C-83D0-43E9-B566-6D8DA022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F186-CF36-46EB-A099-CC94184F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8073-DCA9-473C-A4FA-BDCCEFDC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A3BE-FF2E-4161-B51A-32F1CF3E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B4D8-D26C-4424-BBE7-A0739D817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9683-5FBD-48AB-9AB9-7E3830FB7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E838F-86B0-4DA0-9F22-47C68362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0CD63-E0D0-4D26-8330-B3798345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BBDDE-1493-4001-935F-F0C6D5F2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DEF66-0030-4F89-88EC-4756542D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A75AB-DE3A-484B-8387-B54882E0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74168-943D-46A8-9D4F-A070E42C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124E1-6660-45BC-9FCF-18A6B8CA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E830-5768-4A93-8938-61B94630F07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4D03-9762-433C-B486-182572DEAB0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e5e5ff"/>
                </a:solidFill>
                <a:latin typeface="Garamond"/>
              </a:rPr>
              <a:t>CI 52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Rocas y Tronadur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ROC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91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xcavación en roca requiere operaciones adicionales para “soltar” el materi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incel (punto) y comb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Martillos neumáticos (guagu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gentes químicos expansiv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esgarrador (ripper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xplosiv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6934320" y="1676520"/>
            <a:ext cx="1809720" cy="1828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6934320" y="4419720"/>
            <a:ext cx="188568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Ripp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772400" cy="51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TRONADU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n general es la solución más económica cuando hay que demoler grandes cantidades de roc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fecto de golpe (explosión no confinad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fecto de la expansión de gases (explosión confinad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Blasting rock used to build the causeway"/>
          <p:cNvPicPr/>
          <p:nvPr/>
        </p:nvPicPr>
        <p:blipFill>
          <a:blip r:embed="rId1"/>
          <a:stretch/>
        </p:blipFill>
        <p:spPr>
          <a:xfrm>
            <a:off x="4284720" y="4005360"/>
            <a:ext cx="42861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TRONADU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xplosivos comercial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inamita: nitroglicerina con agentes estabilizadores (celulosa). Se clasifican según % en peso de la nitroglicerina sobre el total del cartuch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Tronex (ENAEX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Dynamite%20stick%2001"/>
          <p:cNvPicPr/>
          <p:nvPr/>
        </p:nvPicPr>
        <p:blipFill>
          <a:blip r:embed="rId1"/>
          <a:stretch/>
        </p:blipFill>
        <p:spPr>
          <a:xfrm>
            <a:off x="3924360" y="3645000"/>
            <a:ext cx="4629240" cy="29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TRONADU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xplosivos comercial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NFO: nitrato de amonio + 5.2% de petróleo Nº 2 (diesel). El ANFO se escurre libremente y puede ser inyectado en las perforaciones. No es resistente al agua (usar lechada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Anfo"/>
          <p:cNvPicPr/>
          <p:nvPr/>
        </p:nvPicPr>
        <p:blipFill>
          <a:blip r:embed="rId1"/>
          <a:stretch/>
        </p:blipFill>
        <p:spPr>
          <a:xfrm>
            <a:off x="5219640" y="4076640"/>
            <a:ext cx="3492720" cy="2370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semilla03"/>
          <p:cNvPicPr/>
          <p:nvPr/>
        </p:nvPicPr>
        <p:blipFill>
          <a:blip r:embed="rId2"/>
          <a:stretch/>
        </p:blipFill>
        <p:spPr>
          <a:xfrm>
            <a:off x="611280" y="4221000"/>
            <a:ext cx="1028520" cy="895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Moeller Portable Fuel Tanks"/>
          <p:cNvPicPr/>
          <p:nvPr/>
        </p:nvPicPr>
        <p:blipFill>
          <a:blip r:embed="rId3"/>
          <a:stretch/>
        </p:blipFill>
        <p:spPr>
          <a:xfrm>
            <a:off x="1835280" y="508464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10"/>
          <p:cNvSpPr/>
          <p:nvPr/>
        </p:nvSpPr>
        <p:spPr>
          <a:xfrm>
            <a:off x="3635280" y="4653000"/>
            <a:ext cx="1440000" cy="115236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288000 h 1152360"/>
              <a:gd name="textAreaBottom" fmla="*/ 864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TRONADU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xplosivos comercial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Lechadas (slurry): gel de agua o emulsiones. Mezclas de sales oxidantes, combustibles y sensibilizadores (aire, partículas de aluminio o nitrocelulosa). Pueden mezclase in situ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uando no contienen sensibilizadores se denominan emulsion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5" descr="slurry1.jpg (52044 bytes)"/>
          <p:cNvPicPr/>
          <p:nvPr/>
        </p:nvPicPr>
        <p:blipFill>
          <a:blip r:embed="rId1"/>
          <a:srcRect l="0" t="30418" r="0" b="0"/>
          <a:stretch/>
        </p:blipFill>
        <p:spPr>
          <a:xfrm>
            <a:off x="3851280" y="4797360"/>
            <a:ext cx="47530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TRONADU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Detonan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rimacord. Explosivo (Pentrita) envuelto en fibras, avanza a unos 23000 km/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éctricos. Instantáneos o retardados (hasta 7seg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5" descr="prima cord.jpg (45935 bytes)"/>
          <p:cNvPicPr/>
          <p:nvPr/>
        </p:nvPicPr>
        <p:blipFill>
          <a:blip r:embed="rId1"/>
          <a:stretch/>
        </p:blipFill>
        <p:spPr>
          <a:xfrm>
            <a:off x="1042920" y="4076640"/>
            <a:ext cx="2638440" cy="1905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Product Photo"/>
          <p:cNvPicPr/>
          <p:nvPr/>
        </p:nvPicPr>
        <p:blipFill>
          <a:blip r:embed="rId2"/>
          <a:stretch/>
        </p:blipFill>
        <p:spPr>
          <a:xfrm>
            <a:off x="4643280" y="3933720"/>
            <a:ext cx="381024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7T19:44:22Z</dcterms:created>
  <dc:creator>William Wragg L.</dc:creator>
  <dc:description/>
  <dc:language>en-US</dc:language>
  <cp:lastModifiedBy>William Wragg</cp:lastModifiedBy>
  <dcterms:modified xsi:type="dcterms:W3CDTF">2009-08-25T12:39:31Z</dcterms:modified>
  <cp:revision>10</cp:revision>
  <dc:subject/>
  <dc:title>CI 52A</dc:title>
</cp:coreProperties>
</file>