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7.jpeg" ContentType="image/jpeg"/>
  <Override PartName="/ppt/media/image5.wmf" ContentType="image/x-wmf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9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1344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21344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84428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4213440"/>
            <a:ext cx="264924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21344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44280"/>
            <a:ext cx="401508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13440"/>
            <a:ext cx="8228160" cy="21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8020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8020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81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STEN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MURO BERLINÉ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4" descr="DSC00678"/>
          <p:cNvPicPr/>
          <p:nvPr/>
        </p:nvPicPr>
        <p:blipFill>
          <a:blip r:embed="rId1"/>
          <a:stretch/>
        </p:blipFill>
        <p:spPr>
          <a:xfrm>
            <a:off x="399960" y="1424160"/>
            <a:ext cx="345780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1190"/>
          <p:cNvPicPr/>
          <p:nvPr/>
        </p:nvPicPr>
        <p:blipFill>
          <a:blip r:embed="rId2"/>
          <a:stretch/>
        </p:blipFill>
        <p:spPr>
          <a:xfrm>
            <a:off x="4000680" y="1928880"/>
            <a:ext cx="46796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ahoma"/>
              </a:rPr>
              <a:t>MURO BERLINÉ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SOIL NA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4" descr="C:\DOCUME~1\wwragg\CONFIG~1\Temp\npo000010.tmp"/>
          <p:cNvPicPr/>
          <p:nvPr/>
        </p:nvPicPr>
        <p:blipFill>
          <a:blip r:embed="rId1"/>
          <a:stretch/>
        </p:blipFill>
        <p:spPr>
          <a:xfrm>
            <a:off x="380880" y="1828800"/>
            <a:ext cx="2895840" cy="22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~1\wwragg\CONFIG~1\Temp\npo000012.tmp"/>
          <p:cNvPicPr/>
          <p:nvPr/>
        </p:nvPicPr>
        <p:blipFill>
          <a:blip r:embed="rId2"/>
          <a:stretch/>
        </p:blipFill>
        <p:spPr>
          <a:xfrm>
            <a:off x="3429000" y="1828800"/>
            <a:ext cx="5562720" cy="454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DOCUME~1\wwragg\CONFIG~1\Temp\npo000014.tmp"/>
          <p:cNvPicPr/>
          <p:nvPr/>
        </p:nvPicPr>
        <p:blipFill>
          <a:blip r:embed="rId3"/>
          <a:stretch/>
        </p:blipFill>
        <p:spPr>
          <a:xfrm>
            <a:off x="380880" y="4191120"/>
            <a:ext cx="28828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OSTEN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tcre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n refuerzo, con acero, con fibra (acero o polipropile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zcla seca o húmeda (problema del rechaz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rven para evitar desmoronamiento y para impermeabilizar dando esta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HOTCRE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Picture 5" descr="C:\DOCUME~1\wwragg\CONFIG~1\Temp\npo000018.tmp"/>
          <p:cNvPicPr/>
          <p:nvPr/>
        </p:nvPicPr>
        <p:blipFill>
          <a:blip r:embed="rId2"/>
          <a:stretch/>
        </p:blipFill>
        <p:spPr>
          <a:xfrm>
            <a:off x="685800" y="144792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OSTEN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ros Pantalla o Muros C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ros méto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ierra armada (para rellen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drosiembra (para talu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blesta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tibaciones en zan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MUROS PANTA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Picture 3" descr="C:\DOCUME~1\wwragg\CONFIG~1\Temp\npo00001a.tmp"/>
          <p:cNvPicPr/>
          <p:nvPr/>
        </p:nvPicPr>
        <p:blipFill>
          <a:blip r:embed="rId1"/>
          <a:stretch/>
        </p:blipFill>
        <p:spPr>
          <a:xfrm>
            <a:off x="228600" y="1676520"/>
            <a:ext cx="5334120" cy="278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~1\wwragg\CONFIG~1\Temp\npo00001b.tmp"/>
          <p:cNvPicPr/>
          <p:nvPr/>
        </p:nvPicPr>
        <p:blipFill>
          <a:blip r:embed="rId2"/>
          <a:stretch/>
        </p:blipFill>
        <p:spPr>
          <a:xfrm>
            <a:off x="4343400" y="3886200"/>
            <a:ext cx="4648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MUROS PANTA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5" descr="C:\DOCUME~1\wwragg\CONFIG~1\Temp\npo00001d.tmp"/>
          <p:cNvPicPr/>
          <p:nvPr/>
        </p:nvPicPr>
        <p:blipFill>
          <a:blip r:embed="rId1"/>
          <a:stretch/>
        </p:blipFill>
        <p:spPr>
          <a:xfrm>
            <a:off x="685800" y="1523880"/>
            <a:ext cx="3490920" cy="5181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~1\wwragg\CONFIG~1\Temp\npo00001f.tmp"/>
          <p:cNvPicPr/>
          <p:nvPr/>
        </p:nvPicPr>
        <p:blipFill>
          <a:blip r:embed="rId2"/>
          <a:stretch/>
        </p:blipFill>
        <p:spPr>
          <a:xfrm>
            <a:off x="5257800" y="1523880"/>
            <a:ext cx="3338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ABLA-ESTA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7143840" y="285840"/>
            <a:ext cx="1876320" cy="31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6705720" cy="50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6286680" y="5214960"/>
            <a:ext cx="2709720" cy="146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HIDROSIEMB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6" descr="C:\DOCUME~1\wwragg\CONFIG~1\Temp\npo000022.tmp"/>
          <p:cNvPicPr/>
          <p:nvPr/>
        </p:nvPicPr>
        <p:blipFill>
          <a:blip r:embed="rId2"/>
          <a:stretch/>
        </p:blipFill>
        <p:spPr>
          <a:xfrm>
            <a:off x="1000080" y="164304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OSTEN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pendiendo de la calidad del suelo y la profundidad de excavación, puede ser necesario reforzar las paredes de las excavaciones para evitar su derrumbe o desmoronamiento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entib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mbién puede ser necesario reforzar las fundaciones de construcciones cercanas a la excavació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ocalz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IERRA ARMA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6" descr="C:\DOCUME~1\wwragg\CONFIG~1\Temp\npo000025.tmp"/>
          <p:cNvPicPr/>
          <p:nvPr/>
        </p:nvPicPr>
        <p:blipFill>
          <a:blip r:embed="rId2"/>
          <a:stretch/>
        </p:blipFill>
        <p:spPr>
          <a:xfrm>
            <a:off x="6477120" y="4267080"/>
            <a:ext cx="185076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C:\DOCUME~1\wwragg\CONFIG~1\Temp\npo000026.tmp"/>
          <p:cNvPicPr/>
          <p:nvPr/>
        </p:nvPicPr>
        <p:blipFill>
          <a:blip r:embed="rId3"/>
          <a:stretch/>
        </p:blipFill>
        <p:spPr>
          <a:xfrm>
            <a:off x="838080" y="3200400"/>
            <a:ext cx="3810240" cy="2162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DOCUME~1\wwragg\CONFIG~1\Temp\npo000029.tmp"/>
          <p:cNvPicPr/>
          <p:nvPr/>
        </p:nvPicPr>
        <p:blipFill>
          <a:blip r:embed="rId4"/>
          <a:stretch/>
        </p:blipFill>
        <p:spPr>
          <a:xfrm>
            <a:off x="4952880" y="2057400"/>
            <a:ext cx="1917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NTIB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Object 5" descr="C:\DOCUME~1\wwragg\CONFIG~1\Temp\npo00002c.tmp"/>
          <p:cNvPicPr/>
          <p:nvPr/>
        </p:nvPicPr>
        <p:blipFill>
          <a:blip r:embed="rId2"/>
          <a:stretch/>
        </p:blipFill>
        <p:spPr>
          <a:xfrm>
            <a:off x="1523880" y="1600200"/>
            <a:ext cx="60199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NTIB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2f.tmp"/>
          <p:cNvPicPr/>
          <p:nvPr/>
        </p:nvPicPr>
        <p:blipFill>
          <a:blip r:embed="rId2"/>
          <a:stretch/>
        </p:blipFill>
        <p:spPr>
          <a:xfrm>
            <a:off x="304920" y="2179800"/>
            <a:ext cx="8534160" cy="37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NTIB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428840" y="150012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NTIB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79440" y="1428840"/>
            <a:ext cx="3835440" cy="5121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4786200" y="1428840"/>
            <a:ext cx="41148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MEJORAMI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 utilizan en suelos con baja capacidad de soporte, por 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unas, cercanía del mar, ríos o nap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gunos siste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llenos con hormigón pobre,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edafolit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 estabi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ilotes hincados, micropil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ilotes hormigonados in si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MEJORAMI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Picture 5" descr="C:\DOCUME~1\wwragg\CONFIG~1\Temp\npo00003c.tmp"/>
          <p:cNvPicPr/>
          <p:nvPr/>
        </p:nvPicPr>
        <p:blipFill>
          <a:blip r:embed="rId2"/>
          <a:stretch/>
        </p:blipFill>
        <p:spPr>
          <a:xfrm>
            <a:off x="609480" y="1905120"/>
            <a:ext cx="3810240" cy="204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~1\wwragg\CONFIG~1\Temp\npo00003e.tmp"/>
          <p:cNvPicPr/>
          <p:nvPr/>
        </p:nvPicPr>
        <p:blipFill>
          <a:blip r:embed="rId3"/>
          <a:stretch/>
        </p:blipFill>
        <p:spPr>
          <a:xfrm>
            <a:off x="5486400" y="1905120"/>
            <a:ext cx="27525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MEJORAMI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9" descr="C:\DOCUME~1\wwragg\CONFIG~1\Temp\npo000040.tmp"/>
          <p:cNvPicPr/>
          <p:nvPr/>
        </p:nvPicPr>
        <p:blipFill>
          <a:blip r:embed="rId2"/>
          <a:stretch/>
        </p:blipFill>
        <p:spPr>
          <a:xfrm>
            <a:off x="380880" y="1752480"/>
            <a:ext cx="4448160" cy="308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DOCUME~1\wwragg\CONFIG~1\Temp\npo000043.tmp"/>
          <p:cNvPicPr/>
          <p:nvPr/>
        </p:nvPicPr>
        <p:blipFill>
          <a:blip r:embed="rId3"/>
          <a:stretch/>
        </p:blipFill>
        <p:spPr>
          <a:xfrm>
            <a:off x="5105520" y="2362320"/>
            <a:ext cx="3262320" cy="419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C:\DOCUME~1\wwragg\CONFIG~1\Temp\npo000045.tmp"/>
          <p:cNvPicPr/>
          <p:nvPr/>
        </p:nvPicPr>
        <p:blipFill>
          <a:blip r:embed="rId4"/>
          <a:stretch/>
        </p:blipFill>
        <p:spPr>
          <a:xfrm>
            <a:off x="6705720" y="1676520"/>
            <a:ext cx="214308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MEJORAMI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Picture 5" descr="C:\DOCUME~1\wwragg\CONFIG~1\Temp\npo000048.tmp"/>
          <p:cNvPicPr/>
          <p:nvPr/>
        </p:nvPicPr>
        <p:blipFill>
          <a:blip r:embed="rId2"/>
          <a:stretch/>
        </p:blipFill>
        <p:spPr>
          <a:xfrm>
            <a:off x="6781680" y="1523880"/>
            <a:ext cx="1951200" cy="487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~1\wwragg\CONFIG~1\Temp\npo00004a.tmp"/>
          <p:cNvPicPr/>
          <p:nvPr/>
        </p:nvPicPr>
        <p:blipFill>
          <a:blip r:embed="rId3"/>
          <a:stretch/>
        </p:blipFill>
        <p:spPr>
          <a:xfrm>
            <a:off x="3048120" y="4572000"/>
            <a:ext cx="3352680" cy="1971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C:\DOCUME~1\wwragg\CONFIG~1\Temp\npo00004b.tmp"/>
          <p:cNvPicPr/>
          <p:nvPr/>
        </p:nvPicPr>
        <p:blipFill>
          <a:blip r:embed="rId4"/>
          <a:stretch/>
        </p:blipFill>
        <p:spPr>
          <a:xfrm>
            <a:off x="152280" y="1523880"/>
            <a:ext cx="428652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GOT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pendiendo de la permeabilidad del suelo se determina el caudal para deprimir y mantener deprimida la n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tracción directa (con bomba en la excavaci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unt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 drenajes de intercepción y desví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OSTEN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09520" y="1646280"/>
            <a:ext cx="76708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41280" indent="-341280">
              <a:lnSpc>
                <a:spcPct val="93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HG Mincho Light J"/>
              </a:rPr>
              <a:t>Pilas de entib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4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HG Mincho Light J"/>
              </a:rPr>
              <a:t>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4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HG Mincho Light J"/>
              </a:rPr>
              <a:t>Con pu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Uno o dos pu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Con o sin viga de amar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4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HG Mincho Light J"/>
              </a:rPr>
              <a:t>Con 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Químicos (epóx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De expa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4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HG Mincho Light J"/>
              </a:rPr>
              <a:t>Soil nail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14200" y="57240"/>
            <a:ext cx="4657680" cy="6743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mercadolibre.com.mx/jm/img?s=MLM&amp;f=12133031_1038.jpg&amp;v=P"/>
          <p:cNvPicPr/>
          <p:nvPr/>
        </p:nvPicPr>
        <p:blipFill>
          <a:blip r:embed="rId3"/>
          <a:stretch/>
        </p:blipFill>
        <p:spPr>
          <a:xfrm>
            <a:off x="5857920" y="57168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www.ditoma.com.ar/imagenes/ofertas/191248.jpg"/>
          <p:cNvPicPr/>
          <p:nvPr/>
        </p:nvPicPr>
        <p:blipFill>
          <a:blip r:embed="rId4"/>
          <a:stretch/>
        </p:blipFill>
        <p:spPr>
          <a:xfrm>
            <a:off x="5715000" y="3786120"/>
            <a:ext cx="28576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I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152388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4 Flecha derecha"/>
          <p:cNvSpPr/>
          <p:nvPr/>
        </p:nvSpPr>
        <p:spPr>
          <a:xfrm>
            <a:off x="7000920" y="1500120"/>
            <a:ext cx="1643040" cy="6429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OCAL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PIL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ENS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25984" t="13633" r="0" b="16356"/>
          <a:stretch/>
        </p:blipFill>
        <p:spPr>
          <a:xfrm rot="5400000">
            <a:off x="1865160" y="1063440"/>
            <a:ext cx="5173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ENS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C:\DOCUME~1\wwragg\CONFIG~1\Temp\npo00000c.tmp"/>
          <p:cNvPicPr/>
          <p:nvPr/>
        </p:nvPicPr>
        <p:blipFill>
          <a:blip r:embed="rId2"/>
          <a:stretch/>
        </p:blipFill>
        <p:spPr>
          <a:xfrm>
            <a:off x="150012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UNT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6" descr="DSC02657"/>
          <p:cNvPicPr/>
          <p:nvPr/>
        </p:nvPicPr>
        <p:blipFill>
          <a:blip r:embed="rId1"/>
          <a:stretch/>
        </p:blipFill>
        <p:spPr>
          <a:xfrm>
            <a:off x="971640" y="162864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MURO BERLINÉ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6" descr="C:\DOCUME~1\wwragg\CONFIG~1\Temp\npo00000e.tmp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ragg, William</cp:lastModifiedBy>
  <dcterms:modified xsi:type="dcterms:W3CDTF">2008-09-24T22:54:42Z</dcterms:modified>
  <cp:revision>22</cp:revision>
  <dc:subject/>
  <dc:title>CI 52A Métodos Constructivos</dc:title>
</cp:coreProperties>
</file>