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7141-2923-45DC-879B-942824A0120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Tip: metodología para galpones con fundaciones aislad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1F59-D41E-48D8-8E51-6E4EF6702C0F}" type="slidenum">
              <a:rPr b="0" lang="es-E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0F54-7C99-4178-8A59-C620F44E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49-3129-49A5-A2F5-AF7446582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79A-A901-4ECE-AF13-8EF12562D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3903-023F-4D38-8BF5-A32C13BD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968D-A076-4240-B32F-C0F49610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D267-F990-4EDF-A3CA-2D936DE9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1EAB-B2FF-4985-B48B-E730AAC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8295-88FD-4644-AD32-46C9D2D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5A5-A801-4899-990C-307E3A67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4739-E0FF-4078-9FD1-0011782E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600-5B19-4CAB-9CFE-8CB00A13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E045-546E-4DD3-91A2-319DB387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92524-77C4-40FE-97E8-634E616C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3663-123A-47A8-83BB-E12F978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D32B-09B5-49F2-99C6-266D2F6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C17-B8CF-4886-BA8D-75CBEFE4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E898-6CF5-4104-BF33-9B185D53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B037-E474-43C8-BB52-FB213901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A761-EC18-42F5-8479-EBE6C12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B44-974B-4AEF-9798-C521C738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888-C61F-4106-9D3F-31C8EEC4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62F9-0BC7-45F6-A5DA-7137885E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1D9-47C6-47E9-BD6A-9A590275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7D0-6DB5-4FD2-BD26-999FEE7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819D-33E9-40C8-A3E5-F7E1EA8FDCDA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B9EC-6C9D-4EB6-9587-64BE904048F8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ducción de rodil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/hora =16,3 W S L Ef /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 ancho compactado en p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 velocidad del rodillo en m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 espesor de la capa en pulg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 número de pas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tá en volumen suelto. Hay que aplicar factor para obtener volumen en banc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xisten materiales adecuados para su uso en estado natural, otros hay que harnearlos y/o chancarl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ificación USCS (unified soil classification syste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granulare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avel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nd. Well/Poor graduado, M (polvo fino no cohesivo), C (con arcilla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teriales finos: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polvo-limo)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y,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ganic.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w/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igh plastic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191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determin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sayos Proctor y Proctor Modificado (suelos cohesiv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elos granulares DR=(Dmax-D)/(Dmax-Dmi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Cómo se especif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un porcentaje del ensayo estánd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Por qué es important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a gran correlación entre densidad y el módulo de reacción de la subrasante (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4104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se mide en terren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cono de ar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símetro nuclear (emite radiación y compara rayos reflejados versus patrón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uevo instrumento que mide directamente el Módulo de Young o Constante de Balasto (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9432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619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étodos de compact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Impacto (limo, arcilla confinad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ión (limo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ibración (arena, grav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(limo, grava, arena, arcill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029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“pata de cabra” (sheepfoot rolle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Normalmente de arrast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ctúan por pres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Rodillo de almohadil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lmohadillas con caras que se agrandan a medida que se acercan al tambor (forma piramid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Impacto y pres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mayor velocidad son más eficientes, pero necesitan cancha grande. 13 a 20 kp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791320" y="20574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791320" y="4343400"/>
            <a:ext cx="292392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2578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ambor liso vibrat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=1/2 m v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De arrastre, dos tambores, tambor y rued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1000 a 5000 ciclos/m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elocidad 3 a 6 kp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ctúan por presión, impacto y vibra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odillo apisonador: similar al anterior, pero con almohadil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929200" y="1500120"/>
            <a:ext cx="2624400" cy="2557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5867280" y="4648320"/>
            <a:ext cx="28576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5480" y="1999800"/>
            <a:ext cx="56386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de compac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s de ruedas neumáticas (pata de gom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uedas neumáticas, eje excéntric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isten grandes unidades de arrastre de hasta 200 tonel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 medida que se va compactando el material se va aumentando la presión de los neumátic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Uso de last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444760" cy="2685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6072120" y="4429080"/>
            <a:ext cx="30006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OMPACT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61722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men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ison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od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s inusu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lote vibrad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pactación dinámica dejando caer pesos levantados con grú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0" y="2971800"/>
            <a:ext cx="2314440" cy="1838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7250040" y="3886200"/>
            <a:ext cx="150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8-20T13:46:21Z</dcterms:modified>
  <cp:revision>37</cp:revision>
  <dc:subject/>
  <dc:title>CI 52A Métodos Constructivos</dc:title>
</cp:coreProperties>
</file>