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2D53-7B23-49FD-BB4C-FA5FB4209E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Tip: metodología para galpones con fundaciones aislad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378A-B09F-4659-BE55-F93568CB24D0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818-ED6B-44C1-A38A-2AE8A2FC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6E87-AB54-452D-BB58-6F2ED1FA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ACF-E7D6-4939-8552-F75006F9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1A8-2506-42F8-A18B-21A458BB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CD03-CDDD-4953-BCF7-ABF3217E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278A-4EFE-4A5A-B58C-A5942604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BC38-36D2-4E38-9BAD-A2AA3982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E091-13D8-4C23-A2D9-1E7D9C62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7221-D2F6-45E9-B42A-81CE4055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31BD-B6DC-4EB4-9EE6-6F0F3A68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8EE4-BF55-471C-9169-964C9D31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6EE-A457-4017-9420-92EF9D22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CF68-F2E6-4882-9556-C36EC301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F9CD-1A3C-42E9-884A-85B4A0E2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4506-5CEE-49E0-8079-E1774BF5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CF3A-D280-4A0F-99E6-ACCF88A4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49C3-2138-4621-8CAA-D92BC422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A733-531F-4F70-B80B-89AFEABB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312-0B37-4AFE-ABCA-FCA776BA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EE2-AEC3-4CF6-9EEB-307343F4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031-0EFA-4123-8A55-C07A132C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B7A-6BDF-408E-BDCE-0A2C3892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97B6-D6D5-4D84-A348-46CC223E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101-C1B1-4984-B073-5F532417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24BD-F71A-447F-BBD6-A3E0F8B9B498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A33E-A26C-4948-92EA-1D6415956109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ac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ducción de rodill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yd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/hora =16,3 W S L Ef /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W ancho compactado en p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 velocidad del rodillo en mp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 espesor de la capa en pulg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 número de pas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tá en volumen suelto. Hay que aplicar factor para obtener volumen en ban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xisten materiales adecuados para su uso en estado natural, otros hay que harnearlos y/o chancarl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lasificación USCS (unified soil classification syste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ateriales granulares: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avel,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nd. Well/Poor graduado, M (polvo fino no cohesivo), C (con arcilla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ateriales finos: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polvo-limo),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y,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ganic.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w/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igh plastic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91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Cómo se determin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sayos Proctor y Proctor Modificado (suelos cohesiv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elos granulares DR=(Dmax-D)/(Dmax-Dmi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Cómo se especific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mo un porcentaje del ensayo estánd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Por qué es important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r la gran correlación entre densidad y el módulo de reacción de la subrasante (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541044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Cómo se mide en terren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 cono de are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nsímetro nuclear (emite radiación y compara rayos reflejados versus patrón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uevo instrumento que mide directamente el Módulo de Young o Constante de Balasto (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1943280" cy="2857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6934320" y="4191120"/>
            <a:ext cx="16192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étodos de compact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mpacto (limo, arcilla confina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sión (limo, arcil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ibración (arena, grav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nipulación (limo, grava, arena, arcil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0292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quipos de compac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Rodillo “pata de cabra” (sheepfoot rolle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Normalmente de arrastr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ctúan por presió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Rodillo de almohadil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lmohadillas con caras que se agrandan a medida que se acercan al tambor (forma piramida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mpacto y pre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 mayor velocidad son más eficientes, pero necesitan cancha grande. 13 a 20 k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5791320" y="4343400"/>
            <a:ext cx="292392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257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quipos de compac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ambor liso vibrato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=1/2 m v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arrastre, dos tambores, tambor y rue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1000 a 5000 ciclos/m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Velocidad 3 a 6 kp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ctúan por presión, impacto y vibr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odillo apisonador: similar al anterior, pero con almohadil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929200" y="1500120"/>
            <a:ext cx="2624400" cy="2557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5867280" y="4648320"/>
            <a:ext cx="28576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5480" y="1999800"/>
            <a:ext cx="56386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s de compac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odillos de ruedas neumáticas (pata de gom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uedas neumáticas, eje excéntr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isten grandes unidades de arrastre de hasta 200 tonel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 medida que se va compactando el material se va aumentando la presión de los neumátic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Uso de last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6072120" y="1571760"/>
            <a:ext cx="2444760" cy="2685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6072120" y="4429080"/>
            <a:ext cx="30006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1722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s men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pison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odi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s inusu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ilote vibr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mpactación dinámica dejando caer pesos levantados con grú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943600" y="1447920"/>
            <a:ext cx="2857680" cy="21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572000" y="2971800"/>
            <a:ext cx="2314440" cy="1838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7250040" y="3886200"/>
            <a:ext cx="1503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9-08-20T13:46:21Z</dcterms:modified>
  <cp:revision>37</cp:revision>
  <dc:subject/>
  <dc:title>CI 52A Métodos Constructivos</dc:title>
</cp:coreProperties>
</file>