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EE3B-9CA2-4C59-B776-4EB3D871D3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Tip: metodología para galpones con fundaciones aislad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72A9-34DD-4179-900A-EF92E67C098D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093F-D445-4272-A168-37CFEAF9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DF5-5CA4-4A4B-839B-48801496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240-D85F-40B1-AE29-4CAC027B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78A-E999-44BF-BD84-BB6569F8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DAEA-ECFC-4693-9A2F-77B813E4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31D6-70CE-40ED-BCFD-03795ABD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7300-963B-442C-8C07-49B127DA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8FAF-5325-4056-9C3D-3AF6F402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8193-5E52-406C-8702-73615275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C59F-3866-448F-9305-3B79B7A9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BD21-8545-4A26-8485-F30E7ECA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587A-4F7E-44CA-A837-82729536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1C9E-7C09-4AEE-A755-3FE82D87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A9F3-4670-4C47-A120-75A1D527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F660-8682-4938-9DA4-EE3C4A60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478B-030A-48FB-8C0B-12A9444C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E099-EAE5-4A17-A195-BAC926AF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8C0-21F2-40BC-AA82-D4A42162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71F-1912-4396-943B-26C30B51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AE6-4FCA-42E9-81BC-F795A91F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0F7-C958-4A1C-8A1F-B53B0DA5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612-5D3F-4822-8090-09B22605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3D1-AEBD-4E65-84C3-CBDF7609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0BB-890A-4CCD-8BFB-00CB41B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8D71-EA71-43A8-B32E-525A36B0130D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9F42-DA63-4A19-922D-6C98BAE8CB9E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ac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ducción de rodil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yd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/hora =16,3 W S L Ef /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 ancho compactado en p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 velocidad del rodillo en mp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 espesor de la capa en pulg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 número de pas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á en volumen suelto. Hay que aplicar factor para obtener volumen en ban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xisten materiales adecuados para su uso en estado natural, otros hay que harnearlos y/o chancarl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asificación USCS (unified soil classification syste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ateriales granulares: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avel,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nd. Well/Poor graduado, M (polvo fino no cohesivo), C (con arcill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ateriales finos: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polvo-limo),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y,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ganic.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w/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igh plastic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91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ómo se determin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sayos Proctor y Proctor Modificado (suelos cohesiv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elos granulares DR=(Dmax-D)/(Dmax-Dmi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ómo se especific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mo un porcentaje del ensayo estánd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Por qué es important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la gran correlación entre densidad y el módulo de reacción de la subrasante (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541044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Cómo se mide en terren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 cono de ar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nsímetro nuclear (emite radiación y compara rayos reflejados versus patrón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uevo instrumento que mide directamente el Módulo de Young o Constante de Balasto (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194328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6934320" y="4191120"/>
            <a:ext cx="16192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étodos de compact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acto (limo, arcilla confina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sión (limo, arci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ibración (arena, gra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nipulación (limo, grava, arena, arci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0292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quipos de compac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odillo “pata de cabra” (sheepfoot rolle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Normalmente de arrastr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ctúan por pres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odillo de almohadil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lmohadillas con caras que se agrandan a medida que se acercan al tambor (forma piramida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mpacto y pre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 mayor velocidad son más eficientes, pero necesitan cancha grande. 13 a 20 k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5791320" y="4343400"/>
            <a:ext cx="29239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257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quipos de compac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ambor liso vibrat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=1/2 m v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arrastre, dos tambores, tambor y rue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1000 a 5000 ciclos/m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Velocidad 3 a 6 kp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ctúan por presión, impacto y vibr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odillo apisonador: similar al anterior, pero con almohadil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929200" y="1500120"/>
            <a:ext cx="2624400" cy="255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5867280" y="4648320"/>
            <a:ext cx="28576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5480" y="1999800"/>
            <a:ext cx="56386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s de compac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odillos de ruedas neumáticas (pata de gom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uedas neumáticas, eje excéntr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isten grandes unidades de arrastre de hasta 200 tonel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 medida que se va compactando el material se va aumentando la presión de los neumátic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Uso de last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6072120" y="1571760"/>
            <a:ext cx="2444760" cy="2685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6072120" y="4429080"/>
            <a:ext cx="30006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1722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s men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pison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odi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s inusu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lote vibr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pactación dinámica dejando caer pesos levantados con grú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2314440" cy="1838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7250040" y="3886200"/>
            <a:ext cx="1503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8-20T13:46:21Z</dcterms:modified>
  <cp:revision>37</cp:revision>
  <dc:subject/>
  <dc:title>CI 52A Métodos Constructivos</dc:title>
</cp:coreProperties>
</file>