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924-D233-46FF-8F8F-98CF9AEC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908B-FC49-45EF-9596-EACDD13B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2ADF-787E-4B7F-AEDA-D3DB8A59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E27E-8A99-44A8-AE50-872A9C3B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082B-BEDC-4906-A0B3-B8755A21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9D1C-9642-4C5E-B2E7-087C6C83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9E71-B37B-414D-911C-F8B16DD9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5CB0-2317-4321-A371-4A0206F2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F7B0-1549-4C07-8512-A5E01537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E0C8-0F69-469A-AC41-AD318F19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D44F-FE4A-44F5-BD3E-379802B6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DAA4-F2FF-45E2-B142-9864E28F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78AD-6131-4DED-AC2D-02B14542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30B8-FF7A-447A-86C6-513F6EEB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D014-1DC3-4393-B220-FB380753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C34A-B5F9-4569-9F7A-DAB4AA76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A4F0-27C2-4703-8EF3-26A8AA08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2EBA-37EF-4BFA-AE47-3E7BBB7A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A04E-A456-4DF6-80BC-CF785C22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516-C03E-4F93-A74E-1DBBFCD6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82C3-FB6C-4E86-9BD9-043C8D49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08D-47A4-42C2-B029-EC37BC7B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0C5-43C1-4923-81A0-FBAABF16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E904-6D80-4B6B-A8F0-D3F49839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4427-F5E9-41C0-8D4D-849582054082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3ACA-5E4C-4609-AFD6-A8FCB8D07953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otonivelad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Prec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rcRect l="14015" t="12850" r="50585" b="35754"/>
          <a:stretch/>
        </p:blipFill>
        <p:spPr>
          <a:xfrm>
            <a:off x="142920" y="1660680"/>
            <a:ext cx="878688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ERMIN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peraciones necesarias para dar la forma final a la superfic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arcimiento de b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rfilado (Longitudinal y transversal de caminos), curvas verticales, pendientes y bombe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ervación de camin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quipo clásico: motoniveladora (grad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3816360" cy="2399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3816360" cy="2387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4284720" y="765000"/>
            <a:ext cx="45925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76908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on adecuadas para excavar y empujar material blando y en pequeñas cantidades debido a la debilidad estructural de la pala (en comparación a una topado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demás de la pala o cuchilla (moldboard) suelen estar equipadas con escarificadores pequeños (rastrillo) o ripp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ovimientos de la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ariar su ángulo respecto del avance de la máquina, incluso puede ponerse paralela al eje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bir/bajar e inclinarse respecto del plano de trabajo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de variar el “ángulo de ataque” ( -&gt;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\ para cortar, pero puede material pasa sobre ho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/ para mezclar y pasadas rápidas. La hoja tiende a levantar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 el material es muy duro hay que escarificar. Incluso pueden removerse dientes del escarificador si es necesa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 - Pal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095640" cy="245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3564000" y="1557360"/>
            <a:ext cx="5184720" cy="2436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556000" y="4221000"/>
            <a:ext cx="38163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timación del esparcimiento de materi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Yardas cúbicas en banco = 3.0 x H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(1 yd3 = 0,7646 m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perar a la máxima velocidad que el cambio permi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4005360"/>
          <a:ext cx="6096240" cy="2590560"/>
        </p:xfrm>
        <a:graphic>
          <a:graphicData uri="http://schemas.openxmlformats.org/drawingml/2006/table">
            <a:tbl>
              <a:tblPr/>
              <a:tblGrid>
                <a:gridCol w="4343400"/>
                <a:gridCol w="175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ntención camin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3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parcimiento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cla de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ª - 6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fi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ara recorridos &lt;300m es más rápido y seguro retroceder en lugar de dar vuel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eficiencia está en relación al Nº de pasadas. Habilidad del operador + planif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empo = (Nº pasadas x Dist) / (V x E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f = 6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</cp:lastModifiedBy>
  <dcterms:modified xsi:type="dcterms:W3CDTF">2009-08-18T13:59:56Z</dcterms:modified>
  <cp:revision>31</cp:revision>
  <dc:subject/>
  <dc:title>CI 52A Métodos Constructivos</dc:title>
</cp:coreProperties>
</file>