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49E-DA2F-44A3-906D-DDE85F06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450-F903-46DF-9068-6A7481E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914-F459-49FE-BA67-F8AE9BCD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1D0-B867-4FF2-9845-FC51D3A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C94-AADB-4730-967E-3C5D6618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C8C-E1D6-4A09-8EF5-5CEBC824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DE2-6D53-4C10-AFC0-FCF85EAB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212-43E1-41B5-A3D6-296586CE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1048-FCBF-46C6-8B6A-6AD108DA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6F9-B9D5-46A7-9023-DC6668C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FBF-F8FC-4350-96DF-D88B2A6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FD6-1883-48CB-AB57-367F177B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7F5-1159-4759-A3CC-009F5D9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C4A1-D299-4C2B-8B5F-7978391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197-66B0-4C03-B775-AC0C997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0538-2996-4E87-94CB-3593498A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4FC4-6A2E-40D0-8167-E8AEB382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B6-A9B8-4FE1-A4A0-FD63855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A4A-A2CA-42DF-82D2-55848FE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D54-C50B-46DB-A7CE-DC0B1822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9D2-9E64-43C5-A57A-7972CE5F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CCB-0B67-4429-8BA7-8B00556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815-0E61-4434-88DD-1EACA41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C7F-F178-4462-9BF5-1966714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86F-EEE1-4517-93A9-508A7B2A2605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312-A534-4F51-8D40-2A28188808D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re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4015" t="12850" r="50585" b="35754"/>
          <a:stretch/>
        </p:blipFill>
        <p:spPr>
          <a:xfrm>
            <a:off x="142920" y="1660680"/>
            <a:ext cx="8786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9056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18T13:59:56Z</dcterms:modified>
  <cp:revision>31</cp:revision>
  <dc:subject/>
  <dc:title>CI 52A Métodos Constructivos</dc:title>
</cp:coreProperties>
</file>