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2600-306B-4107-A9FD-2F2A0FAF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3F1-D92F-4088-851E-79311259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7BD7-8C39-44AA-9A62-BCCC8219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60E6-585A-408F-89B9-B13F82EC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C6B1-3A15-4F5D-91AC-B111CC2A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6EE3-9ADE-4E04-90C6-E50D9282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38D8-C4A0-4B35-BABC-A1FB3C9F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A7D8-DA2F-44F7-A67C-E7846FBB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0C3A-25A0-429D-A692-6F73145B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761E-FA00-4FD5-B408-B007386B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4AA4-9675-4C0B-8BA6-36E0F1B2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DBC-31F2-4328-951D-A1D900E8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F2EC-C55D-44D3-A635-8FB1AE28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99A5-866C-41B7-A6EC-139438AD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CDCE-7100-488F-AAD0-3BB764C2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9BA1-44BC-4A8A-96FC-8EB4F930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277F-600C-4BEF-9226-1D29376B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E0AF-7FDC-4780-B331-93DD1713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226E-587D-4ED4-B36D-DE721AED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7EC4-1AFB-4874-B804-5C679984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789-2A4F-455D-852F-7074A517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1C82-7FD1-4D67-9734-C8CF93EE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422B-81C5-47E9-A138-FAA0424C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E1E1-0761-4713-A5AF-BDE79785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E680-C355-4A05-BDF0-8D0F4389EE15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C7E7-4701-417E-8CA0-AAACC6D5C608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otonivelad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Prec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rcRect l="14015" t="12850" r="50585" b="35754"/>
          <a:stretch/>
        </p:blipFill>
        <p:spPr>
          <a:xfrm>
            <a:off x="142920" y="1660680"/>
            <a:ext cx="878688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ERMIN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peraciones necesarias para dar la forma final a la superfic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arcimiento de b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rfilado (Longitudinal y transversal de caminos), curvas verticales, pendientes y bombe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ervación de camin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quipo clásico: motoniveladora (grad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3816360" cy="2399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3816360" cy="2387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4284720" y="765000"/>
            <a:ext cx="45925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76908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on adecuadas para excavar y empujar material blando y en pequeñas cantidades debido a la debilidad estructural de la pala (en comparación a una topado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demás de la pala o cuchilla (moldboard) suelen estar equipadas con escarificadores pequeños (rastrillo) o ripp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ovimientos de la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ariar su ángulo respecto del avance de la máquina, incluso puede ponerse paralela al eje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bir/bajar e inclinarse respecto del plano de trabajo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de variar el “ángulo de ataque” ( -&gt;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\ para cortar, pero puede material pasa sobre ho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/ para mezclar y pasadas rápidas. La hoja tiende a levantar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 el material es muy duro hay que escarificar. Incluso pueden removerse dientes del escarificador si es necesa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 - Pal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095640" cy="245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3564000" y="1557360"/>
            <a:ext cx="5184720" cy="2436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556000" y="4221000"/>
            <a:ext cx="38163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timación del esparcimiento de materi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Yardas cúbicas en banco = 3.0 x H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(1 yd3 = 0,7646 m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perar a la máxima velocidad que el cambio permi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4005360"/>
          <a:ext cx="6096240" cy="2590560"/>
        </p:xfrm>
        <a:graphic>
          <a:graphicData uri="http://schemas.openxmlformats.org/drawingml/2006/table">
            <a:tbl>
              <a:tblPr/>
              <a:tblGrid>
                <a:gridCol w="4343400"/>
                <a:gridCol w="175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ntención camin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3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parcimiento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cla de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ª - 6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fi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ara recorridos &lt;300m es más rápido y seguro retroceder en lugar de dar vuel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eficiencia está en relación al Nº de pasadas. Habilidad del operador + planif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empo = (Nº pasadas x Dist) / (V x E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f = 6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</cp:lastModifiedBy>
  <dcterms:modified xsi:type="dcterms:W3CDTF">2009-08-18T13:59:56Z</dcterms:modified>
  <cp:revision>31</cp:revision>
  <dc:subject/>
  <dc:title>CI 52A Métodos Constructivos</dc:title>
</cp:coreProperties>
</file>