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6F8-8417-4E0C-AE32-12129643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E6D-A241-4589-B530-A56AA43F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177-9FF9-4CCD-8139-19201CEC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5CA-9CA0-4CEB-8394-3A529F3E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4C04-C27A-458D-A82C-93430111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902B-B93D-4673-9529-2682C21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8043-B88B-497D-BC2D-983AB659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9A75-93D4-4351-B5C0-5FD554F9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EBDB-9C1F-4C02-AEFB-91E8EDCC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8F2E-D797-4FC8-AAE6-623DE26B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A7B5-F681-4352-B2C8-E5363BE3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361-EA3F-434F-853B-EA0A4355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B2DC-2309-42A7-A34B-9401DA5B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8850-79B6-4BCA-99C0-835EA890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D388-84EC-438B-A8EA-B9D57771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2D66-01DF-4E98-B996-3E41FF9C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F5F6-9E3D-47C1-B498-CB4C0893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8A8-165D-4183-A393-99E1D087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D58-DEEA-4A8A-B8C2-94D4FB8D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76B-497D-4222-A77A-4B577E21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162-596A-4A41-BC73-6DD7F153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FF5F-C311-46A7-9EFD-F1ED68BA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7D5-431D-4725-8518-C6A34701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C1D-BA44-449B-9DBD-E069842E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201C-98BF-4FF0-9745-76F52A5712A3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A11A-0E6E-426B-9A5E-B4D25F1AB78E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re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14015" t="12850" r="50585" b="35754"/>
          <a:stretch/>
        </p:blipFill>
        <p:spPr>
          <a:xfrm>
            <a:off x="142920" y="1660680"/>
            <a:ext cx="87868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9056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8-18T13:59:56Z</dcterms:modified>
  <cp:revision>31</cp:revision>
  <dc:subject/>
  <dc:title>CI 52A Métodos Constructivos</dc:title>
</cp:coreProperties>
</file>