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FA7D-0159-4282-AE0F-22477DDED9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64F-4601-4BEB-B4A1-DC99D33D8CB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0CC8-047C-4508-8871-961C9D954A8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607-2C5B-4A15-95D2-335353F57E2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1675-FFA1-4348-8182-C7C8F7524FE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7A7-9BB8-4CA2-BBCA-D475C9BEF49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EDE3-3A20-4DB0-B09A-739987794D2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3281-A431-4332-9FAB-916AC76D687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6038-D18B-4B49-8D1E-76B2FE8F0BC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1FE-1C45-46BB-8A7E-F24C96D0DDC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C6A1-26AA-4247-9A2A-B15B19522FE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C62B-3029-46EA-9506-1EF5F3054DF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102-492E-41BA-B60E-1E5739E42E8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BB7F-A9A9-4A10-A962-4776B4C0C28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ABB-A16A-462A-BD5A-D6A88731A03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491-2F26-4B42-816B-39E8521609D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B129-7368-498E-879E-FA3C208649E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ECA0-87B5-4715-BF4E-F176CD5BA44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852-BC8E-4512-B336-34A31E866F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9A11-F845-408D-8AF1-B48CD38ACE3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A8AF-D3B9-4149-BC75-B184A5ADC49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9F9-88E4-4BF2-AECF-546C676B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170-1B53-4E59-89CA-98B29410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E40-D249-419B-BDE2-AF8D4CD4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967-6A25-4043-97B5-211CD9DA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396F-AAD7-4740-A05B-3CF1CF9D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89A1-AF58-4C1D-B304-6FAFCBB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17E1-910E-4565-9E9F-B8E3106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DF08-51D9-48AA-B8CE-0E32F16C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B981-0891-456C-9811-6E58AAB4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A133-F65C-420B-82E4-360678A1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4B8C-3140-40EF-8B1B-60D8A4B3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A04-1C01-4098-8AA2-E3816A21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922-3C31-4522-AD85-3FBECB60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5B6C-6727-47B0-BAAE-0DEC5D7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A172-CA6F-4268-8A76-5237B48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B523-D117-4B15-9862-181EB3FF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789A-C1D0-4C42-9500-E6CF80B7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2FC-6F21-483D-95D0-974ADB5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2EB-5C1F-4832-AAA0-DC72EF66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0A5-35C7-4582-8A22-2270A57D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173-B5D0-4A05-BFE0-85B5097B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C0E-BBD8-4BC2-B065-B373317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EAA-5716-4916-BB19-40DEC3EA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1D7-86C8-4DB7-81D1-F883333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F61A-9BCD-4906-9472-771E32DEFC0D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5F8B-652B-44DA-81AC-AD2EAFF4AE7C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zstrob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port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articul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escarga por detrá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T (articulated dump truc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señado para trabajar en terreno blando o ásp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ticulación permite que las ruedas estén en contacto con el suelo aún en condiciones complic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n tracción a todas la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eumáticos radiales con baja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an despe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ón articulado de descarga por detr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ueden subir por pendientes más pronunciadas que camiones corrientes (hasta 3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ADT más comunes son 4x4 y existen modelos más grandes 6x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mecanismo hidráulico es de mayor potencia que el de camiones comunes -&gt; levantan la tolva con mayor rapidez y mayores ángulos (72º en 15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ecuados para materiales poco cohesivos o con grandes clas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carga en lugares difíciles o al borde de una ladera o relle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ando se requiere máxima maniobrabil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Articulated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3721320" cy="189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714840" y="1714680"/>
            <a:ext cx="4991040" cy="26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120" name="Volvo A35E FS Suspension Action at bauma.avi" descr=""/>
          <p:cNvPicPr/>
          <p:nvPr/>
        </p:nvPicPr>
        <p:blipFill>
          <a:blip r:embed="rId4"/>
          <a:stretch/>
        </p:blipFill>
        <p:spPr>
          <a:xfrm>
            <a:off x="1785960" y="4786200"/>
            <a:ext cx="25480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15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7164360" y="3860640"/>
            <a:ext cx="64764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164360" y="5661000"/>
            <a:ext cx="64764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0320" indent="-425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ctor con acoplado de descarga por 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ecuados sólo para material no cohes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 un bajísimo tiempo de descarga, pero se requiere un área de descarga amplia y despej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tipos off road y on ro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uben pendientes muy altas, máximo 5% por limitaciones de peso sobre las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ottom Dump Trai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382920" cy="215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771640" y="4581360"/>
            <a:ext cx="6115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gravimé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volumétrica al ras o colmada con pendiente 2:1 (H:V). Naturalmente dependiendo del material el talud puede variar, haciendo que cambie la capacidad colm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posible que en algunos casos sea económicamente viable sobrecargar los cam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cualquier caso hay que verificar q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exceda la capacidad gravimétrica del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de los neumáticos. Los neumáticos representan alrededor del 35% del costo de operación de un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por eje para el camino, con un máximo de 45ton en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857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peque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maniobrables y velo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falla de uno repercute menos en la fl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difícil calzar la capacidad del balde con la tolva (típico cuatro a cinco baldes/tol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más difíciles de cargar (blanco pequeñ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n má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es posibilidades de atoch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gran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 menor cantidad, hay menores costos de mantención y stock de repue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necesitan meno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de llenar (blanco gran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tiempo detenidos durante la carga si el cargador es peq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desgaste de los cami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calzar capacidad del balde con to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sto del transporte de materiales es proporcional al tiempo de cic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de ciclo es la suma de los tiempos 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azón entre balde y tol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inf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de carga: Nºbaldes/tolva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Nºbaldes x Capacidad bal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carga: Nºbaldes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capacidad de la tol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ificar que no se exceda la capacidad gravimétrica del cam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ulación de oper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ari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encias exter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o del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ezstrobe.com/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tienen un velocidad muy superior a los equipos que hemos visto hasta ah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905440" cy="37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pueden clasificarse en base a la combinación de sus 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método de descarga: por detrás, por debajo o por el 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chasis: rígido o articu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amaño y tipo de motor: Diesel, Bencina, G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de tracción: dos, cuatro o sei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número de ruedas o ejes y la distribución de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material que transportan: tierra, ro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capacidad volumétrica y/o grav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o en la mayoría de los equipos, existen camiones de uso general y otros específicos al tipo de trabajo que van a desarrol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amiones que no son más que meras unidades de tiro a las que se pueden conectar una variedad de accesorios para transportar materiales, equipos, carga congelada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asis rígido, descarga por detrás (camión tol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 corriente o roqu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 o sin puerta. Sin puerta la tolva suele ser inclinada &lt;15º hacia del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ndo en “V” ayuda a centrar la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s más grandes son mejores “blancos” para los cargadores y reducen el tiempo de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en pendientes de hasta 20% puntualmente y de 8 a 10% para viajes más prolon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años de 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tolva corriente: 6m3 o 12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CAT 797: más de 326 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amion Tolva.wmv" descr=""/>
          <p:cNvPicPr/>
          <p:nvPr/>
        </p:nvPicPr>
        <p:blipFill>
          <a:blip r:embed="rId1"/>
          <a:stretch/>
        </p:blipFill>
        <p:spPr>
          <a:xfrm>
            <a:off x="5340240" y="4376880"/>
            <a:ext cx="3322800" cy="2566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Rear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971640" y="3978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816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07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7093080" y="5805360"/>
            <a:ext cx="574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948360" y="1989000"/>
            <a:ext cx="86364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5-28T12:40:39Z</dcterms:modified>
  <cp:revision>42</cp:revision>
  <dc:subject/>
  <dc:title>CI 52A Métodos Constructivos</dc:title>
</cp:coreProperties>
</file>