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8D8-97F8-487F-AA4D-3F466C5729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2A2D-D013-4154-94C6-072BF0668D3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A610-85C4-4E14-A55E-9386AF183C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516-807F-4239-9BE6-2C8F8EB261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86A1-53A7-4B2E-9DCF-125B80CA875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BBE-2559-44DE-86D8-DC6D0D0A15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65C-0707-448F-8F4C-4E29C5BF90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CA17-F5B4-446A-8B64-13330DB345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574-3771-4895-94A7-B3C66634FD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CF7B-B9BC-4E83-9065-91A51DCA4A8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F01-4992-4674-92D3-AAEE7A96DD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3E45-7CE1-42CE-AB2A-37DF9B4E38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DA2F-74BF-4BE0-BECA-E7EE759449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0A80-E60F-40B8-B99C-A0880CFAFC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BCC-F7EB-482E-B464-992B0DCF64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BC1-6F25-4AC5-BAEC-6657F469BCE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C280-39BF-47A4-896B-F0AB623E33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422-BDDD-414A-AB08-EB184B595E7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0B5-EBA1-4F6C-8FB9-1F54D2F1E2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827-A43A-4944-A64B-D8133BDC79F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8E5-6F46-4572-AAC4-B7007711E51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7EF-DF60-4BE5-8190-579AD0C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4A0-CE99-48AC-9004-A09BC7DC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6A5-04B3-4A7D-ADAC-5C4A516F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3F1-EC42-42F1-AD4C-03BE083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0185-DF68-4ED4-9E43-225C09A4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4261-F223-41F3-9038-6099528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BA28-3AD6-4595-A036-39BBBE25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ABA-44C5-4E98-8079-4EEAE64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21FC-5336-4ADA-BD8D-3788C62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B7C8-B0C3-4DE2-BC1C-B4B8C5C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73C8-5A7F-4017-9653-2A9E9D54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F99-78B3-40E8-9B3E-34AD867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63D6-C238-46C5-93ED-39512B95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86F8-49E5-4482-8167-FD228A2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31E-BDA1-4D75-9AB2-47E73B0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232-8CE8-432F-B137-43BAA3CE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541-20E7-4665-AF6C-91AC75C2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820-61B5-465F-9B27-6DA9CE7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D0C-6466-4171-8B5C-2AFD019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D33-3078-4D04-A976-FE42EB3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30E-C7BA-45B0-B19A-A8233F7F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317-192D-4C0D-9725-2E7082A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45D-1004-4EB3-96B9-88D27A22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758-FA69-4FAA-82B6-FC3E639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4F93-D904-4D78-82E0-E229263C8B31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F0F-C7D7-45B5-B201-3162819C2655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zstrob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port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articul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escarga por detr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T (articulated dump tru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señado para trabajar en terreno blando o ásp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ticulación permite que las ruedas estén en contacto con el suelo aún en condiciones complic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n tracción a todas la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eumáticos radiales con baja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an despe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ón articulado de descarga por de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n subir por pendientes más pronunciadas que camiones corrientes (hasta 3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ADT más comunes son 4x4 y existen modelos más grandes 6x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ecanismo hidráulico es de mayor potencia que el de camiones comunes -&gt; levantan la tolva con mayor rapidez y mayores ángulos (72º en 15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s para materiales poco cohesivos o con grandes clas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carga en lugares difíciles o al borde de una ladera o relle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se requiere máxima maniobrabi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Articulated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721320" cy="18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14840" y="1714680"/>
            <a:ext cx="4991040" cy="26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20" name="Volvo A35E FS Suspension Action at bauma.avi" descr=""/>
          <p:cNvPicPr/>
          <p:nvPr/>
        </p:nvPicPr>
        <p:blipFill>
          <a:blip r:embed="rId4"/>
          <a:stretch/>
        </p:blipFill>
        <p:spPr>
          <a:xfrm>
            <a:off x="1785960" y="4786200"/>
            <a:ext cx="25480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15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164360" y="3860640"/>
            <a:ext cx="64764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164360" y="5661000"/>
            <a:ext cx="647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0320" indent="-425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ctor con acoplado de descarga por 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ecuados sólo para material no cohes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 un bajísimo tiempo de descarga, pero se requiere un área de descarga amplia y despej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tipos off road y on ro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uben pendientes muy altas, máximo 5% por limitaciones de peso sobre las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ottom Dump Trai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82920" cy="215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6115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gravimé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volumétrica al ras o colmada con pendiente 2:1 (H:V). Naturalmente dependiendo del material el talud puede variar, haciendo que cambie la capacidad colm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en algunos casos sea económicamente viable sobrecargar los cam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cualquier caso hay que verifica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exceda la capacidad gravimétrica del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de los neumáticos. Los neumáticos representan alrededor del 35% del costo de operación de un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por eje para el camino, con un máximo de 45ton en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85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peque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maniobrables y velo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falla de uno repercute menos en la fl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difícil calzar la capacidad del balde con la tolva (típico cuatro a cinco baldes/tol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más difíciles de cargar (blanco pequeñ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n má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es posibilidades de atoch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gra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 menor cantidad, hay menores costos de mantención y stock de repue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necesitan meno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de llenar (blanco gran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tiempo detenidos durante la carga si el cargador es peq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desgaste de los cam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calzar capacidad del balde con t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sto del transporte de materiales es proporcional al tiempo de cic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de ciclo es la suma de los tiempos 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zón entre balde y tol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inf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de carga: Nºbaldes/tolva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Nºbaldes x Capacidad bal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carga: Nºbaldes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capacidad de la tol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ificar que no se exceda la capacidad gravimétrica del cam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ulación de oper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ari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encias exter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o d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ezstrobe.com/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tienen un velocidad muy superior a los equipos que hemos visto hasta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905440" cy="37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pueden clasificarse en base a la combinación de sus 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método de descarga: por detrás, por debajo o por el 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chasis: rígido o articu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amaño y tipo de motor: Diesel, Bencina,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de tracción: dos, cuatro o sei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número de ruedas o ejes y la distribución de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material que transportan: tierra, r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capacidad volumétrica y/o grav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en la mayoría de los equipos, existen camiones de uso general y otros específicos al tipo de trabajo que van a desarrol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amiones que no son más que meras unidades de tiro a las que se pueden conectar una variedad de accesorios para transportar materiales, equipos, carga congelada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asis rígido, descarga por detrás (camión tol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 corriente o roqu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 o sin puerta. Sin puerta la tolva suele ser inclinada &lt;15º hacia del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ndo en “V” ayuda a centrar la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s más grandes son mejores “blancos” para los cargadores y reducen el tiempo de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en pendientes de hasta 20% puntualmente y de 8 a 10% para viajes más prolon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años de 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tolva corriente: 6m3 o 12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CAT 797: más de 326 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amion Tolva.wmv" descr=""/>
          <p:cNvPicPr/>
          <p:nvPr/>
        </p:nvPicPr>
        <p:blipFill>
          <a:blip r:embed="rId1"/>
          <a:stretch/>
        </p:blipFill>
        <p:spPr>
          <a:xfrm>
            <a:off x="5340240" y="4376880"/>
            <a:ext cx="33228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Rear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971640" y="3978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816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07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7093080" y="5805360"/>
            <a:ext cx="574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48360" y="1989000"/>
            <a:ext cx="86364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5-28T12:40:39Z</dcterms:modified>
  <cp:revision>42</cp:revision>
  <dc:subject/>
  <dc:title>CI 52A Métodos Constructivos</dc:title>
</cp:coreProperties>
</file>