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DD2E-2C47-4D1B-A468-E3B34DC9C9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CD92-EE4F-44CA-8BCC-D03EA3C35B9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F060-0859-41C1-B053-E3481F4052F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364B-1929-4356-88D8-677D4B1AD25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DE09-B0D4-475E-86E1-FFD77216036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26F9-51DF-40FA-8F7C-A5FB7157AE3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2368-008D-41AD-BABE-931D830B470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1350-AF73-4683-B250-582E4C65825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28D0-6430-415C-A15E-4672B8467EC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5BE0-E5B5-4FB9-A177-4549D1B97BC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9EBC-0E0E-4BAC-B929-56EA286542D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75F9-E5A0-42FD-B965-7F0CCC9BBF8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198F-4252-4FED-A0AF-E3871F1DB5C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49EB-91CB-40C7-97F0-939069AD64C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3574-EF84-46EC-86BB-E4D70564414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1F01-F92A-48ED-8054-526870CCAFF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603D-0DAE-42D6-A98E-FE3AC4C7758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1A0C-F53D-4411-940C-1C58CF1C067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DE21-D171-4FE8-A23D-E530438927F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E116-D330-410E-92D8-3F97852DD45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383F-9DB7-4434-AB25-C1DF752AD0A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7C3-B0B0-4951-9399-D1EB3EE0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BE6-EBD1-43E8-A83D-F4133CAD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E8C-8F8D-44E3-9C8A-FF0939A5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4F7-5BF3-4C40-B32A-00F015D0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5F0C-5D76-43EB-85D7-FC6DC409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D1AF-FAD6-4154-98C4-35FE542D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126C-2E13-4011-83FA-F5928A41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D62D-774E-45C0-9510-FBD63C4C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DFE2-2141-463A-ADAF-A518E263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E5B2-459C-4C0E-A447-8DE40A78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A904-EA5C-4B55-B19F-0EA95CBB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BEE-B4FD-41E2-AE06-39C6F834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8BC9-9E24-4B5C-AEE3-591D4E3B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C489-AFC2-47D6-B7B3-83307B3A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0A47-B151-46DF-8180-056B180B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1A3E-94B2-49A7-9ADA-129FBD4B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3356-2931-42F1-B1B2-5301BABD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A0C-0EA3-4D55-8165-B0F5FA35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0F5-E35D-4782-97D6-6B9932EC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DE5-1FF9-40A3-84C7-69D99FC3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25C-9092-4F23-AABE-A7D60AC0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EBC-E11D-4281-A763-347C73A4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956-2238-4ED0-8568-32BEFF69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631-45EC-4111-9F49-C250012A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197E-486F-4895-B555-94A6B0D54154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D425-2328-4012-B28D-8598743AD9A8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zstrobe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nsporte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ón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articula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e descarga por detrá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DT (articulated dump truc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señado para trabajar en terreno blando o ásp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ticulación permite que las ruedas estén en contacto con el suelo aún en condiciones complica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nen tracción a todas las rue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eumáticos radiales con baja pre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ran despe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mión articulado de descarga por detrá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ueden subir por pendientes más pronunciadas que camiones corrientes (hasta 3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ADT más comunes son 4x4 y existen modelos más grandes 6x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mecanismo hidráulico es de mayor potencia que el de camiones comunes -&gt; levantan la tolva con mayor rapidez y mayores ángulos (72º en 15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decuados para materiales poco cohesivos o con grandes clas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scarga en lugares difíciles o al borde de una ladera o relle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uando se requiere máxima maniobrabil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Articulated Dump Truc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219640" y="4797360"/>
            <a:ext cx="3721320" cy="1897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3714840" y="1714680"/>
            <a:ext cx="4991040" cy="2620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4286160" cy="3214440"/>
          </a:xfrm>
          <a:prstGeom prst="rect">
            <a:avLst/>
          </a:prstGeom>
          <a:ln w="0">
            <a:noFill/>
          </a:ln>
        </p:spPr>
      </p:pic>
      <p:pic>
        <p:nvPicPr>
          <p:cNvPr id="120" name="Volvo A35E FS Suspension Action at bauma.avi" descr=""/>
          <p:cNvPicPr/>
          <p:nvPr/>
        </p:nvPicPr>
        <p:blipFill>
          <a:blip r:embed="rId4"/>
          <a:stretch/>
        </p:blipFill>
        <p:spPr>
          <a:xfrm>
            <a:off x="1785960" y="4786200"/>
            <a:ext cx="254808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515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7164360" y="3860640"/>
            <a:ext cx="64764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164360" y="5661000"/>
            <a:ext cx="64764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0320" indent="-4251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ctor con acoplado de descarga por 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decuados sólo para material no cohes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ne un bajísimo tiempo de descarga, pero se requiere un área de descarga amplia y despej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isten tipos off road y on ro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uben pendientes muy altas, máximo 5% por limitaciones de peso sobre las ruedas motr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Bottom Dump Trai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076720" y="1989000"/>
            <a:ext cx="3382920" cy="215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2771640" y="4581360"/>
            <a:ext cx="6115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gravimét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volumétrica al ras o colmada con pendiente 2:1 (H:V). Naturalmente dependiendo del material el talud puede variar, haciendo que cambie la capacidad colm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 posible que en algunos casos sea económicamente viable sobrecargar los cam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n cualquier caso hay que verificar qu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e exceda la capacidad gravimétrica del cam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e sobrepase el límite de carga de los neumáticos. Los neumáticos representan alrededor del 35% del costo de operación de un cam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e sobrepase el límite de carga por eje para el camino, con un máximo de 45ton en Ch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2857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pequeñ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maniobrables y velo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falla de uno repercute menos en la flo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difícil calzar la capacidad del balde con la tolva (típico cuatro a cinco baldes/tolv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más difíciles de cargar (blanco pequeñ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requieren más conduc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es posibilidades de atoch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gran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requiere menor cantidad, hay menores costos de mantención y stock de repues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necesitan menos conduc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fácil de llenar (blanco gran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 tiempo detenidos durante la carga si el cargador es pequ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 desgaste de los cami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fácil calzar capacidad del balde con tol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costo del transporte de materiales es proporcional al tiempo de cic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de ciclo es la suma de los tiempos 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scar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to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azón entre balde y tol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ondeada al entero inf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mpo de carga: Nºbaldes/tolva x tpo ciclo car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ga transportada: Nºbaldes x Capacidad bal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ondeada al entero sup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mpo carga: Nºbaldes x tpo ciclo car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ga transportada: capacidad de la tol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erificar que no se exceda la capacidad gravimétrica del cam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ulación de opera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ari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fluencias exter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o del sis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ezstrobe.com/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camiones tienen un velocidad muy superior a los equipos que hemos visto hasta ah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5905440" cy="375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camiones pueden clasificarse en base a la combinación de sus característ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método de descarga: por detrás, por debajo o por el l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tipo de chasis: rígido o articul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tamaño y tipo de motor: Diesel, Bencina, G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po de tracción: dos, cuatro o seis rue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número de ruedas o ejes y la distribución de ruedas motr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tipo de material que transportan: tierra, ro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 capacidad volumétrica y/o gravimé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o en la mayoría de los equipos, existen camiones de uso general y otros específicos al tipo de trabajo que van a desarrol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bién existen camiones que no son más que meras unidades de tiro a las que se pueden conectar una variedad de accesorios para transportar materiales, equipos, carga congelada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asis rígido, descarga por detrás (camión tol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olva corriente o roqu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n o sin puerta. Sin puerta la tolva suele ser inclinada &lt;15º hacia del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ondo en “V” ayuda a centrar la car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olvas más grandes son mejores “blancos” para los cargadores y reducen el tiempo de car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en pendientes de hasta 20% puntualmente y de 8 a 10% para viajes más prolong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años de cam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ón tolva corriente: 6m3 o 12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ón CAT 797: más de 326 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amion Tolva.wmv" descr=""/>
          <p:cNvPicPr/>
          <p:nvPr/>
        </p:nvPicPr>
        <p:blipFill>
          <a:blip r:embed="rId1"/>
          <a:stretch/>
        </p:blipFill>
        <p:spPr>
          <a:xfrm>
            <a:off x="5340240" y="4376880"/>
            <a:ext cx="3322800" cy="2566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Rear dump truc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971640" y="397836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5003640" y="1557360"/>
            <a:ext cx="38163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07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7093080" y="5805360"/>
            <a:ext cx="574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6948360" y="1989000"/>
            <a:ext cx="86364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5-28T12:40:39Z</dcterms:modified>
  <cp:revision>42</cp:revision>
  <dc:subject/>
  <dc:title>CI 52A Métodos Constructivos</dc:title>
</cp:coreProperties>
</file>