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8900-B8F3-409E-953A-45F31581C0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EF88-9871-440B-8F5D-F1828118173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46FA-A563-43D2-AD49-7582350DCE0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1132-227D-47ED-8EEA-183D910D258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5080-D16A-4B0E-A0E2-C729FCD16CD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F983-FF55-4CC6-A9B3-F808CB903F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925-2D5D-4145-AE04-F42FD177D5D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995B-2B1B-43AC-8ECB-A8D56607A63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F206-1A2B-4114-B659-165CA750BDE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46E-E6E0-4A4E-8CCF-9AF41B62B6D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B4FD-5D06-439D-B219-8EEB96B185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892-CCD6-40B5-A8FE-CA11224B0BF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3328-8FAF-42C8-9A68-1C0A93A4C6D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5A59-E1F0-4C46-8479-0F6FD81AA54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3AFF-60D0-4D81-A25C-2D9DA62F41D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6FDC-68EA-4201-9DDB-A867737F147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C7D6-1CCC-4FEE-BA3B-A945F93EBB5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10F-4675-4BFC-AC07-C74F5FD7DA5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9E53-6D1E-447E-8C01-40C1F307855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3312-042C-44EF-9682-9880C21DDFC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7CEB-2C79-4068-8E55-E827C4C269E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487-BA0E-4738-AC86-8A3BB127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7FC-BBA6-46B4-8547-C06BE4EF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633-2B7A-4ED7-9FD1-D9A09719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46B-1B0E-4F3C-A697-6C78F6C4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E598-A06E-4FC8-81EA-5FA9C070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5F89-E56D-4508-91C2-BFC9FDC9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B568-BA13-4AFE-A70D-DBAEB486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17E8-30ED-4049-B8E6-A25AE396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AD24-D466-4DA7-984F-22B2A73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D97E-C93B-4A16-85DD-8EFB1036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94CF-FCB3-4CB2-9241-5616F7F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EF4-2316-412D-9B16-3D60417C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453E-E5D1-4460-8EB1-C0402E2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D1CD-F366-4906-91E6-A78D82C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C7A3-14C1-4642-ABAC-257AB36F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2F97-ABE3-4F37-9653-90BCE25D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AA38-4C00-49F5-8544-0D874229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540-BE7C-4FE6-9129-1B328F4E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15F-0B2A-4FCD-BAA4-29E3BB5C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11F-F501-46BA-B910-7F63130D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5EF-A368-4162-9E1B-01A28E86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70F-9733-410E-A97F-3A82BBF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9C5-6F36-4D36-B156-1C91BB9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D6F-23CD-4A3D-905D-98502B52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59A4-932A-473D-B997-F3773FC21D20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C170-F5EA-4D2D-9A98-BCEFC84610A8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zstrob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porte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</a:t>
            </a: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articul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escarga por detrá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T (articulated dump truc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señado para trabajar en terreno blando o ásp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ticulación permite que las ruedas estén en contacto con el suelo aún en condiciones complic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n tracción a todas la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eumáticos radiales con baja pr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ran despe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ión articulado de descarga por detrá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ueden subir por pendientes más pronunciadas que camiones corrientes (hasta 3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ADT más comunes son 4x4 y existen modelos más grandes 6x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mecanismo hidráulico es de mayor potencia que el de camiones comunes -&gt; levantan la tolva con mayor rapidez y mayores ángulos (72º en 15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decuados para materiales poco cohesivos o con grandes clas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scarga en lugares difíciles o al borde de una ladera o relle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ando se requiere máxima maniobrabil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Articulated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219640" y="4797360"/>
            <a:ext cx="3721320" cy="189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3714840" y="1714680"/>
            <a:ext cx="4991040" cy="262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120" name="Volvo A35E FS Suspension Action at bauma.avi" descr=""/>
          <p:cNvPicPr/>
          <p:nvPr/>
        </p:nvPicPr>
        <p:blipFill>
          <a:blip r:embed="rId4"/>
          <a:stretch/>
        </p:blipFill>
        <p:spPr>
          <a:xfrm>
            <a:off x="1785960" y="4786200"/>
            <a:ext cx="25480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15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7164360" y="3860640"/>
            <a:ext cx="64764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164360" y="5661000"/>
            <a:ext cx="64764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0320" indent="-4251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ctor con acoplado de descarga por 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decuados sólo para material no cohes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ne un bajísimo tiempo de descarga, pero se requiere un área de descarga amplia y despej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n tipos off road y on ro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4560" indent="-353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uben pendientes muy altas, máximo 5% por limitaciones de peso sobre las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Bottom Dump Trai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382920" cy="215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771640" y="4581360"/>
            <a:ext cx="6115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gravimé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volumétrica al ras o colmada con pendiente 2:1 (H:V). Naturalmente dependiendo del material el talud puede variar, haciendo que cambie la capacidad colm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posible que en algunos casos sea económicamente viable sobrecargar los cam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n cualquier caso hay que verificar qu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exceda la capacidad gravimétrica del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de los neumáticos. Los neumáticos representan alrededor del 35% del costo de operación de un cam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se sobrepase el límite de carga por eje para el camino, con un máximo de 45ton en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857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peque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maniobrables y velo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falla de uno repercute menos en la fl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difícil calzar la capacidad del balde con la tolva (típico cuatro a cinco baldes/tolv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más difíciles de cargar (blanco pequeñ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n má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es posibilidades de atoch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gran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requiere menor cantidad, hay menores costos de mantención y stock de repue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necesitan menos condu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de llenar (blanco gran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tiempo detenidos durante la carga si el cargador es pequ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desgaste de los cami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ás fácil calzar capacidad del balde con to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osto del transporte de materiales es proporcional al tiempo de cic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de ciclo es la suma de los tiempos 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car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azón entre balde y tol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inf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de carga: Nºbaldes/tolva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Nºbaldes x Capacidad bal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ondeada al entero 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empo carga: Nºbaldes x tpo ciclo ca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ga transportada: capacidad de la tol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erificar que no se exceda la capacidad gravimétrica del cam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ulación de oper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ari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encias exter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o del sis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ezstrobe.com/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tienen un velocidad muy superior a los equipos que hemos visto hasta aho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905440" cy="375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camiones pueden clasificarse en base a la combinación de sus característ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método de descarga: por detrás, por debajo o por el 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chasis: rígido o articul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amaño y tipo de motor: Diesel, Bencina, G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po de tracción: dos, cuatro o seis rue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número de ruedas o ejes y la distribución de ruedas motr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tipo de material que transportan: tierra, ro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capacidad volumétrica y/o gravi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o en la mayoría de los equipos, existen camiones de uso general y otros específicos al tipo de trabajo que van a desarrol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existen camiones que no son más que meras unidades de tiro a las que se pueden conectar una variedad de accesorios para transportar materiales, equipos, carga congelada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iones más comunes en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asis rígido, descarga por detrás (camión tol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 corriente o roqu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 o sin puerta. Sin puerta la tolva suele ser inclinada &lt;15º hacia del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ondo en “V” ayuda a centrar la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olvas más grandes son mejores “blancos” para los cargadores y reducen el tiempo de c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30480" indent="-361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en pendientes de hasta 20% puntualmente y de 8 a 10% para viajes más prolon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POR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años de cam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tolva corriente: 6m3 o 12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ón CAT 797: más de 326 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amion Tolva.wmv" descr=""/>
          <p:cNvPicPr/>
          <p:nvPr/>
        </p:nvPicPr>
        <p:blipFill>
          <a:blip r:embed="rId1"/>
          <a:stretch/>
        </p:blipFill>
        <p:spPr>
          <a:xfrm>
            <a:off x="5340240" y="4376880"/>
            <a:ext cx="3322800" cy="2566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Rear dump truc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971640" y="3978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38163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07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7093080" y="5805360"/>
            <a:ext cx="574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948360" y="1989000"/>
            <a:ext cx="86364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5-28T12:40:39Z</dcterms:modified>
  <cp:revision>42</cp:revision>
  <dc:subject/>
  <dc:title>CI 52A Métodos Constructivos</dc:title>
</cp:coreProperties>
</file>