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B67A9-853D-41F7-9959-EE65B6EEDA11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6DB99-0DBF-4BAF-931B-4D051BDABDA8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382D5-7B04-4A26-8361-9E50BF91B739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590C8-0677-46B1-A99B-B09904388214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B1135-B9EB-482A-B058-59E815179FBC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CBCC9-8051-44D5-A989-7B7CFFE3A6A1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029B8-E063-421D-A08A-F3154FE23B03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EBE88-AD8E-4D3E-9CE4-9DA61791E97F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A8CC4-59CC-47F5-86D1-A2654989D172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517A7-9DFE-4685-BAB1-F612FF023216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86243-E5F8-41FE-89F5-4812B2F8C409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AE8FD-D9DE-49E9-BA31-5DC50068584D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AD086-D9FD-4450-8DE6-A476BCC26785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1AF74-04EF-405E-AE29-588E13F22346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823DE-B23E-4480-A142-68C72A3B3C25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463F1-D6A6-4577-8971-4027AEAC2F02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2A3E6-8009-4955-A1EE-B7C58F2FE6E5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7C11A-A197-4C5C-B3EE-EF1E7777CA1D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C0FB7-77AE-4ED0-A9C1-09DEA3B23119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35AC7-078C-4EC8-AF85-9A7BA658059B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A4FDA-EBC3-4809-89A6-EF026088C190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2EBF0-995C-46E4-9597-14FA7A64C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41160"/>
            <a:ext cx="82296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43C66-520A-486C-AF7A-93FB42659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4116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24116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26F3F-8B60-4670-9261-60A128694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41160"/>
            <a:ext cx="26496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241160"/>
            <a:ext cx="26496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241160"/>
            <a:ext cx="26496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BDD70-9178-4B14-ABC6-C9BD4A352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56FFB-60C0-4281-8934-B82E768CD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1000B-FC1D-4CE8-86EF-34DF46C8D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F8D43-4F55-4D68-87DF-46268FE5B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B5E36-C097-45CE-81B8-1F87CBF61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91AE1-EA36-406D-B2C7-886BCE427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E6AED-9451-4B41-A459-5198C464B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24116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DB28A-BF8C-47ED-8211-4994B8F31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E3E7C-0F2D-4293-9459-9787057A2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24116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CEC9C-7059-4F0A-9323-8DBC9F725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241160"/>
            <a:ext cx="82296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00573-BC8E-4474-A116-7774D7384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241160"/>
            <a:ext cx="82296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C123B-2ADB-47E8-AE30-62EFACD92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4116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24116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28BEA-2E06-4901-A97A-C9107015C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241160"/>
            <a:ext cx="26496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241160"/>
            <a:ext cx="26496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241160"/>
            <a:ext cx="26496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194E6-2C6E-4951-8ECE-E24A06D0A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35629-45F5-473D-9C4E-DAE8C3EB5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FEE4F-A3B0-45D6-969A-A85F207E5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A55F6-8652-429F-82F5-032865990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95B43-D115-47BB-B098-1DC3139FC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4116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B9BD5-C7F6-424F-A46C-82DDDDF5C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24116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36449-E8B4-4BDB-A808-64746E2E8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41160"/>
            <a:ext cx="82296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DA01B-4C47-46E8-BFF2-AD1ECE28F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53000"/>
            <a:ext cx="21337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53000"/>
            <a:ext cx="28958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53000"/>
            <a:ext cx="21337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B8C1B-89DD-4755-A47F-5FF2E4ABC920}" type="slidenum">
              <a:rPr b="0" lang="es-C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D8F1E-BFBF-4140-90EE-609BC68A8813}" type="slidenum">
              <a:rPr b="0" lang="es-C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ezstrobe.com/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CI 52A</a:t>
            </a:r>
            <a:br>
              <a:rPr sz="4400"/>
            </a:b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Métodos Constructivo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Transporte</a:t>
            </a:r>
            <a:br>
              <a:rPr sz="3200"/>
            </a:b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Camion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TRANSPORT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6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06520" indent="-50652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Camiones más comunes en construcció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868680" indent="-4341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Camión </a:t>
            </a:r>
            <a:r>
              <a:rPr b="0" lang="es-ES_tradnl" sz="2800" spc="-1" strike="noStrike">
                <a:solidFill>
                  <a:srgbClr val="ffcc00"/>
                </a:solidFill>
                <a:latin typeface="Tahoma"/>
              </a:rPr>
              <a:t>articulado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 de descarga por detrá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230480" indent="-36180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ADT (articulated dump truck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230480" indent="-36180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Diseñado para trabajar en terreno blando o ásper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230480" indent="-36180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Articulación permite que las ruedas estén en contacto con el suelo aún en condiciones complicada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230480" indent="-36180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Tienen tracción a todas las rueda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230480" indent="-36180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Neumáticos radiales con baja presió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230480" indent="-36180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Gran despej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TRANSPORT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Camiones más comunes en construcción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Camión articulado de descarga por detrá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295280" indent="-3808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Pueden subir por pendientes más pronunciadas que camiones corrientes (hasta 35%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295280" indent="-3808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Los ADT más comunes son 4x4 y existen modelos más grandes 6x6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295280" indent="-3808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El mecanismo hidráulico es de mayor potencia que el de camiones comunes -&gt; levantan la tolva con mayor rapidez y mayores ángulos (72º en 15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295280" indent="-3808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Adecuados para materiales poco cohesivos o con grandes clasto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295280" indent="-3808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Descarga en lugares difíciles o al borde de una ladera o rellen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295280" indent="-3808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Cuando se requiere máxima maniobrabilidad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e5ffff"/>
                </a:solidFill>
                <a:latin typeface="Tahoma"/>
              </a:rPr>
              <a:t>Articulated Dump Truck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17" name="Picture 5" descr=""/>
          <p:cNvPicPr/>
          <p:nvPr/>
        </p:nvPicPr>
        <p:blipFill>
          <a:blip r:embed="rId1"/>
          <a:stretch/>
        </p:blipFill>
        <p:spPr>
          <a:xfrm>
            <a:off x="5219640" y="4797360"/>
            <a:ext cx="3721320" cy="18972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7" descr=""/>
          <p:cNvPicPr/>
          <p:nvPr/>
        </p:nvPicPr>
        <p:blipFill>
          <a:blip r:embed="rId2"/>
          <a:stretch/>
        </p:blipFill>
        <p:spPr>
          <a:xfrm>
            <a:off x="3714840" y="1714680"/>
            <a:ext cx="4991040" cy="26208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4" descr=""/>
          <p:cNvPicPr/>
          <p:nvPr/>
        </p:nvPicPr>
        <p:blipFill>
          <a:blip r:embed="rId3"/>
          <a:stretch/>
        </p:blipFill>
        <p:spPr>
          <a:xfrm>
            <a:off x="142920" y="1428840"/>
            <a:ext cx="4286160" cy="3214440"/>
          </a:xfrm>
          <a:prstGeom prst="rect">
            <a:avLst/>
          </a:prstGeom>
          <a:ln w="0">
            <a:noFill/>
          </a:ln>
        </p:spPr>
      </p:pic>
      <p:pic>
        <p:nvPicPr>
          <p:cNvPr id="120" name="Volvo A35E FS Suspension Action at bauma.avi" descr=""/>
          <p:cNvPicPr/>
          <p:nvPr/>
        </p:nvPicPr>
        <p:blipFill>
          <a:blip r:embed="rId4"/>
          <a:stretch/>
        </p:blipFill>
        <p:spPr>
          <a:xfrm>
            <a:off x="1785960" y="4786200"/>
            <a:ext cx="2548080" cy="19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12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12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1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"/>
          <p:cNvPicPr/>
          <p:nvPr/>
        </p:nvPicPr>
        <p:blipFill>
          <a:blip r:embed="rId1"/>
          <a:stretch/>
        </p:blipFill>
        <p:spPr>
          <a:xfrm>
            <a:off x="395280" y="907920"/>
            <a:ext cx="8353440" cy="5156280"/>
          </a:xfrm>
          <a:prstGeom prst="rect">
            <a:avLst/>
          </a:prstGeom>
          <a:ln w="0">
            <a:noFill/>
          </a:ln>
        </p:spPr>
      </p:pic>
      <p:sp>
        <p:nvSpPr>
          <p:cNvPr id="122" name="Rectangle 5"/>
          <p:cNvSpPr/>
          <p:nvPr/>
        </p:nvSpPr>
        <p:spPr>
          <a:xfrm>
            <a:off x="7164360" y="3860640"/>
            <a:ext cx="647640" cy="576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Rectangle 6"/>
          <p:cNvSpPr/>
          <p:nvPr/>
        </p:nvSpPr>
        <p:spPr>
          <a:xfrm>
            <a:off x="7164360" y="5661000"/>
            <a:ext cx="647640" cy="216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TRANSPORT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6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96080" indent="-49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Camiones más comunes en construcció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850320" indent="-42516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Tractor con acoplado de descarga por abaj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204560" indent="-3538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Adecuados sólo para material no cohesiv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204560" indent="-3538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Tiene un bajísimo tiempo de descarga, pero se requiere un área de descarga amplia y despejad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204560" indent="-3538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Existen tipos off road y on road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204560" indent="-3538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No suben pendientes muy altas, máximo 5% por limitaciones de peso sobre las ruedas motric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e5ffff"/>
                </a:solidFill>
                <a:latin typeface="Tahoma"/>
              </a:rPr>
              <a:t>Bottom Dump Trailer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27" name="Picture 5" descr=""/>
          <p:cNvPicPr/>
          <p:nvPr/>
        </p:nvPicPr>
        <p:blipFill>
          <a:blip r:embed="rId1"/>
          <a:stretch/>
        </p:blipFill>
        <p:spPr>
          <a:xfrm>
            <a:off x="395280" y="1916280"/>
            <a:ext cx="3809880" cy="28573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6" descr=""/>
          <p:cNvPicPr/>
          <p:nvPr/>
        </p:nvPicPr>
        <p:blipFill>
          <a:blip r:embed="rId2"/>
          <a:stretch/>
        </p:blipFill>
        <p:spPr>
          <a:xfrm>
            <a:off x="5076720" y="1989000"/>
            <a:ext cx="3382920" cy="21528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7" descr=""/>
          <p:cNvPicPr/>
          <p:nvPr/>
        </p:nvPicPr>
        <p:blipFill>
          <a:blip r:embed="rId3"/>
          <a:stretch/>
        </p:blipFill>
        <p:spPr>
          <a:xfrm>
            <a:off x="2771640" y="4581360"/>
            <a:ext cx="61153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TRANSPORT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Capacidad gravimétric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Capacidad volumétrica al ras o colmada con pendiente 2:1 (H:V). Naturalmente dependiendo del material el talud puede variar, haciendo que cambie la capacidad colmad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Es posible que en algunos casos sea económicamente viable sobrecargar los camion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TRANSPORT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5334120" cy="43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En cualquier caso hay que verificar que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No se exceda la capacidad gravimétrica del camió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No se sobrepase el límite de carga de los neumáticos. Los neumáticos representan alrededor del 35% del costo de operación de un camió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No se sobrepase el límite de carga por eje para el camino, con un máximo de 45ton en Chil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Picture 4" descr=""/>
          <p:cNvPicPr/>
          <p:nvPr/>
        </p:nvPicPr>
        <p:blipFill>
          <a:blip r:embed="rId1"/>
          <a:stretch/>
        </p:blipFill>
        <p:spPr>
          <a:xfrm>
            <a:off x="6095880" y="1523880"/>
            <a:ext cx="285768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TRANSPORT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Camiones pequeñ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Más maniobrables y veloc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La falla de uno repercute menos en la flot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Más difícil calzar la capacidad del balde con la tolva (típico cuatro a cinco baldes/tolva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Son más difíciles de cargar (blanco pequeño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Se requieren más conductor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Mayores posibilidades de atochamient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TRANSPORT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Camiones grand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Se requiere menor cantidad, hay menores costos de mantención y stock de repuesto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Se necesitan menos conductor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Más fácil de llenar (blanco grande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Mayor tiempo detenidos durante la carga si el cargador es pequeñ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Mayor desgaste de los camino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Más fácil calzar capacidad del balde con tolv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TRANSPORT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El costo del transporte de materiales es proporcional al tiempo de cicl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Tiempo de ciclo es la suma de los tiempos de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Carg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Transpor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Descarg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Retorn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TRANSPORT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Razón entre balde y tolv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Redondeada al entero inferio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Tiempo de carga: Nºbaldes/tolva x tpo ciclo carg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Carga transportada: Nºbaldes x Capacidad bald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Redondeada al entero superio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Tiempo carga: Nºbaldes x tpo ciclo carg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Carga transportada: capacidad de la tolv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Verificar que no se exceda la capacidad gravimétrica del camió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e5ffff"/>
                </a:solidFill>
                <a:latin typeface="Tahoma"/>
              </a:rPr>
              <a:t>TRANSPORT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98072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Simulación de operacion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Variabilida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Influencias extern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Diseño del sistem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 u="sng">
                <a:solidFill>
                  <a:srgbClr val="00ccff"/>
                </a:solidFill>
                <a:uFillTx/>
                <a:latin typeface="Tahoma"/>
                <a:hlinkClick r:id="rId1"/>
              </a:rPr>
              <a:t>http://www.ezstrobe.com/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TRANSPORT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218440" cy="9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Los camiones tienen un velocidad muy superior a los equipos que hemos visto hasta ahor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Picture 4" descr=""/>
          <p:cNvPicPr/>
          <p:nvPr/>
        </p:nvPicPr>
        <p:blipFill>
          <a:blip r:embed="rId1"/>
          <a:stretch/>
        </p:blipFill>
        <p:spPr>
          <a:xfrm>
            <a:off x="1619280" y="2924280"/>
            <a:ext cx="5905440" cy="3752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TRANSPORT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Los camiones pueden clasificarse en base a la combinación de sus característica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14400" indent="-457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El método de descarga: por detrás, por debajo o por el lad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14400" indent="-457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El tipo de chasis: rígido o articulad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14400" indent="-457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El tamaño y tipo de motor: Diesel, Bencina, Ga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14400" indent="-457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Tipo de tracción: dos, cuatro o seis rueda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14400" indent="-457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El número de ruedas o ejes y la distribución de ruedas motric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14400" indent="-457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El tipo de material que transportan: tierra, roc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14400" indent="-457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La capacidad volumétrica y/o gravimétric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1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TRANSPORT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11920" indent="-51192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Como en la mayoría de los equipos, existen camiones de uso general y otros específicos al tipo de trabajo que van a desarrolla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11920" indent="-51192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También existen camiones que no son más que meras unidades de tiro a las que se pueden conectar una variedad de accesorios para transportar materiales, equipos, carga congelada, etc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TRANSPORT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5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06520" indent="-50652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Camiones más comunes en construcció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868680" indent="-4341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Chasis rígido, descarga por detrás (camión tolva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230480" indent="-36180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Tolva corriente o roquer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230480" indent="-36180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Con o sin puerta. Sin puerta la tolva suele ser inclinada &lt;15º hacia delant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230480" indent="-36180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Fondo en “V” ayuda a centrar la carg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230480" indent="-36180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Tolvas más grandes son mejores “blancos” para los cargadores y reducen el tiempo de carg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230480" indent="-36180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Suben pendientes de hasta 20% puntualmente y de 8 a 10% para viajes más prolongado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TRANSPORT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Tamaños de camion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Camión tolva corriente: 6m3 o 12t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Camión CAT 797: más de 326 t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Camion Tolva.wmv" descr=""/>
          <p:cNvPicPr/>
          <p:nvPr/>
        </p:nvPicPr>
        <p:blipFill>
          <a:blip r:embed="rId1"/>
          <a:stretch/>
        </p:blipFill>
        <p:spPr>
          <a:xfrm>
            <a:off x="5340240" y="4376880"/>
            <a:ext cx="3322800" cy="2566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4" descr=""/>
          <p:cNvPicPr/>
          <p:nvPr/>
        </p:nvPicPr>
        <p:blipFill>
          <a:blip r:embed="rId2"/>
          <a:stretch/>
        </p:blipFill>
        <p:spPr>
          <a:xfrm>
            <a:off x="250920" y="1557360"/>
            <a:ext cx="3889440" cy="291780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e5ffff"/>
                </a:solidFill>
                <a:latin typeface="Tahoma"/>
              </a:rPr>
              <a:t>Rear dump truck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07" name="Picture 6" descr=""/>
          <p:cNvPicPr/>
          <p:nvPr/>
        </p:nvPicPr>
        <p:blipFill>
          <a:blip r:embed="rId3"/>
          <a:stretch/>
        </p:blipFill>
        <p:spPr>
          <a:xfrm>
            <a:off x="971640" y="3978360"/>
            <a:ext cx="3600360" cy="28796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5" descr=""/>
          <p:cNvPicPr/>
          <p:nvPr/>
        </p:nvPicPr>
        <p:blipFill>
          <a:blip r:embed="rId4"/>
          <a:stretch/>
        </p:blipFill>
        <p:spPr>
          <a:xfrm>
            <a:off x="5003640" y="1557360"/>
            <a:ext cx="3816360" cy="27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0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0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4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8642160" cy="630720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5"/>
          <p:cNvSpPr/>
          <p:nvPr/>
        </p:nvSpPr>
        <p:spPr>
          <a:xfrm>
            <a:off x="7093080" y="5805360"/>
            <a:ext cx="574560" cy="2876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Rectangle 6"/>
          <p:cNvSpPr/>
          <p:nvPr/>
        </p:nvSpPr>
        <p:spPr>
          <a:xfrm>
            <a:off x="6948360" y="1989000"/>
            <a:ext cx="863640" cy="2876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01:45:01Z</dcterms:created>
  <dc:creator>William Wragg L.</dc:creator>
  <dc:description/>
  <dc:language>en-US</dc:language>
  <cp:lastModifiedBy>William Wragg</cp:lastModifiedBy>
  <dcterms:modified xsi:type="dcterms:W3CDTF">2009-05-28T12:40:39Z</dcterms:modified>
  <cp:revision>42</cp:revision>
  <dc:subject/>
  <dc:title>CI 52A Métodos Constructivos</dc:title>
</cp:coreProperties>
</file>