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311120" y="102672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4402080" y="9553680"/>
            <a:ext cx="3368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5620-4C41-4823-AC20-54D1E66D9B33}" type="slidenum">
              <a:rPr b="0" lang="es-ES" sz="18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C29EC-0362-4C12-9B76-B0B9ABE86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59FD5-7A84-4007-8C3F-79A7DF53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3056D-50AE-43F5-B651-A13A4966D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DD208-D8ED-4A88-942F-157E438D2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293B-80AB-4515-8211-A8D3C81B7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13EC-BF03-4BE4-8E33-04DDDDFE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D9BC-DF89-460E-BDCA-57AD4ACF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AB2A-AE12-494B-AF14-33E3BDB5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5EF3-2444-4388-9C14-17927D70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ACE9-2288-45CA-8FDA-4296D543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EC77-6B30-4465-B5B7-AAC41FC7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A93DB-C9BE-4DDA-95DB-EE3A02B8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A606-AB5F-4993-95EC-AEF2CFFD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8B12-C774-4269-963D-7D2963A5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87F3-CCBF-4389-B37B-E601ECC8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501E-B91C-48D2-90EF-F6FA49CC7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ED8E-CDC8-477E-9E80-340B86498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A098F-DEF4-4AC8-A8F2-8AFA1519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300CF-6CDB-4AE0-815D-DC868B89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84768-D385-4CA7-AA83-712D3039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7B352-24FB-47E3-B1A4-A8629FA8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00118-6A2E-48B9-9F1A-8814849B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B3E6B-7AAD-4D79-8144-12DCBC15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5AA64-26D2-4560-A372-8701A9F4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5116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480" y="688788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1C1A-7642-4A2B-AB87-35455DE6A7DF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3" name="Group 5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3024000" y="4626000"/>
                <a:ext cx="50472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7297920" y="4673160"/>
                <a:ext cx="221148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840" y="688788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51" name="Group 3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3024000" y="4626000"/>
                <a:ext cx="50472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7297920" y="4673160"/>
                <a:ext cx="221148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44840" y="6891120"/>
            <a:ext cx="319104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224480" y="6894360"/>
            <a:ext cx="23526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F9AD-67C1-442F-BF9F-141384F1BD58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6600" spc="-1" strike="noStrike">
                <a:solidFill>
                  <a:srgbClr val="e5e5ff"/>
                </a:solidFill>
                <a:latin typeface="Garamond"/>
              </a:rPr>
              <a:t>CI 52A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Times New Roman"/>
              </a:rPr>
              <a:t>Maquinarias para Movimento de Tierra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Times New Roman"/>
              </a:rPr>
              <a:t>Excavación y Transporte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TRANSPORTE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611280" y="1636560"/>
            <a:ext cx="9001080" cy="5720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railla.wmv" descr=""/>
          <p:cNvPicPr/>
          <p:nvPr/>
        </p:nvPicPr>
        <p:blipFill>
          <a:blip r:embed="rId1"/>
          <a:stretch/>
        </p:blipFill>
        <p:spPr>
          <a:xfrm>
            <a:off x="3516480" y="2637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TRAÍLL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Picture 3" descr="Scraper%20in%20camp"/>
          <p:cNvPicPr/>
          <p:nvPr/>
        </p:nvPicPr>
        <p:blipFill>
          <a:blip r:embed="rId1"/>
          <a:srcRect l="0" t="26770" r="757" b="22849"/>
          <a:stretch/>
        </p:blipFill>
        <p:spPr>
          <a:xfrm>
            <a:off x="1655640" y="1547640"/>
            <a:ext cx="6840720" cy="2605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scraper"/>
          <p:cNvPicPr/>
          <p:nvPr/>
        </p:nvPicPr>
        <p:blipFill>
          <a:blip r:embed="rId2"/>
          <a:stretch/>
        </p:blipFill>
        <p:spPr>
          <a:xfrm>
            <a:off x="5327640" y="4356000"/>
            <a:ext cx="4392720" cy="2857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scraper"/>
          <p:cNvPicPr/>
          <p:nvPr/>
        </p:nvPicPr>
        <p:blipFill>
          <a:blip r:embed="rId3"/>
          <a:srcRect l="11018" t="7468" r="11018" b="29515"/>
          <a:stretch/>
        </p:blipFill>
        <p:spPr>
          <a:xfrm>
            <a:off x="287280" y="4356000"/>
            <a:ext cx="475308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TRAÍLL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4720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51360" indent="-351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Garamond"/>
              </a:rPr>
              <a:t>Descripción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761400" indent="-29340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Autopropulsados, empujados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761400" indent="-29340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Se cargan, transportan y botan la carga solos, no dependen de otros equipos (si fallan no paralizan la obra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761400" indent="-29340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Son menos eficientes que cada uno de los equipos específicos de carguío o transporte. Son eficientes en </a:t>
            </a: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situaciones especiales, transporte entre 150 y 1000m de transporte fuera de carretera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761400" indent="-29340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Capacidad de aprox. 10 a 60</a:t>
            </a: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 Ton, 8 a 40 m3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TRAÍLL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574020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Garamond"/>
              </a:rPr>
              <a:t>Tipo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Convencional (empujado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Garamond"/>
              </a:rPr>
              <a:t>Simple (con tractor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Garamond"/>
              </a:rPr>
              <a:t>En tándem (</a:t>
            </a: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dos motores o dos traíllas enganchadas</a:t>
            </a:r>
            <a:r>
              <a:rPr b="0" lang="en-GB" sz="26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Autocarga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Garamond"/>
              </a:rPr>
              <a:t>En tándem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Garamond"/>
              </a:rPr>
              <a:t>Elevantes (sistema de carga propio = peso muerto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Garamond"/>
              </a:rPr>
              <a:t>De taladro o tornillo (similar al elevante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4" descr="Miskin%20Elevator"/>
          <p:cNvPicPr/>
          <p:nvPr/>
        </p:nvPicPr>
        <p:blipFill>
          <a:blip r:embed="rId1"/>
          <a:stretch/>
        </p:blipFill>
        <p:spPr>
          <a:xfrm>
            <a:off x="6553080" y="5364000"/>
            <a:ext cx="3168720" cy="1592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lliam Wragg</cp:lastModifiedBy>
  <dcterms:modified xsi:type="dcterms:W3CDTF">2009-05-26T14:51:12Z</dcterms:modified>
  <cp:revision>15</cp:revision>
  <dc:subject/>
  <dc:title>CI 52A</dc:title>
</cp:coreProperties>
</file>