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311120" y="1026720"/>
            <a:ext cx="49341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4402080" y="9553680"/>
            <a:ext cx="33688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4FD1C-ABFE-4078-847A-8904C965D9CF}" type="slidenum">
              <a:rPr b="0" lang="es-ES" sz="18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FB8A3-525F-4739-B0DD-0EB19446C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7857C-0A22-438B-8F96-0003A414F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8BD45-7514-46FE-81C6-F86878E78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F1B3C-286F-42B6-B3A9-234E275EF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10FDB-9B4D-479C-A0E9-A08F9B7E4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DAC9E-A283-4036-A9CA-0990009A3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846FB-D36A-4C86-993E-50B96071E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9AC6D-1131-4BE5-9458-7C783B479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D0C0A-BDED-4401-B034-292F8AE4E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676E1-BE87-429F-8280-137465DFB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8C67B-1206-4AFB-9D3C-1E4EB7A83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D5B31-0AB1-4558-8E04-BDF403123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C19CF-07C1-437E-BA07-B80C31DD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E1431-8E00-4D25-8C84-388AA85C8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C5A33-1A1A-46DF-823A-675774CF2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36A27-8439-4C39-B99A-58F992BED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FD14E-857C-4ADF-A152-D84D34E2D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73A63-347B-4A6F-A815-24B643ED6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BCE7D-71D6-477A-BB49-B3CF60E6A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CD205-75B0-4B0D-8775-10392BED0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20176-8F92-4380-8154-C642E3FCA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333B8-DED5-4F16-A46F-D3476539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67370-FA74-4AFA-97E7-A70E12650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011D3-AE81-4A5E-A14B-1C34DFC16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51160" cy="525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480" y="688788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9D7C7-B21F-4938-ACB9-C5BEA8A17B7E}" type="slidenum">
              <a:rPr b="0" lang="es-E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10077120" cy="7549560"/>
            <a:chOff x="0" y="0"/>
            <a:chExt cx="10077120" cy="7549560"/>
          </a:xfrm>
        </p:grpSpPr>
        <p:grpSp>
          <p:nvGrpSpPr>
            <p:cNvPr id="3" name="Group 5"/>
            <p:cNvGrpSpPr/>
            <p:nvPr/>
          </p:nvGrpSpPr>
          <p:grpSpPr>
            <a:xfrm>
              <a:off x="3024000" y="3902040"/>
              <a:ext cx="7047360" cy="3647520"/>
              <a:chOff x="3024000" y="3902040"/>
              <a:chExt cx="7047360" cy="3647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3024000" y="4626000"/>
                <a:ext cx="5047200" cy="292356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7297920" y="4673160"/>
                <a:ext cx="2211480" cy="14191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5074920" y="5854320"/>
                <a:ext cx="4985640" cy="169524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808880" y="3902040"/>
                <a:ext cx="5262480" cy="364752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876800" y="4053960"/>
                <a:ext cx="2183760" cy="94284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814000" y="2346120"/>
              <a:ext cx="3193920" cy="268920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10077120" cy="3107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840" y="688788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2" marL="1260360" indent="-252360"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3" marL="1763640" indent="-25236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4" marL="2268360" indent="-25236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5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6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10077120" cy="7549560"/>
            <a:chOff x="0" y="0"/>
            <a:chExt cx="10077120" cy="7549560"/>
          </a:xfrm>
        </p:grpSpPr>
        <p:grpSp>
          <p:nvGrpSpPr>
            <p:cNvPr id="51" name="Group 3"/>
            <p:cNvGrpSpPr/>
            <p:nvPr/>
          </p:nvGrpSpPr>
          <p:grpSpPr>
            <a:xfrm>
              <a:off x="3024000" y="3902040"/>
              <a:ext cx="7047360" cy="3647520"/>
              <a:chOff x="3024000" y="3902040"/>
              <a:chExt cx="7047360" cy="364752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3024000" y="4626000"/>
                <a:ext cx="5047200" cy="292356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7297920" y="4673160"/>
                <a:ext cx="2211480" cy="14191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5074920" y="5854320"/>
                <a:ext cx="4985640" cy="169524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808880" y="3902040"/>
                <a:ext cx="5262480" cy="364752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876800" y="4053960"/>
                <a:ext cx="2183760" cy="94284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814000" y="2346120"/>
              <a:ext cx="3193920" cy="268920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10077120" cy="3107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2" marL="1260360" indent="-252360"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3" marL="1763640" indent="-25236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4" marL="2268360" indent="-25236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5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6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444840" y="6891120"/>
            <a:ext cx="3191040" cy="525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224480" y="6894360"/>
            <a:ext cx="23526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7011D-3A11-4019-8D02-35E13CD73879}" type="slidenum">
              <a:rPr b="0" lang="es-E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1" lang="en-GB" sz="6600" spc="-1" strike="noStrike">
                <a:solidFill>
                  <a:srgbClr val="e5e5ff"/>
                </a:solidFill>
                <a:latin typeface="Garamond"/>
              </a:rPr>
              <a:t>CI 52A</a:t>
            </a: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Times New Roman"/>
              </a:rPr>
              <a:t>Maquinarias para Movimento de Tierras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Times New Roman"/>
              </a:rPr>
              <a:t>Excavación y Transporte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4900" spc="-1" strike="noStrike">
                <a:solidFill>
                  <a:srgbClr val="e5e5ff"/>
                </a:solidFill>
                <a:latin typeface="Garamond"/>
              </a:rPr>
              <a:t>TRANSPORTE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611280" y="1636560"/>
            <a:ext cx="9001080" cy="5720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Trailla.wmv" descr=""/>
          <p:cNvPicPr/>
          <p:nvPr/>
        </p:nvPicPr>
        <p:blipFill>
          <a:blip r:embed="rId1"/>
          <a:stretch/>
        </p:blipFill>
        <p:spPr>
          <a:xfrm>
            <a:off x="3516480" y="263700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TRAÍLLA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9" name="Picture 3" descr="Scraper%20in%20camp"/>
          <p:cNvPicPr/>
          <p:nvPr/>
        </p:nvPicPr>
        <p:blipFill>
          <a:blip r:embed="rId1"/>
          <a:srcRect l="0" t="26770" r="757" b="22849"/>
          <a:stretch/>
        </p:blipFill>
        <p:spPr>
          <a:xfrm>
            <a:off x="1655640" y="1547640"/>
            <a:ext cx="6840720" cy="2605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scraper"/>
          <p:cNvPicPr/>
          <p:nvPr/>
        </p:nvPicPr>
        <p:blipFill>
          <a:blip r:embed="rId2"/>
          <a:stretch/>
        </p:blipFill>
        <p:spPr>
          <a:xfrm>
            <a:off x="5327640" y="4356000"/>
            <a:ext cx="4392720" cy="2857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scraper"/>
          <p:cNvPicPr/>
          <p:nvPr/>
        </p:nvPicPr>
        <p:blipFill>
          <a:blip r:embed="rId3"/>
          <a:srcRect l="11018" t="7468" r="11018" b="29515"/>
          <a:stretch/>
        </p:blipFill>
        <p:spPr>
          <a:xfrm>
            <a:off x="287280" y="4356000"/>
            <a:ext cx="4753080" cy="28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TRAÍLLA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864720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51360" indent="-35136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Garamond"/>
              </a:rPr>
              <a:t>Descripción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761400" indent="-29340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Garamond"/>
              </a:rPr>
              <a:t>Autopropulsados, empujados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761400" indent="-29340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Garamond"/>
              </a:rPr>
              <a:t>Se cargan, transportan y botan la carga solos, no dependen de otros equipos (si fallan no paralizan la obra)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761400" indent="-29340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Garamond"/>
              </a:rPr>
              <a:t>Son menos eficientes que cada uno de los equipos específicos de carguío o transporte. Son eficientes en </a:t>
            </a:r>
            <a:r>
              <a:rPr b="0" lang="es-CL" sz="3100" spc="-1" strike="noStrike">
                <a:solidFill>
                  <a:srgbClr val="ffffff"/>
                </a:solidFill>
                <a:latin typeface="Garamond"/>
              </a:rPr>
              <a:t>situaciones especiales, transporte entre 150 y 1000m de transporte fuera de carretera.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761400" indent="-29340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100" spc="-1" strike="noStrike">
                <a:solidFill>
                  <a:srgbClr val="ffffff"/>
                </a:solidFill>
                <a:latin typeface="Garamond"/>
              </a:rPr>
              <a:t>Capacidad de aprox. 10 a 60</a:t>
            </a:r>
            <a:r>
              <a:rPr b="0" lang="en-GB" sz="3100" spc="-1" strike="noStrike">
                <a:solidFill>
                  <a:srgbClr val="ffffff"/>
                </a:solidFill>
                <a:latin typeface="Garamond"/>
              </a:rPr>
              <a:t> Ton, 8 a 40 m3.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TRAÍLLA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574020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Garamond"/>
              </a:rPr>
              <a:t>Tipos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Garamond"/>
              </a:rPr>
              <a:t>Convencional (empujado)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2" marL="1260360" indent="-25236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Garamond"/>
              </a:rPr>
              <a:t>Simple (con tractor)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260360" indent="-25236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Garamond"/>
              </a:rPr>
              <a:t>En tándem (</a:t>
            </a:r>
            <a:r>
              <a:rPr b="0" lang="es-CL" sz="2600" spc="-1" strike="noStrike">
                <a:solidFill>
                  <a:srgbClr val="ffffff"/>
                </a:solidFill>
                <a:latin typeface="Garamond"/>
              </a:rPr>
              <a:t>dos motores o dos traíllas enganchadas</a:t>
            </a:r>
            <a:r>
              <a:rPr b="0" lang="en-GB" sz="26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Garamond"/>
              </a:rPr>
              <a:t>Autocarga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2" marL="1260360" indent="-25236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Garamond"/>
              </a:rPr>
              <a:t>En tándem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260360" indent="-25236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Garamond"/>
              </a:rPr>
              <a:t>Elevantes (sistema de carga propio = peso muerto)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260360" indent="-25236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Garamond"/>
              </a:rPr>
              <a:t>De taladro o tornillo (similar al elevante)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4" descr="Miskin%20Elevator"/>
          <p:cNvPicPr/>
          <p:nvPr/>
        </p:nvPicPr>
        <p:blipFill>
          <a:blip r:embed="rId1"/>
          <a:stretch/>
        </p:blipFill>
        <p:spPr>
          <a:xfrm>
            <a:off x="6553080" y="5364000"/>
            <a:ext cx="3168720" cy="1592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lliam Wragg</cp:lastModifiedBy>
  <dcterms:modified xsi:type="dcterms:W3CDTF">2009-05-26T14:51:12Z</dcterms:modified>
  <cp:revision>15</cp:revision>
  <dc:subject/>
  <dc:title>CI 52A</dc:title>
</cp:coreProperties>
</file>