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11120" y="1026720"/>
            <a:ext cx="49341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4402080" y="9553680"/>
            <a:ext cx="336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690D-9D19-4C4D-B533-AB43FDB987D8}" type="slidenum">
              <a:rPr b="0" lang="es-ES" sz="18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11120" y="102708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09F2D-20B1-42B3-9CDA-5DAB8D14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237D-E7AC-4990-8D04-EA5FA9CB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90D7A-3ED9-49A2-BA0B-6581E7E1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DAD28-3D83-44B7-B9EB-056035E2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CD2D-5BA3-4469-BB3F-25D19D1C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FAA8-F8C5-4468-8D80-D8A8BD0C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A618-BCC1-4F81-AB34-9172C57B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F00A-3E36-45A6-A191-77056B06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8477-49C9-4B7B-9B5A-E3A81449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310F-B4FF-4E42-A0BD-0B4DB41A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A308-32FB-479A-A2D5-85F924FE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B1D17-FF07-4310-BCD4-A6FE9FC6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B5DB-B6FA-4CEB-BCC7-A1B37086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5562-1904-4188-B597-2E9197D6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A652-6B3E-41EF-B287-AF95E4CA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028E-FE11-425E-A3FF-7CAE54B6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6B18-DDD8-4EE6-9E8F-81C74C9B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D2577-D43C-464D-BA58-BC6429C6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BB3B1-E71C-4721-BAE9-17A7B65A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5A98B-3800-4740-A973-CF8D1912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366D4-3334-44D2-A226-1C3C43BC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C7774-3540-44AB-B576-CE143138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F72B9-D61A-4854-B1D0-F4DF0C9E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05A3B-AAF9-42F7-922C-0A17AC1A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BC25-41EC-410D-A6B7-4057EBCC5056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1148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11480" cy="14191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EDC0-A014-4B7E-B48F-73102A63981A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6600" spc="-1" strike="noStrike">
                <a:solidFill>
                  <a:srgbClr val="e5e5ff"/>
                </a:solidFill>
                <a:latin typeface="Garamond"/>
              </a:rPr>
              <a:t>CI 52A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Maquinarias para Movim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Times New Roman"/>
              </a:rPr>
              <a:t>Excavación y Transport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900" spc="-1" strike="noStrike">
                <a:solidFill>
                  <a:srgbClr val="e5e5ff"/>
                </a:solidFill>
                <a:latin typeface="Garamond"/>
              </a:rPr>
              <a:t>TRANSPORT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11280" y="1636560"/>
            <a:ext cx="9001080" cy="572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railla.wmv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3" descr="Scraper%20in%20camp"/>
          <p:cNvPicPr/>
          <p:nvPr/>
        </p:nvPicPr>
        <p:blipFill>
          <a:blip r:embed="rId1"/>
          <a:srcRect l="0" t="26770" r="757" b="22849"/>
          <a:stretch/>
        </p:blipFill>
        <p:spPr>
          <a:xfrm>
            <a:off x="1655640" y="1547640"/>
            <a:ext cx="6840720" cy="2605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scraper"/>
          <p:cNvPicPr/>
          <p:nvPr/>
        </p:nvPicPr>
        <p:blipFill>
          <a:blip r:embed="rId2"/>
          <a:stretch/>
        </p:blipFill>
        <p:spPr>
          <a:xfrm>
            <a:off x="5327640" y="4356000"/>
            <a:ext cx="4392720" cy="2857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scraper"/>
          <p:cNvPicPr/>
          <p:nvPr/>
        </p:nvPicPr>
        <p:blipFill>
          <a:blip r:embed="rId3"/>
          <a:srcRect l="11018" t="7468" r="11018" b="29515"/>
          <a:stretch/>
        </p:blipFill>
        <p:spPr>
          <a:xfrm>
            <a:off x="287280" y="4356000"/>
            <a:ext cx="47530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86472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1360" indent="-351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Descrip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Autopropulsados, empujados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Se cargan, transportan y botan la carga solos, no dependen de otros equipos (si fallan no paralizan la obra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Son menos eficientes que cada uno de los equipos específicos de carguío o transporte. Son eficientes en </a:t>
            </a: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situaciones especiales, transporte entre 150 y 1000m de transporte fuera de carretera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761400" indent="-29340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Capacidad de aprox. 10 a 60</a:t>
            </a: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 Ton, 8 a 40 m3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TRAÍLL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57402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Tip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Convencional (empujado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Simple (con tractor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n tándem (</a:t>
            </a: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dos motores o dos traíllas enganchadas</a:t>
            </a: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Garamond"/>
              </a:rPr>
              <a:t>Autocarga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n tándem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Elevantes (sistema de carga propio = peso muerto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Garamond"/>
              </a:rPr>
              <a:t>De taladro o tornillo (similar al elevante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Miskin%20Elevator"/>
          <p:cNvPicPr/>
          <p:nvPr/>
        </p:nvPicPr>
        <p:blipFill>
          <a:blip r:embed="rId1"/>
          <a:stretch/>
        </p:blipFill>
        <p:spPr>
          <a:xfrm>
            <a:off x="6553080" y="5364000"/>
            <a:ext cx="3168720" cy="159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 Wragg</cp:lastModifiedBy>
  <dcterms:modified xsi:type="dcterms:W3CDTF">2009-05-26T14:51:12Z</dcterms:modified>
  <cp:revision>15</cp:revision>
  <dc:subject/>
  <dc:title>CI 52A</dc:title>
</cp:coreProperties>
</file>